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4.jpeg" ContentType="image/jpeg"/>
  <Override PartName="/ppt/media/image13.jpeg" ContentType="image/jpe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AndreRieu-Edelweiss.wav" ContentType="audio/x-wav"/>
  <Override PartName="/ppt/media/image12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A1F-2DA4-47A7-99BD-4E35FAFE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E97-81A1-4ECE-A3B8-A65D4079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59E-5D02-49C5-820D-D67374F2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48B-D605-4AF7-9331-0FA00754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A379-2437-46DE-96AA-715DBA39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F127-46DD-42F2-9942-66478050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C721-1B34-4DEC-A88D-093A6CB7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1661-7460-4C44-A12E-62467108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863B-1CA8-42A9-9A00-EC6AE27D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7EF6-2CBF-48C3-9186-E624CCC1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098D-7E69-40AC-9864-95F4D3D6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F2A-36AD-4C05-8E45-11F058CA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9833-EE56-476D-8AA0-D49FB03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1235-9F26-409C-B677-0250F52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2C6A-368D-4ACC-84AE-99F7C3DD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25AF-B25C-4790-81FC-F728E1FE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6007-0BA2-4931-9951-0F9A9841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9E523-8E77-420E-873A-3283EC7D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ADAD1-452C-45B5-BD8A-E4023F5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B642E-9866-485B-905C-25E15853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12E53-D601-4A05-A3DE-1A895838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B18EC-8D0B-49D9-B7CA-2B724048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EFF-FF2D-4EC0-A24F-DEA92AB7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A2AD0-0AD1-4CFF-A004-E3A2866F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3A91C-41B4-40BF-8959-3E0DADA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2E020-D7F4-4867-AA0D-64F34636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7BA3A-34B2-4296-8714-35331CAA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677F5-4994-429C-91AC-83C3C554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A7559-EECE-44F0-A1A4-57935F11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FA36E-19D8-4C9E-9DD0-4B212BAE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20A-DD05-4B58-B3AA-E5F23243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731-A206-486C-8F8C-439C876D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517-2D1C-405C-A7AD-D6E57A3D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2B4-DB17-433D-8371-CA5ED35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9BE-ED2D-479C-AD2E-29C44EA6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4F3-2805-4E93-9BAC-CE4F93F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3551-FBF4-43A2-87BC-65F28F314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37AB-0EFC-494B-B28E-60261E9374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B31B-7DD8-4492-A2C2-DDD9089F2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Rieu-Edelweis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36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111400">
            <a:off x="3428280" y="46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2362320"/>
            <a:ext cx="845820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08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e3ff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MUNŢII  CARPAŢI</a:t>
            </a:r>
            <a:endParaRPr b="0" lang="en-US" sz="1800" spc="1" strike="noStrike">
              <a:ln w="9360">
                <a:solidFill>
                  <a:srgbClr val="e3e3ff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162920" y="537228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276360" cy="2614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3124080" y="3809880"/>
            <a:ext cx="38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716292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143000" y="1474920"/>
            <a:ext cx="3200400" cy="2968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276720" y="4114800"/>
            <a:ext cx="43718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latin typeface="Impact"/>
              </a:rPr>
              <a:t>MAI  ÎNCEARCĂ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7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73915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990720"/>
            <a:ext cx="81532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Întind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de la hotarul de  nord, până la Valea Prahov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p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ordică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– M-ţii  Gutâi, M-ţii Maramureşului, M-ţii Rodne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centrală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– M-ţii Căliman, M-ţii Bistriţei, M-ţii Gurghiului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-ţii Harghitei, M-ţiiCeahlău, M-ţii Hăşmaşul Ma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dică sau a curburi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– M-ţii Vrancei, M-ţiiBuzăului, M-ţii Ciuca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ecători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pasuri):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slop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caz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tuz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Bogăţii: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duri, păşuni, cărbune, metale, piatră de construcţi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pe mine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Obiective turistice: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Lacul Sf. Ana, Lacul Roşu, Cheile Bicazului, Vulcanii noroioşi, Parcul Naţional Hăşmaş, Rezrvaţia de zimb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2800" y="810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99ff"/>
                </a:solidFill>
                <a:latin typeface="Arial"/>
              </a:rPr>
              <a:t>Carpaţii Ori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657600" y="762120"/>
            <a:ext cx="3240000" cy="1144440"/>
          </a:xfrm>
          <a:custGeom>
            <a:avLst/>
            <a:gdLst/>
            <a:ahLst/>
            <a:rect l="l" t="t" r="r" b="b"/>
            <a:pathLst>
              <a:path w="2041" h="721">
                <a:moveTo>
                  <a:pt x="299" y="78"/>
                </a:moveTo>
                <a:cubicBezTo>
                  <a:pt x="278" y="48"/>
                  <a:pt x="229" y="15"/>
                  <a:pt x="192" y="3"/>
                </a:cubicBezTo>
                <a:cubicBezTo>
                  <a:pt x="93" y="7"/>
                  <a:pt x="98" y="0"/>
                  <a:pt x="38" y="19"/>
                </a:cubicBezTo>
                <a:cubicBezTo>
                  <a:pt x="22" y="35"/>
                  <a:pt x="13" y="46"/>
                  <a:pt x="6" y="67"/>
                </a:cubicBezTo>
                <a:cubicBezTo>
                  <a:pt x="11" y="146"/>
                  <a:pt x="0" y="181"/>
                  <a:pt x="80" y="200"/>
                </a:cubicBezTo>
                <a:cubicBezTo>
                  <a:pt x="102" y="232"/>
                  <a:pt x="139" y="237"/>
                  <a:pt x="171" y="254"/>
                </a:cubicBezTo>
                <a:cubicBezTo>
                  <a:pt x="189" y="263"/>
                  <a:pt x="220" y="276"/>
                  <a:pt x="235" y="291"/>
                </a:cubicBezTo>
                <a:cubicBezTo>
                  <a:pt x="255" y="311"/>
                  <a:pt x="249" y="323"/>
                  <a:pt x="283" y="334"/>
                </a:cubicBezTo>
                <a:cubicBezTo>
                  <a:pt x="339" y="352"/>
                  <a:pt x="389" y="356"/>
                  <a:pt x="448" y="360"/>
                </a:cubicBezTo>
                <a:cubicBezTo>
                  <a:pt x="471" y="369"/>
                  <a:pt x="475" y="382"/>
                  <a:pt x="491" y="398"/>
                </a:cubicBezTo>
                <a:cubicBezTo>
                  <a:pt x="533" y="439"/>
                  <a:pt x="479" y="372"/>
                  <a:pt x="523" y="424"/>
                </a:cubicBezTo>
                <a:cubicBezTo>
                  <a:pt x="535" y="438"/>
                  <a:pt x="546" y="460"/>
                  <a:pt x="560" y="472"/>
                </a:cubicBezTo>
                <a:cubicBezTo>
                  <a:pt x="573" y="484"/>
                  <a:pt x="587" y="496"/>
                  <a:pt x="603" y="504"/>
                </a:cubicBezTo>
                <a:cubicBezTo>
                  <a:pt x="610" y="508"/>
                  <a:pt x="618" y="510"/>
                  <a:pt x="624" y="515"/>
                </a:cubicBezTo>
                <a:cubicBezTo>
                  <a:pt x="657" y="539"/>
                  <a:pt x="623" y="526"/>
                  <a:pt x="656" y="536"/>
                </a:cubicBezTo>
                <a:cubicBezTo>
                  <a:pt x="674" y="549"/>
                  <a:pt x="688" y="571"/>
                  <a:pt x="710" y="574"/>
                </a:cubicBezTo>
                <a:cubicBezTo>
                  <a:pt x="738" y="577"/>
                  <a:pt x="764" y="579"/>
                  <a:pt x="790" y="590"/>
                </a:cubicBezTo>
                <a:cubicBezTo>
                  <a:pt x="823" y="604"/>
                  <a:pt x="852" y="622"/>
                  <a:pt x="880" y="643"/>
                </a:cubicBezTo>
                <a:cubicBezTo>
                  <a:pt x="906" y="663"/>
                  <a:pt x="939" y="672"/>
                  <a:pt x="966" y="691"/>
                </a:cubicBezTo>
                <a:cubicBezTo>
                  <a:pt x="1053" y="688"/>
                  <a:pt x="1170" y="675"/>
                  <a:pt x="1259" y="696"/>
                </a:cubicBezTo>
                <a:cubicBezTo>
                  <a:pt x="1437" y="693"/>
                  <a:pt x="1475" y="721"/>
                  <a:pt x="1584" y="680"/>
                </a:cubicBezTo>
                <a:cubicBezTo>
                  <a:pt x="1639" y="682"/>
                  <a:pt x="1695" y="679"/>
                  <a:pt x="1750" y="686"/>
                </a:cubicBezTo>
                <a:cubicBezTo>
                  <a:pt x="1756" y="687"/>
                  <a:pt x="1751" y="698"/>
                  <a:pt x="1755" y="702"/>
                </a:cubicBezTo>
                <a:cubicBezTo>
                  <a:pt x="1759" y="706"/>
                  <a:pt x="1766" y="705"/>
                  <a:pt x="1771" y="707"/>
                </a:cubicBezTo>
                <a:cubicBezTo>
                  <a:pt x="1885" y="703"/>
                  <a:pt x="1897" y="708"/>
                  <a:pt x="1974" y="691"/>
                </a:cubicBezTo>
                <a:cubicBezTo>
                  <a:pt x="2017" y="662"/>
                  <a:pt x="2041" y="702"/>
                  <a:pt x="2016" y="616"/>
                </a:cubicBezTo>
                <a:cubicBezTo>
                  <a:pt x="2006" y="583"/>
                  <a:pt x="1981" y="579"/>
                  <a:pt x="1963" y="552"/>
                </a:cubicBezTo>
                <a:cubicBezTo>
                  <a:pt x="1956" y="541"/>
                  <a:pt x="1949" y="531"/>
                  <a:pt x="1942" y="520"/>
                </a:cubicBezTo>
                <a:cubicBezTo>
                  <a:pt x="1938" y="515"/>
                  <a:pt x="1931" y="504"/>
                  <a:pt x="1931" y="504"/>
                </a:cubicBezTo>
                <a:cubicBezTo>
                  <a:pt x="1925" y="485"/>
                  <a:pt x="1885" y="448"/>
                  <a:pt x="1867" y="435"/>
                </a:cubicBezTo>
                <a:cubicBezTo>
                  <a:pt x="1856" y="419"/>
                  <a:pt x="1851" y="403"/>
                  <a:pt x="1840" y="387"/>
                </a:cubicBezTo>
                <a:cubicBezTo>
                  <a:pt x="1825" y="340"/>
                  <a:pt x="1816" y="288"/>
                  <a:pt x="1787" y="248"/>
                </a:cubicBezTo>
                <a:cubicBezTo>
                  <a:pt x="1775" y="208"/>
                  <a:pt x="1752" y="175"/>
                  <a:pt x="1718" y="152"/>
                </a:cubicBezTo>
                <a:cubicBezTo>
                  <a:pt x="1686" y="106"/>
                  <a:pt x="1728" y="160"/>
                  <a:pt x="1691" y="131"/>
                </a:cubicBezTo>
                <a:cubicBezTo>
                  <a:pt x="1686" y="127"/>
                  <a:pt x="1685" y="120"/>
                  <a:pt x="1680" y="115"/>
                </a:cubicBezTo>
                <a:cubicBezTo>
                  <a:pt x="1675" y="110"/>
                  <a:pt x="1669" y="108"/>
                  <a:pt x="1664" y="104"/>
                </a:cubicBezTo>
                <a:cubicBezTo>
                  <a:pt x="1629" y="48"/>
                  <a:pt x="1514" y="88"/>
                  <a:pt x="1456" y="110"/>
                </a:cubicBezTo>
                <a:cubicBezTo>
                  <a:pt x="1441" y="125"/>
                  <a:pt x="1419" y="157"/>
                  <a:pt x="1398" y="163"/>
                </a:cubicBezTo>
                <a:cubicBezTo>
                  <a:pt x="1372" y="189"/>
                  <a:pt x="1346" y="184"/>
                  <a:pt x="1312" y="195"/>
                </a:cubicBezTo>
                <a:cubicBezTo>
                  <a:pt x="1298" y="205"/>
                  <a:pt x="1264" y="216"/>
                  <a:pt x="1264" y="216"/>
                </a:cubicBezTo>
                <a:cubicBezTo>
                  <a:pt x="1250" y="230"/>
                  <a:pt x="1246" y="231"/>
                  <a:pt x="1238" y="248"/>
                </a:cubicBezTo>
                <a:cubicBezTo>
                  <a:pt x="1235" y="253"/>
                  <a:pt x="1236" y="260"/>
                  <a:pt x="1232" y="264"/>
                </a:cubicBezTo>
                <a:cubicBezTo>
                  <a:pt x="1224" y="272"/>
                  <a:pt x="1210" y="274"/>
                  <a:pt x="1200" y="280"/>
                </a:cubicBezTo>
                <a:cubicBezTo>
                  <a:pt x="1176" y="272"/>
                  <a:pt x="1164" y="247"/>
                  <a:pt x="1142" y="232"/>
                </a:cubicBezTo>
                <a:cubicBezTo>
                  <a:pt x="1110" y="186"/>
                  <a:pt x="1152" y="240"/>
                  <a:pt x="1115" y="211"/>
                </a:cubicBezTo>
                <a:cubicBezTo>
                  <a:pt x="1104" y="202"/>
                  <a:pt x="1097" y="190"/>
                  <a:pt x="1088" y="179"/>
                </a:cubicBezTo>
                <a:cubicBezTo>
                  <a:pt x="1059" y="143"/>
                  <a:pt x="1028" y="97"/>
                  <a:pt x="982" y="83"/>
                </a:cubicBezTo>
                <a:cubicBezTo>
                  <a:pt x="946" y="85"/>
                  <a:pt x="911" y="85"/>
                  <a:pt x="875" y="88"/>
                </a:cubicBezTo>
                <a:cubicBezTo>
                  <a:pt x="860" y="89"/>
                  <a:pt x="847" y="103"/>
                  <a:pt x="832" y="104"/>
                </a:cubicBezTo>
                <a:cubicBezTo>
                  <a:pt x="757" y="109"/>
                  <a:pt x="683" y="108"/>
                  <a:pt x="608" y="110"/>
                </a:cubicBezTo>
                <a:cubicBezTo>
                  <a:pt x="562" y="124"/>
                  <a:pt x="487" y="115"/>
                  <a:pt x="624" y="126"/>
                </a:cubicBezTo>
                <a:cubicBezTo>
                  <a:pt x="667" y="139"/>
                  <a:pt x="690" y="181"/>
                  <a:pt x="726" y="206"/>
                </a:cubicBezTo>
                <a:cubicBezTo>
                  <a:pt x="743" y="233"/>
                  <a:pt x="730" y="218"/>
                  <a:pt x="768" y="243"/>
                </a:cubicBezTo>
                <a:cubicBezTo>
                  <a:pt x="773" y="247"/>
                  <a:pt x="784" y="254"/>
                  <a:pt x="784" y="254"/>
                </a:cubicBezTo>
                <a:cubicBezTo>
                  <a:pt x="777" y="358"/>
                  <a:pt x="785" y="336"/>
                  <a:pt x="678" y="328"/>
                </a:cubicBezTo>
                <a:cubicBezTo>
                  <a:pt x="660" y="317"/>
                  <a:pt x="644" y="308"/>
                  <a:pt x="624" y="302"/>
                </a:cubicBezTo>
                <a:cubicBezTo>
                  <a:pt x="605" y="271"/>
                  <a:pt x="574" y="278"/>
                  <a:pt x="539" y="275"/>
                </a:cubicBezTo>
                <a:cubicBezTo>
                  <a:pt x="521" y="262"/>
                  <a:pt x="509" y="250"/>
                  <a:pt x="496" y="232"/>
                </a:cubicBezTo>
                <a:cubicBezTo>
                  <a:pt x="493" y="190"/>
                  <a:pt x="503" y="163"/>
                  <a:pt x="470" y="142"/>
                </a:cubicBezTo>
                <a:cubicBezTo>
                  <a:pt x="439" y="96"/>
                  <a:pt x="480" y="150"/>
                  <a:pt x="443" y="120"/>
                </a:cubicBezTo>
                <a:cubicBezTo>
                  <a:pt x="438" y="116"/>
                  <a:pt x="437" y="108"/>
                  <a:pt x="432" y="104"/>
                </a:cubicBezTo>
                <a:cubicBezTo>
                  <a:pt x="416" y="88"/>
                  <a:pt x="396" y="91"/>
                  <a:pt x="374" y="88"/>
                </a:cubicBezTo>
                <a:cubicBezTo>
                  <a:pt x="344" y="69"/>
                  <a:pt x="311" y="77"/>
                  <a:pt x="278" y="67"/>
                </a:cubicBezTo>
                <a:cubicBezTo>
                  <a:pt x="267" y="51"/>
                  <a:pt x="260" y="40"/>
                  <a:pt x="240" y="40"/>
                </a:cubicBezTo>
              </a:path>
            </a:pathLst>
          </a:custGeom>
          <a:solidFill>
            <a:srgbClr val="bbe0e3"/>
          </a:solidFill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rupa Nordic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1905120"/>
            <a:ext cx="2185920" cy="2116080"/>
          </a:xfrm>
          <a:custGeom>
            <a:avLst/>
            <a:gdLst/>
            <a:ahLst/>
            <a:rect l="l" t="t" r="r" b="b"/>
            <a:pathLst>
              <a:path w="1377" h="1333">
                <a:moveTo>
                  <a:pt x="0" y="33"/>
                </a:moveTo>
                <a:cubicBezTo>
                  <a:pt x="41" y="28"/>
                  <a:pt x="51" y="21"/>
                  <a:pt x="85" y="11"/>
                </a:cubicBezTo>
                <a:cubicBezTo>
                  <a:pt x="285" y="24"/>
                  <a:pt x="282" y="21"/>
                  <a:pt x="581" y="17"/>
                </a:cubicBezTo>
                <a:cubicBezTo>
                  <a:pt x="868" y="25"/>
                  <a:pt x="697" y="0"/>
                  <a:pt x="821" y="59"/>
                </a:cubicBezTo>
                <a:cubicBezTo>
                  <a:pt x="883" y="53"/>
                  <a:pt x="862" y="52"/>
                  <a:pt x="906" y="38"/>
                </a:cubicBezTo>
                <a:cubicBezTo>
                  <a:pt x="938" y="40"/>
                  <a:pt x="970" y="41"/>
                  <a:pt x="1002" y="43"/>
                </a:cubicBezTo>
                <a:cubicBezTo>
                  <a:pt x="1076" y="48"/>
                  <a:pt x="1085" y="43"/>
                  <a:pt x="1050" y="54"/>
                </a:cubicBezTo>
                <a:cubicBezTo>
                  <a:pt x="1060" y="82"/>
                  <a:pt x="1080" y="76"/>
                  <a:pt x="1109" y="81"/>
                </a:cubicBezTo>
                <a:cubicBezTo>
                  <a:pt x="1119" y="112"/>
                  <a:pt x="1141" y="136"/>
                  <a:pt x="1152" y="166"/>
                </a:cubicBezTo>
                <a:cubicBezTo>
                  <a:pt x="1154" y="189"/>
                  <a:pt x="1153" y="212"/>
                  <a:pt x="1157" y="235"/>
                </a:cubicBezTo>
                <a:cubicBezTo>
                  <a:pt x="1158" y="241"/>
                  <a:pt x="1165" y="245"/>
                  <a:pt x="1168" y="251"/>
                </a:cubicBezTo>
                <a:cubicBezTo>
                  <a:pt x="1172" y="261"/>
                  <a:pt x="1175" y="272"/>
                  <a:pt x="1178" y="283"/>
                </a:cubicBezTo>
                <a:lnTo>
                  <a:pt x="1178" y="283"/>
                </a:lnTo>
                <a:cubicBezTo>
                  <a:pt x="1184" y="320"/>
                  <a:pt x="1190" y="358"/>
                  <a:pt x="1210" y="390"/>
                </a:cubicBezTo>
                <a:cubicBezTo>
                  <a:pt x="1224" y="436"/>
                  <a:pt x="1232" y="482"/>
                  <a:pt x="1258" y="523"/>
                </a:cubicBezTo>
                <a:cubicBezTo>
                  <a:pt x="1264" y="547"/>
                  <a:pt x="1271" y="570"/>
                  <a:pt x="1280" y="593"/>
                </a:cubicBezTo>
                <a:cubicBezTo>
                  <a:pt x="1283" y="641"/>
                  <a:pt x="1274" y="682"/>
                  <a:pt x="1301" y="721"/>
                </a:cubicBezTo>
                <a:cubicBezTo>
                  <a:pt x="1311" y="752"/>
                  <a:pt x="1309" y="795"/>
                  <a:pt x="1328" y="822"/>
                </a:cubicBezTo>
                <a:cubicBezTo>
                  <a:pt x="1340" y="839"/>
                  <a:pt x="1361" y="850"/>
                  <a:pt x="1376" y="865"/>
                </a:cubicBezTo>
                <a:cubicBezTo>
                  <a:pt x="1374" y="872"/>
                  <a:pt x="1377" y="884"/>
                  <a:pt x="1370" y="886"/>
                </a:cubicBezTo>
                <a:cubicBezTo>
                  <a:pt x="1364" y="888"/>
                  <a:pt x="1364" y="875"/>
                  <a:pt x="1360" y="870"/>
                </a:cubicBezTo>
                <a:cubicBezTo>
                  <a:pt x="1350" y="859"/>
                  <a:pt x="1340" y="847"/>
                  <a:pt x="1328" y="838"/>
                </a:cubicBezTo>
                <a:cubicBezTo>
                  <a:pt x="1284" y="807"/>
                  <a:pt x="1304" y="818"/>
                  <a:pt x="1269" y="801"/>
                </a:cubicBezTo>
                <a:cubicBezTo>
                  <a:pt x="1256" y="782"/>
                  <a:pt x="1248" y="781"/>
                  <a:pt x="1226" y="774"/>
                </a:cubicBezTo>
                <a:cubicBezTo>
                  <a:pt x="1205" y="776"/>
                  <a:pt x="1180" y="767"/>
                  <a:pt x="1162" y="779"/>
                </a:cubicBezTo>
                <a:cubicBezTo>
                  <a:pt x="1149" y="788"/>
                  <a:pt x="1199" y="773"/>
                  <a:pt x="1210" y="785"/>
                </a:cubicBezTo>
                <a:cubicBezTo>
                  <a:pt x="1227" y="804"/>
                  <a:pt x="1184" y="859"/>
                  <a:pt x="1184" y="859"/>
                </a:cubicBezTo>
                <a:cubicBezTo>
                  <a:pt x="1196" y="911"/>
                  <a:pt x="1178" y="865"/>
                  <a:pt x="1269" y="886"/>
                </a:cubicBezTo>
                <a:cubicBezTo>
                  <a:pt x="1272" y="887"/>
                  <a:pt x="1294" y="917"/>
                  <a:pt x="1312" y="923"/>
                </a:cubicBezTo>
                <a:cubicBezTo>
                  <a:pt x="1314" y="937"/>
                  <a:pt x="1317" y="952"/>
                  <a:pt x="1317" y="966"/>
                </a:cubicBezTo>
                <a:cubicBezTo>
                  <a:pt x="1317" y="989"/>
                  <a:pt x="1318" y="1013"/>
                  <a:pt x="1312" y="1035"/>
                </a:cubicBezTo>
                <a:cubicBezTo>
                  <a:pt x="1305" y="1061"/>
                  <a:pt x="1241" y="1067"/>
                  <a:pt x="1221" y="1073"/>
                </a:cubicBezTo>
                <a:cubicBezTo>
                  <a:pt x="1161" y="1113"/>
                  <a:pt x="1191" y="1112"/>
                  <a:pt x="1104" y="1121"/>
                </a:cubicBezTo>
                <a:cubicBezTo>
                  <a:pt x="1040" y="1109"/>
                  <a:pt x="1093" y="1127"/>
                  <a:pt x="1061" y="1099"/>
                </a:cubicBezTo>
                <a:cubicBezTo>
                  <a:pt x="1051" y="1091"/>
                  <a:pt x="1029" y="1078"/>
                  <a:pt x="1029" y="1078"/>
                </a:cubicBezTo>
                <a:cubicBezTo>
                  <a:pt x="991" y="1082"/>
                  <a:pt x="974" y="1076"/>
                  <a:pt x="954" y="1105"/>
                </a:cubicBezTo>
                <a:cubicBezTo>
                  <a:pt x="943" y="1141"/>
                  <a:pt x="935" y="1177"/>
                  <a:pt x="917" y="1211"/>
                </a:cubicBezTo>
                <a:cubicBezTo>
                  <a:pt x="914" y="1224"/>
                  <a:pt x="910" y="1254"/>
                  <a:pt x="901" y="1265"/>
                </a:cubicBezTo>
                <a:cubicBezTo>
                  <a:pt x="892" y="1277"/>
                  <a:pt x="869" y="1297"/>
                  <a:pt x="869" y="1297"/>
                </a:cubicBezTo>
                <a:cubicBezTo>
                  <a:pt x="861" y="1294"/>
                  <a:pt x="843" y="1288"/>
                  <a:pt x="837" y="1281"/>
                </a:cubicBezTo>
                <a:cubicBezTo>
                  <a:pt x="823" y="1263"/>
                  <a:pt x="830" y="1253"/>
                  <a:pt x="805" y="1243"/>
                </a:cubicBezTo>
                <a:cubicBezTo>
                  <a:pt x="788" y="1255"/>
                  <a:pt x="779" y="1269"/>
                  <a:pt x="762" y="1281"/>
                </a:cubicBezTo>
                <a:cubicBezTo>
                  <a:pt x="747" y="1329"/>
                  <a:pt x="764" y="1317"/>
                  <a:pt x="693" y="1323"/>
                </a:cubicBezTo>
                <a:cubicBezTo>
                  <a:pt x="667" y="1333"/>
                  <a:pt x="653" y="1326"/>
                  <a:pt x="634" y="1307"/>
                </a:cubicBezTo>
                <a:cubicBezTo>
                  <a:pt x="632" y="1218"/>
                  <a:pt x="675" y="977"/>
                  <a:pt x="613" y="1041"/>
                </a:cubicBezTo>
                <a:cubicBezTo>
                  <a:pt x="572" y="1083"/>
                  <a:pt x="612" y="1067"/>
                  <a:pt x="576" y="1078"/>
                </a:cubicBezTo>
                <a:cubicBezTo>
                  <a:pt x="557" y="1097"/>
                  <a:pt x="538" y="1102"/>
                  <a:pt x="512" y="1110"/>
                </a:cubicBezTo>
                <a:cubicBezTo>
                  <a:pt x="492" y="1108"/>
                  <a:pt x="472" y="1111"/>
                  <a:pt x="453" y="1105"/>
                </a:cubicBezTo>
                <a:cubicBezTo>
                  <a:pt x="436" y="1100"/>
                  <a:pt x="432" y="1057"/>
                  <a:pt x="432" y="1057"/>
                </a:cubicBezTo>
                <a:cubicBezTo>
                  <a:pt x="441" y="992"/>
                  <a:pt x="472" y="973"/>
                  <a:pt x="522" y="939"/>
                </a:cubicBezTo>
                <a:cubicBezTo>
                  <a:pt x="560" y="884"/>
                  <a:pt x="546" y="912"/>
                  <a:pt x="528" y="774"/>
                </a:cubicBezTo>
                <a:cubicBezTo>
                  <a:pt x="528" y="773"/>
                  <a:pt x="470" y="722"/>
                  <a:pt x="458" y="715"/>
                </a:cubicBezTo>
                <a:cubicBezTo>
                  <a:pt x="448" y="710"/>
                  <a:pt x="426" y="705"/>
                  <a:pt x="426" y="705"/>
                </a:cubicBezTo>
                <a:cubicBezTo>
                  <a:pt x="409" y="693"/>
                  <a:pt x="401" y="679"/>
                  <a:pt x="384" y="667"/>
                </a:cubicBezTo>
                <a:cubicBezTo>
                  <a:pt x="382" y="662"/>
                  <a:pt x="379" y="657"/>
                  <a:pt x="378" y="651"/>
                </a:cubicBezTo>
                <a:cubicBezTo>
                  <a:pt x="375" y="637"/>
                  <a:pt x="378" y="622"/>
                  <a:pt x="373" y="609"/>
                </a:cubicBezTo>
                <a:cubicBezTo>
                  <a:pt x="368" y="596"/>
                  <a:pt x="342" y="574"/>
                  <a:pt x="330" y="566"/>
                </a:cubicBezTo>
                <a:cubicBezTo>
                  <a:pt x="311" y="536"/>
                  <a:pt x="260" y="523"/>
                  <a:pt x="229" y="502"/>
                </a:cubicBezTo>
                <a:cubicBezTo>
                  <a:pt x="218" y="495"/>
                  <a:pt x="197" y="481"/>
                  <a:pt x="197" y="481"/>
                </a:cubicBezTo>
                <a:cubicBezTo>
                  <a:pt x="163" y="432"/>
                  <a:pt x="209" y="492"/>
                  <a:pt x="170" y="459"/>
                </a:cubicBezTo>
                <a:cubicBezTo>
                  <a:pt x="165" y="455"/>
                  <a:pt x="164" y="448"/>
                  <a:pt x="160" y="443"/>
                </a:cubicBezTo>
                <a:cubicBezTo>
                  <a:pt x="142" y="421"/>
                  <a:pt x="122" y="402"/>
                  <a:pt x="106" y="379"/>
                </a:cubicBezTo>
                <a:cubicBezTo>
                  <a:pt x="109" y="345"/>
                  <a:pt x="129" y="303"/>
                  <a:pt x="106" y="278"/>
                </a:cubicBezTo>
                <a:cubicBezTo>
                  <a:pt x="97" y="269"/>
                  <a:pt x="85" y="264"/>
                  <a:pt x="74" y="257"/>
                </a:cubicBezTo>
                <a:cubicBezTo>
                  <a:pt x="57" y="246"/>
                  <a:pt x="46" y="223"/>
                  <a:pt x="32" y="209"/>
                </a:cubicBezTo>
                <a:cubicBezTo>
                  <a:pt x="26" y="186"/>
                  <a:pt x="12" y="177"/>
                  <a:pt x="5" y="155"/>
                </a:cubicBezTo>
                <a:cubicBezTo>
                  <a:pt x="7" y="111"/>
                  <a:pt x="6" y="66"/>
                  <a:pt x="10" y="22"/>
                </a:cubicBezTo>
                <a:cubicBezTo>
                  <a:pt x="11" y="16"/>
                  <a:pt x="13" y="33"/>
                  <a:pt x="16" y="38"/>
                </a:cubicBezTo>
                <a:cubicBezTo>
                  <a:pt x="19" y="42"/>
                  <a:pt x="23" y="45"/>
                  <a:pt x="26" y="49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59440" y="3683160"/>
            <a:ext cx="339840" cy="461880"/>
          </a:xfrm>
          <a:custGeom>
            <a:avLst/>
            <a:gdLst/>
            <a:ahLst/>
            <a:rect l="l" t="t" r="r" b="b"/>
            <a:pathLst>
              <a:path w="214" h="291">
                <a:moveTo>
                  <a:pt x="102" y="0"/>
                </a:moveTo>
                <a:cubicBezTo>
                  <a:pt x="84" y="6"/>
                  <a:pt x="70" y="11"/>
                  <a:pt x="54" y="21"/>
                </a:cubicBezTo>
                <a:cubicBezTo>
                  <a:pt x="44" y="52"/>
                  <a:pt x="39" y="77"/>
                  <a:pt x="11" y="96"/>
                </a:cubicBezTo>
                <a:cubicBezTo>
                  <a:pt x="1" y="129"/>
                  <a:pt x="0" y="141"/>
                  <a:pt x="11" y="176"/>
                </a:cubicBezTo>
                <a:cubicBezTo>
                  <a:pt x="13" y="194"/>
                  <a:pt x="0" y="223"/>
                  <a:pt x="17" y="229"/>
                </a:cubicBezTo>
                <a:cubicBezTo>
                  <a:pt x="196" y="291"/>
                  <a:pt x="108" y="192"/>
                  <a:pt x="214" y="192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51400" y="3421080"/>
            <a:ext cx="1462320" cy="1511280"/>
          </a:xfrm>
          <a:custGeom>
            <a:avLst/>
            <a:gdLst/>
            <a:ahLst/>
            <a:rect l="l" t="t" r="r" b="b"/>
            <a:pathLst>
              <a:path w="921" h="952">
                <a:moveTo>
                  <a:pt x="553" y="186"/>
                </a:moveTo>
                <a:cubicBezTo>
                  <a:pt x="580" y="177"/>
                  <a:pt x="591" y="145"/>
                  <a:pt x="622" y="138"/>
                </a:cubicBezTo>
                <a:cubicBezTo>
                  <a:pt x="650" y="132"/>
                  <a:pt x="679" y="132"/>
                  <a:pt x="707" y="128"/>
                </a:cubicBezTo>
                <a:cubicBezTo>
                  <a:pt x="714" y="75"/>
                  <a:pt x="729" y="30"/>
                  <a:pt x="777" y="0"/>
                </a:cubicBezTo>
                <a:cubicBezTo>
                  <a:pt x="815" y="61"/>
                  <a:pt x="753" y="155"/>
                  <a:pt x="814" y="197"/>
                </a:cubicBezTo>
                <a:cubicBezTo>
                  <a:pt x="823" y="227"/>
                  <a:pt x="842" y="252"/>
                  <a:pt x="851" y="282"/>
                </a:cubicBezTo>
                <a:cubicBezTo>
                  <a:pt x="850" y="300"/>
                  <a:pt x="825" y="379"/>
                  <a:pt x="862" y="389"/>
                </a:cubicBezTo>
                <a:cubicBezTo>
                  <a:pt x="881" y="394"/>
                  <a:pt x="901" y="392"/>
                  <a:pt x="921" y="394"/>
                </a:cubicBezTo>
                <a:cubicBezTo>
                  <a:pt x="917" y="446"/>
                  <a:pt x="914" y="514"/>
                  <a:pt x="883" y="560"/>
                </a:cubicBezTo>
                <a:cubicBezTo>
                  <a:pt x="876" y="584"/>
                  <a:pt x="840" y="640"/>
                  <a:pt x="814" y="650"/>
                </a:cubicBezTo>
                <a:cubicBezTo>
                  <a:pt x="795" y="657"/>
                  <a:pt x="775" y="660"/>
                  <a:pt x="755" y="666"/>
                </a:cubicBezTo>
                <a:cubicBezTo>
                  <a:pt x="748" y="668"/>
                  <a:pt x="734" y="672"/>
                  <a:pt x="734" y="672"/>
                </a:cubicBezTo>
                <a:cubicBezTo>
                  <a:pt x="696" y="697"/>
                  <a:pt x="714" y="690"/>
                  <a:pt x="681" y="698"/>
                </a:cubicBezTo>
                <a:cubicBezTo>
                  <a:pt x="649" y="720"/>
                  <a:pt x="607" y="723"/>
                  <a:pt x="574" y="746"/>
                </a:cubicBezTo>
                <a:cubicBezTo>
                  <a:pt x="548" y="764"/>
                  <a:pt x="520" y="784"/>
                  <a:pt x="489" y="794"/>
                </a:cubicBezTo>
                <a:cubicBezTo>
                  <a:pt x="470" y="808"/>
                  <a:pt x="457" y="824"/>
                  <a:pt x="435" y="832"/>
                </a:cubicBezTo>
                <a:cubicBezTo>
                  <a:pt x="420" y="847"/>
                  <a:pt x="408" y="873"/>
                  <a:pt x="393" y="885"/>
                </a:cubicBezTo>
                <a:cubicBezTo>
                  <a:pt x="377" y="898"/>
                  <a:pt x="354" y="893"/>
                  <a:pt x="334" y="896"/>
                </a:cubicBezTo>
                <a:cubicBezTo>
                  <a:pt x="306" y="909"/>
                  <a:pt x="284" y="926"/>
                  <a:pt x="254" y="933"/>
                </a:cubicBezTo>
                <a:cubicBezTo>
                  <a:pt x="227" y="952"/>
                  <a:pt x="198" y="950"/>
                  <a:pt x="179" y="922"/>
                </a:cubicBezTo>
                <a:cubicBezTo>
                  <a:pt x="160" y="862"/>
                  <a:pt x="151" y="880"/>
                  <a:pt x="73" y="874"/>
                </a:cubicBezTo>
                <a:cubicBezTo>
                  <a:pt x="56" y="850"/>
                  <a:pt x="43" y="844"/>
                  <a:pt x="25" y="816"/>
                </a:cubicBezTo>
                <a:cubicBezTo>
                  <a:pt x="21" y="811"/>
                  <a:pt x="14" y="800"/>
                  <a:pt x="14" y="800"/>
                </a:cubicBezTo>
                <a:cubicBezTo>
                  <a:pt x="0" y="754"/>
                  <a:pt x="2" y="707"/>
                  <a:pt x="30" y="666"/>
                </a:cubicBezTo>
                <a:cubicBezTo>
                  <a:pt x="41" y="631"/>
                  <a:pt x="89" y="607"/>
                  <a:pt x="121" y="592"/>
                </a:cubicBezTo>
                <a:cubicBezTo>
                  <a:pt x="128" y="570"/>
                  <a:pt x="137" y="562"/>
                  <a:pt x="158" y="554"/>
                </a:cubicBezTo>
                <a:cubicBezTo>
                  <a:pt x="172" y="510"/>
                  <a:pt x="183" y="524"/>
                  <a:pt x="222" y="512"/>
                </a:cubicBezTo>
                <a:cubicBezTo>
                  <a:pt x="275" y="516"/>
                  <a:pt x="301" y="521"/>
                  <a:pt x="355" y="512"/>
                </a:cubicBezTo>
                <a:cubicBezTo>
                  <a:pt x="378" y="508"/>
                  <a:pt x="387" y="487"/>
                  <a:pt x="409" y="480"/>
                </a:cubicBezTo>
                <a:cubicBezTo>
                  <a:pt x="436" y="437"/>
                  <a:pt x="437" y="377"/>
                  <a:pt x="457" y="330"/>
                </a:cubicBezTo>
                <a:cubicBezTo>
                  <a:pt x="463" y="316"/>
                  <a:pt x="462" y="288"/>
                  <a:pt x="473" y="277"/>
                </a:cubicBezTo>
                <a:cubicBezTo>
                  <a:pt x="494" y="256"/>
                  <a:pt x="508" y="251"/>
                  <a:pt x="531" y="240"/>
                </a:cubicBezTo>
                <a:cubicBezTo>
                  <a:pt x="582" y="189"/>
                  <a:pt x="526" y="254"/>
                  <a:pt x="542" y="208"/>
                </a:cubicBezTo>
                <a:cubicBezTo>
                  <a:pt x="549" y="189"/>
                  <a:pt x="614" y="176"/>
                  <a:pt x="633" y="176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Grupa centr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9979400">
            <a:off x="6095880" y="4038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6633"/>
                </a:solidFill>
                <a:latin typeface="Arial"/>
              </a:rPr>
              <a:t>Grupa sud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7086600" y="594360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5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rpa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ţii  Ori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rot="16698000">
            <a:off x="5943240" y="4495680"/>
            <a:ext cx="609840" cy="152280"/>
          </a:xfrm>
          <a:prstGeom prst="leftRightArrow">
            <a:avLst>
              <a:gd name="adj1" fmla="val 50000"/>
              <a:gd name="adj2" fmla="val 797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698000">
            <a:off x="6248160" y="373356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9095000">
            <a:off x="5105160" y="167616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323400">
            <a:off x="6248520" y="228528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1219320"/>
            <a:ext cx="99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ris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057400"/>
            <a:ext cx="838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3581280"/>
            <a:ext cx="7621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Oit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464832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red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ec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ă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6248520"/>
            <a:ext cx="1219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990720"/>
            <a:ext cx="3505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uno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te imagin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8288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arpaţii Merid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ubcarpaţii Moldov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276720"/>
            <a:ext cx="3505320" cy="30456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48336" h="21600">
                <a:moveTo>
                  <a:pt x="0" y="0"/>
                </a:moveTo>
                <a:lnTo>
                  <a:pt x="248336" y="0"/>
                </a:lnTo>
                <a:lnTo>
                  <a:pt x="248336" y="21600"/>
                </a:lnTo>
                <a:lnTo>
                  <a:pt x="0" y="21600"/>
                </a:lnTo>
                <a:close/>
              </a:path>
              <a:path fill="lightenLess" w="248336" h="21600">
                <a:moveTo>
                  <a:pt x="0" y="0"/>
                </a:moveTo>
                <a:lnTo>
                  <a:pt x="248336" y="0"/>
                </a:lnTo>
                <a:lnTo>
                  <a:pt x="246936" y="1400"/>
                </a:lnTo>
                <a:lnTo>
                  <a:pt x="1400" y="1400"/>
                </a:lnTo>
                <a:close/>
              </a:path>
              <a:path fill="darken" w="248336" h="21600">
                <a:moveTo>
                  <a:pt x="248336" y="0"/>
                </a:moveTo>
                <a:lnTo>
                  <a:pt x="248336" y="21600"/>
                </a:lnTo>
                <a:lnTo>
                  <a:pt x="246936" y="20200"/>
                </a:lnTo>
                <a:lnTo>
                  <a:pt x="246936" y="1400"/>
                </a:lnTo>
                <a:close/>
              </a:path>
              <a:path fill="darkenLess" w="248336" h="21600">
                <a:moveTo>
                  <a:pt x="248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936" y="20200"/>
                </a:lnTo>
                <a:close/>
              </a:path>
              <a:path fill="lighten" w="248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arpaţii de Orien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5105520" cy="6705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486400" y="63244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276360" cy="2614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124080" y="3809880"/>
            <a:ext cx="38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143000" y="1474920"/>
            <a:ext cx="3200400" cy="2968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3276720" y="4114800"/>
            <a:ext cx="43718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latin typeface="Impact"/>
              </a:rPr>
              <a:t>MAI  ÎNCEARCĂ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7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73915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99480" y="15228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99ff"/>
                </a:solidFill>
                <a:latin typeface="Arial"/>
              </a:rPr>
              <a:t>Carpaţii Merid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914400"/>
            <a:ext cx="899172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Întindere:</a:t>
            </a:r>
            <a:r>
              <a:rPr b="1" lang="ro-R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de la Valea Prahovei, până la văile râurilor Timiş, Cerna şi Bis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pe: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rupa Munţilor Bucegi – între Valea Prahovei şi Valea Dâmboviţ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rupa Munţilor Făgăraşului – între Valea Dâmboviţei şi Valea Ol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rupa Munţilor Parângului – între Valea Oltului şi Valea Ji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rupa Munţilor Retezat-Godeanu – între Valea Jiului şi văile râurilor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imiş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erna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, Bis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Trecători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uloarul Rucăr-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Bran,Turnul Roşu-Cozia (V.Oltului)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inici(V. Jiul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Bobăţii:</a:t>
            </a: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ăduri, păşuni, cărbune, apele - hidrocentr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Obiective turistic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Sfinxul, Babele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ucea de pe Caraiman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Transfăgărăşeanul, Lacul Bâlea, rezervaţia de la Zărneşti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stelul Bran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arcul Naţional Reteza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ruinele Sarmizeget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6400800"/>
            <a:ext cx="838080" cy="368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00800" y="4876920"/>
            <a:ext cx="16002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99"/>
                </a:solidFill>
                <a:latin typeface="Arial"/>
              </a:rPr>
              <a:t>V. Prahov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6248520" y="4723920"/>
            <a:ext cx="38088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248520" y="4495320"/>
            <a:ext cx="380880" cy="3812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487692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0"/>
                </a:moveTo>
                <a:cubicBezTo>
                  <a:pt x="28" y="20"/>
                  <a:pt x="8" y="40"/>
                  <a:pt x="0" y="4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3505320"/>
            <a:ext cx="167652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-ţi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ezat- Gode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9900"/>
                </a:solidFill>
                <a:latin typeface="Arial"/>
              </a:rPr>
              <a:t>M-ţi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1" lang="ro-RO" sz="1800" spc="-1" strike="noStrike">
                <a:solidFill>
                  <a:srgbClr val="ff9900"/>
                </a:solidFill>
                <a:latin typeface="Arial"/>
              </a:rPr>
              <a:t>arâng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5638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-ţii Făgăraş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5486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-ţii   Buce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350532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V.Ol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510552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45320" y="4699080"/>
            <a:ext cx="1757160" cy="1820880"/>
          </a:xfrm>
          <a:custGeom>
            <a:avLst/>
            <a:gdLst/>
            <a:ahLst/>
            <a:rect l="l" t="t" r="r" b="b"/>
            <a:pathLst>
              <a:path w="1107" h="1147">
                <a:moveTo>
                  <a:pt x="3" y="0"/>
                </a:moveTo>
                <a:cubicBezTo>
                  <a:pt x="7" y="86"/>
                  <a:pt x="0" y="125"/>
                  <a:pt x="25" y="192"/>
                </a:cubicBezTo>
                <a:cubicBezTo>
                  <a:pt x="30" y="218"/>
                  <a:pt x="29" y="239"/>
                  <a:pt x="51" y="256"/>
                </a:cubicBezTo>
                <a:cubicBezTo>
                  <a:pt x="61" y="264"/>
                  <a:pt x="72" y="270"/>
                  <a:pt x="83" y="277"/>
                </a:cubicBezTo>
                <a:cubicBezTo>
                  <a:pt x="88" y="281"/>
                  <a:pt x="99" y="288"/>
                  <a:pt x="99" y="288"/>
                </a:cubicBezTo>
                <a:cubicBezTo>
                  <a:pt x="111" y="305"/>
                  <a:pt x="125" y="319"/>
                  <a:pt x="137" y="336"/>
                </a:cubicBezTo>
                <a:cubicBezTo>
                  <a:pt x="148" y="371"/>
                  <a:pt x="180" y="390"/>
                  <a:pt x="211" y="405"/>
                </a:cubicBezTo>
                <a:cubicBezTo>
                  <a:pt x="248" y="459"/>
                  <a:pt x="302" y="468"/>
                  <a:pt x="361" y="485"/>
                </a:cubicBezTo>
                <a:cubicBezTo>
                  <a:pt x="417" y="502"/>
                  <a:pt x="335" y="479"/>
                  <a:pt x="393" y="501"/>
                </a:cubicBezTo>
                <a:cubicBezTo>
                  <a:pt x="405" y="506"/>
                  <a:pt x="440" y="510"/>
                  <a:pt x="451" y="512"/>
                </a:cubicBezTo>
                <a:cubicBezTo>
                  <a:pt x="478" y="531"/>
                  <a:pt x="492" y="560"/>
                  <a:pt x="510" y="587"/>
                </a:cubicBezTo>
                <a:cubicBezTo>
                  <a:pt x="538" y="627"/>
                  <a:pt x="597" y="695"/>
                  <a:pt x="643" y="709"/>
                </a:cubicBezTo>
                <a:cubicBezTo>
                  <a:pt x="660" y="721"/>
                  <a:pt x="674" y="735"/>
                  <a:pt x="691" y="747"/>
                </a:cubicBezTo>
                <a:cubicBezTo>
                  <a:pt x="703" y="764"/>
                  <a:pt x="717" y="772"/>
                  <a:pt x="729" y="789"/>
                </a:cubicBezTo>
                <a:cubicBezTo>
                  <a:pt x="763" y="899"/>
                  <a:pt x="898" y="895"/>
                  <a:pt x="990" y="901"/>
                </a:cubicBezTo>
                <a:cubicBezTo>
                  <a:pt x="1015" y="939"/>
                  <a:pt x="1002" y="924"/>
                  <a:pt x="1027" y="949"/>
                </a:cubicBezTo>
                <a:cubicBezTo>
                  <a:pt x="1034" y="967"/>
                  <a:pt x="1039" y="984"/>
                  <a:pt x="1043" y="1003"/>
                </a:cubicBezTo>
                <a:cubicBezTo>
                  <a:pt x="1050" y="1065"/>
                  <a:pt x="1037" y="1065"/>
                  <a:pt x="1086" y="1083"/>
                </a:cubicBezTo>
                <a:cubicBezTo>
                  <a:pt x="1090" y="1088"/>
                  <a:pt x="1100" y="1093"/>
                  <a:pt x="1097" y="1099"/>
                </a:cubicBezTo>
                <a:cubicBezTo>
                  <a:pt x="1094" y="1104"/>
                  <a:pt x="1082" y="1087"/>
                  <a:pt x="1081" y="1093"/>
                </a:cubicBezTo>
                <a:cubicBezTo>
                  <a:pt x="1069" y="1143"/>
                  <a:pt x="1107" y="1109"/>
                  <a:pt x="1107" y="1147"/>
                </a:cubicBezTo>
              </a:path>
            </a:pathLst>
          </a:custGeom>
          <a:noFill/>
          <a:ln w="284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548640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C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047760" y="525744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495288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Timi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4723920"/>
            <a:ext cx="45720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73680" y="4183200"/>
            <a:ext cx="469800" cy="753840"/>
          </a:xfrm>
          <a:custGeom>
            <a:avLst/>
            <a:gdLst/>
            <a:ahLst/>
            <a:rect l="l" t="t" r="r" b="b"/>
            <a:pathLst>
              <a:path w="296" h="475">
                <a:moveTo>
                  <a:pt x="80" y="26"/>
                </a:moveTo>
                <a:cubicBezTo>
                  <a:pt x="113" y="19"/>
                  <a:pt x="144" y="15"/>
                  <a:pt x="176" y="5"/>
                </a:cubicBezTo>
                <a:cubicBezTo>
                  <a:pt x="218" y="18"/>
                  <a:pt x="178" y="0"/>
                  <a:pt x="198" y="80"/>
                </a:cubicBezTo>
                <a:cubicBezTo>
                  <a:pt x="203" y="101"/>
                  <a:pt x="246" y="112"/>
                  <a:pt x="262" y="122"/>
                </a:cubicBezTo>
                <a:cubicBezTo>
                  <a:pt x="296" y="231"/>
                  <a:pt x="249" y="350"/>
                  <a:pt x="283" y="458"/>
                </a:cubicBezTo>
                <a:cubicBezTo>
                  <a:pt x="210" y="461"/>
                  <a:pt x="135" y="475"/>
                  <a:pt x="64" y="453"/>
                </a:cubicBezTo>
                <a:cubicBezTo>
                  <a:pt x="62" y="423"/>
                  <a:pt x="62" y="388"/>
                  <a:pt x="54" y="357"/>
                </a:cubicBezTo>
                <a:cubicBezTo>
                  <a:pt x="45" y="322"/>
                  <a:pt x="13" y="291"/>
                  <a:pt x="0" y="256"/>
                </a:cubicBezTo>
                <a:cubicBezTo>
                  <a:pt x="8" y="198"/>
                  <a:pt x="8" y="210"/>
                  <a:pt x="64" y="202"/>
                </a:cubicBezTo>
                <a:cubicBezTo>
                  <a:pt x="42" y="195"/>
                  <a:pt x="27" y="200"/>
                  <a:pt x="6" y="208"/>
                </a:cubicBezTo>
                <a:cubicBezTo>
                  <a:pt x="52" y="222"/>
                  <a:pt x="26" y="141"/>
                  <a:pt x="54" y="101"/>
                </a:cubicBezTo>
                <a:cubicBezTo>
                  <a:pt x="66" y="64"/>
                  <a:pt x="53" y="72"/>
                  <a:pt x="80" y="64"/>
                </a:cubicBezTo>
                <a:cubicBezTo>
                  <a:pt x="102" y="42"/>
                  <a:pt x="100" y="54"/>
                  <a:pt x="80" y="26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6095880" y="48006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4114800"/>
            <a:ext cx="1022400" cy="878040"/>
          </a:xfrm>
          <a:custGeom>
            <a:avLst/>
            <a:gdLst/>
            <a:ahLst/>
            <a:rect l="l" t="t" r="r" b="b"/>
            <a:pathLst>
              <a:path w="644" h="505">
                <a:moveTo>
                  <a:pt x="1" y="173"/>
                </a:moveTo>
                <a:cubicBezTo>
                  <a:pt x="8" y="150"/>
                  <a:pt x="13" y="144"/>
                  <a:pt x="28" y="125"/>
                </a:cubicBezTo>
                <a:cubicBezTo>
                  <a:pt x="32" y="120"/>
                  <a:pt x="35" y="115"/>
                  <a:pt x="38" y="109"/>
                </a:cubicBezTo>
                <a:cubicBezTo>
                  <a:pt x="41" y="104"/>
                  <a:pt x="50" y="94"/>
                  <a:pt x="44" y="93"/>
                </a:cubicBezTo>
                <a:cubicBezTo>
                  <a:pt x="35" y="91"/>
                  <a:pt x="27" y="104"/>
                  <a:pt x="17" y="104"/>
                </a:cubicBezTo>
                <a:cubicBezTo>
                  <a:pt x="11" y="104"/>
                  <a:pt x="27" y="95"/>
                  <a:pt x="33" y="93"/>
                </a:cubicBezTo>
                <a:cubicBezTo>
                  <a:pt x="55" y="87"/>
                  <a:pt x="79" y="87"/>
                  <a:pt x="102" y="83"/>
                </a:cubicBezTo>
                <a:cubicBezTo>
                  <a:pt x="121" y="74"/>
                  <a:pt x="136" y="62"/>
                  <a:pt x="156" y="56"/>
                </a:cubicBezTo>
                <a:cubicBezTo>
                  <a:pt x="238" y="0"/>
                  <a:pt x="471" y="35"/>
                  <a:pt x="481" y="35"/>
                </a:cubicBezTo>
                <a:cubicBezTo>
                  <a:pt x="532" y="25"/>
                  <a:pt x="585" y="17"/>
                  <a:pt x="636" y="29"/>
                </a:cubicBezTo>
                <a:cubicBezTo>
                  <a:pt x="644" y="55"/>
                  <a:pt x="636" y="73"/>
                  <a:pt x="614" y="88"/>
                </a:cubicBezTo>
                <a:cubicBezTo>
                  <a:pt x="605" y="118"/>
                  <a:pt x="603" y="129"/>
                  <a:pt x="577" y="147"/>
                </a:cubicBezTo>
                <a:cubicBezTo>
                  <a:pt x="569" y="171"/>
                  <a:pt x="572" y="305"/>
                  <a:pt x="588" y="328"/>
                </a:cubicBezTo>
                <a:cubicBezTo>
                  <a:pt x="592" y="334"/>
                  <a:pt x="599" y="338"/>
                  <a:pt x="604" y="344"/>
                </a:cubicBezTo>
                <a:cubicBezTo>
                  <a:pt x="608" y="349"/>
                  <a:pt x="611" y="355"/>
                  <a:pt x="614" y="360"/>
                </a:cubicBezTo>
                <a:cubicBezTo>
                  <a:pt x="599" y="505"/>
                  <a:pt x="626" y="398"/>
                  <a:pt x="321" y="413"/>
                </a:cubicBezTo>
                <a:cubicBezTo>
                  <a:pt x="303" y="414"/>
                  <a:pt x="268" y="429"/>
                  <a:pt x="268" y="429"/>
                </a:cubicBezTo>
                <a:cubicBezTo>
                  <a:pt x="63" y="424"/>
                  <a:pt x="14" y="478"/>
                  <a:pt x="60" y="355"/>
                </a:cubicBezTo>
                <a:cubicBezTo>
                  <a:pt x="58" y="348"/>
                  <a:pt x="59" y="339"/>
                  <a:pt x="54" y="333"/>
                </a:cubicBezTo>
                <a:cubicBezTo>
                  <a:pt x="48" y="325"/>
                  <a:pt x="8" y="314"/>
                  <a:pt x="6" y="301"/>
                </a:cubicBezTo>
                <a:cubicBezTo>
                  <a:pt x="0" y="259"/>
                  <a:pt x="3" y="216"/>
                  <a:pt x="1" y="17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70120" y="3973680"/>
            <a:ext cx="1268640" cy="1145880"/>
          </a:xfrm>
          <a:custGeom>
            <a:avLst/>
            <a:gdLst/>
            <a:ahLst/>
            <a:rect l="l" t="t" r="r" b="b"/>
            <a:pathLst>
              <a:path w="799" h="722">
                <a:moveTo>
                  <a:pt x="34" y="308"/>
                </a:moveTo>
                <a:cubicBezTo>
                  <a:pt x="16" y="290"/>
                  <a:pt x="9" y="284"/>
                  <a:pt x="18" y="260"/>
                </a:cubicBezTo>
                <a:cubicBezTo>
                  <a:pt x="29" y="168"/>
                  <a:pt x="0" y="183"/>
                  <a:pt x="44" y="169"/>
                </a:cubicBezTo>
                <a:cubicBezTo>
                  <a:pt x="63" y="151"/>
                  <a:pt x="81" y="141"/>
                  <a:pt x="103" y="126"/>
                </a:cubicBezTo>
                <a:cubicBezTo>
                  <a:pt x="105" y="121"/>
                  <a:pt x="104" y="114"/>
                  <a:pt x="108" y="110"/>
                </a:cubicBezTo>
                <a:cubicBezTo>
                  <a:pt x="117" y="101"/>
                  <a:pt x="140" y="89"/>
                  <a:pt x="140" y="89"/>
                </a:cubicBezTo>
                <a:cubicBezTo>
                  <a:pt x="159" y="39"/>
                  <a:pt x="235" y="40"/>
                  <a:pt x="279" y="36"/>
                </a:cubicBezTo>
                <a:cubicBezTo>
                  <a:pt x="332" y="0"/>
                  <a:pt x="298" y="13"/>
                  <a:pt x="386" y="20"/>
                </a:cubicBezTo>
                <a:cubicBezTo>
                  <a:pt x="423" y="38"/>
                  <a:pt x="508" y="41"/>
                  <a:pt x="508" y="41"/>
                </a:cubicBezTo>
                <a:cubicBezTo>
                  <a:pt x="528" y="55"/>
                  <a:pt x="555" y="66"/>
                  <a:pt x="578" y="73"/>
                </a:cubicBezTo>
                <a:cubicBezTo>
                  <a:pt x="618" y="137"/>
                  <a:pt x="666" y="136"/>
                  <a:pt x="738" y="142"/>
                </a:cubicBezTo>
                <a:cubicBezTo>
                  <a:pt x="759" y="150"/>
                  <a:pt x="762" y="159"/>
                  <a:pt x="770" y="180"/>
                </a:cubicBezTo>
                <a:cubicBezTo>
                  <a:pt x="774" y="288"/>
                  <a:pt x="787" y="392"/>
                  <a:pt x="796" y="500"/>
                </a:cubicBezTo>
                <a:cubicBezTo>
                  <a:pt x="787" y="722"/>
                  <a:pt x="799" y="638"/>
                  <a:pt x="503" y="633"/>
                </a:cubicBezTo>
                <a:cubicBezTo>
                  <a:pt x="446" y="635"/>
                  <a:pt x="389" y="632"/>
                  <a:pt x="332" y="638"/>
                </a:cubicBezTo>
                <a:cubicBezTo>
                  <a:pt x="315" y="640"/>
                  <a:pt x="297" y="669"/>
                  <a:pt x="279" y="676"/>
                </a:cubicBezTo>
                <a:cubicBezTo>
                  <a:pt x="247" y="674"/>
                  <a:pt x="214" y="676"/>
                  <a:pt x="183" y="670"/>
                </a:cubicBezTo>
                <a:cubicBezTo>
                  <a:pt x="171" y="668"/>
                  <a:pt x="152" y="636"/>
                  <a:pt x="140" y="628"/>
                </a:cubicBezTo>
                <a:cubicBezTo>
                  <a:pt x="135" y="605"/>
                  <a:pt x="125" y="565"/>
                  <a:pt x="108" y="548"/>
                </a:cubicBezTo>
                <a:cubicBezTo>
                  <a:pt x="98" y="538"/>
                  <a:pt x="86" y="531"/>
                  <a:pt x="76" y="521"/>
                </a:cubicBezTo>
                <a:cubicBezTo>
                  <a:pt x="74" y="516"/>
                  <a:pt x="73" y="510"/>
                  <a:pt x="71" y="505"/>
                </a:cubicBezTo>
                <a:cubicBezTo>
                  <a:pt x="68" y="499"/>
                  <a:pt x="63" y="495"/>
                  <a:pt x="60" y="489"/>
                </a:cubicBezTo>
                <a:cubicBezTo>
                  <a:pt x="56" y="479"/>
                  <a:pt x="50" y="457"/>
                  <a:pt x="50" y="457"/>
                </a:cubicBezTo>
                <a:cubicBezTo>
                  <a:pt x="47" y="389"/>
                  <a:pt x="60" y="355"/>
                  <a:pt x="28" y="308"/>
                </a:cubicBezTo>
                <a:cubicBezTo>
                  <a:pt x="21" y="286"/>
                  <a:pt x="20" y="287"/>
                  <a:pt x="34" y="30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3581280"/>
            <a:ext cx="7596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77960" y="4462560"/>
            <a:ext cx="1212840" cy="1081080"/>
          </a:xfrm>
          <a:custGeom>
            <a:avLst/>
            <a:gdLst/>
            <a:ahLst/>
            <a:rect l="l" t="t" r="r" b="b"/>
            <a:pathLst>
              <a:path w="764" h="681">
                <a:moveTo>
                  <a:pt x="627" y="0"/>
                </a:moveTo>
                <a:cubicBezTo>
                  <a:pt x="437" y="5"/>
                  <a:pt x="251" y="12"/>
                  <a:pt x="61" y="16"/>
                </a:cubicBezTo>
                <a:cubicBezTo>
                  <a:pt x="48" y="36"/>
                  <a:pt x="37" y="31"/>
                  <a:pt x="29" y="53"/>
                </a:cubicBezTo>
                <a:cubicBezTo>
                  <a:pt x="31" y="129"/>
                  <a:pt x="39" y="206"/>
                  <a:pt x="35" y="282"/>
                </a:cubicBezTo>
                <a:cubicBezTo>
                  <a:pt x="35" y="291"/>
                  <a:pt x="23" y="253"/>
                  <a:pt x="19" y="261"/>
                </a:cubicBezTo>
                <a:cubicBezTo>
                  <a:pt x="0" y="298"/>
                  <a:pt x="60" y="382"/>
                  <a:pt x="77" y="410"/>
                </a:cubicBezTo>
                <a:cubicBezTo>
                  <a:pt x="81" y="423"/>
                  <a:pt x="92" y="434"/>
                  <a:pt x="93" y="448"/>
                </a:cubicBezTo>
                <a:cubicBezTo>
                  <a:pt x="94" y="465"/>
                  <a:pt x="86" y="512"/>
                  <a:pt x="83" y="533"/>
                </a:cubicBezTo>
                <a:cubicBezTo>
                  <a:pt x="85" y="574"/>
                  <a:pt x="60" y="626"/>
                  <a:pt x="88" y="656"/>
                </a:cubicBezTo>
                <a:cubicBezTo>
                  <a:pt x="111" y="681"/>
                  <a:pt x="156" y="657"/>
                  <a:pt x="189" y="650"/>
                </a:cubicBezTo>
                <a:cubicBezTo>
                  <a:pt x="206" y="647"/>
                  <a:pt x="193" y="614"/>
                  <a:pt x="205" y="602"/>
                </a:cubicBezTo>
                <a:cubicBezTo>
                  <a:pt x="225" y="582"/>
                  <a:pt x="214" y="588"/>
                  <a:pt x="237" y="581"/>
                </a:cubicBezTo>
                <a:cubicBezTo>
                  <a:pt x="267" y="562"/>
                  <a:pt x="284" y="536"/>
                  <a:pt x="312" y="517"/>
                </a:cubicBezTo>
                <a:cubicBezTo>
                  <a:pt x="319" y="496"/>
                  <a:pt x="322" y="487"/>
                  <a:pt x="344" y="480"/>
                </a:cubicBezTo>
                <a:cubicBezTo>
                  <a:pt x="384" y="482"/>
                  <a:pt x="492" y="491"/>
                  <a:pt x="531" y="480"/>
                </a:cubicBezTo>
                <a:cubicBezTo>
                  <a:pt x="565" y="470"/>
                  <a:pt x="556" y="450"/>
                  <a:pt x="573" y="432"/>
                </a:cubicBezTo>
                <a:cubicBezTo>
                  <a:pt x="581" y="424"/>
                  <a:pt x="602" y="414"/>
                  <a:pt x="611" y="410"/>
                </a:cubicBezTo>
                <a:cubicBezTo>
                  <a:pt x="637" y="368"/>
                  <a:pt x="712" y="366"/>
                  <a:pt x="755" y="362"/>
                </a:cubicBezTo>
                <a:cubicBezTo>
                  <a:pt x="762" y="334"/>
                  <a:pt x="764" y="315"/>
                  <a:pt x="739" y="298"/>
                </a:cubicBezTo>
                <a:cubicBezTo>
                  <a:pt x="717" y="266"/>
                  <a:pt x="684" y="247"/>
                  <a:pt x="669" y="208"/>
                </a:cubicBezTo>
                <a:cubicBezTo>
                  <a:pt x="665" y="140"/>
                  <a:pt x="665" y="122"/>
                  <a:pt x="648" y="69"/>
                </a:cubicBezTo>
                <a:cubicBezTo>
                  <a:pt x="646" y="57"/>
                  <a:pt x="648" y="43"/>
                  <a:pt x="643" y="32"/>
                </a:cubicBezTo>
                <a:cubicBezTo>
                  <a:pt x="639" y="22"/>
                  <a:pt x="608" y="16"/>
                  <a:pt x="627" y="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4114800"/>
            <a:ext cx="7632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533412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V. Ji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3657600" y="4800240"/>
            <a:ext cx="38088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876560" y="3809880"/>
            <a:ext cx="6094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5486040" y="4723920"/>
            <a:ext cx="2286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5105520"/>
            <a:ext cx="17524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V. Dâmboviţ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38680" y="4724280"/>
            <a:ext cx="22860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27320" y="4233960"/>
            <a:ext cx="635040" cy="210960"/>
          </a:xfrm>
          <a:custGeom>
            <a:avLst/>
            <a:gdLst/>
            <a:ahLst/>
            <a:rect l="l" t="t" r="r" b="b"/>
            <a:pathLst>
              <a:path w="400" h="133">
                <a:moveTo>
                  <a:pt x="400" y="128"/>
                </a:moveTo>
                <a:cubicBezTo>
                  <a:pt x="364" y="114"/>
                  <a:pt x="325" y="126"/>
                  <a:pt x="288" y="133"/>
                </a:cubicBezTo>
                <a:cubicBezTo>
                  <a:pt x="245" y="131"/>
                  <a:pt x="203" y="131"/>
                  <a:pt x="160" y="128"/>
                </a:cubicBezTo>
                <a:cubicBezTo>
                  <a:pt x="118" y="125"/>
                  <a:pt x="117" y="65"/>
                  <a:pt x="80" y="53"/>
                </a:cubicBezTo>
                <a:cubicBezTo>
                  <a:pt x="65" y="32"/>
                  <a:pt x="45" y="29"/>
                  <a:pt x="21" y="21"/>
                </a:cubicBezTo>
                <a:cubicBezTo>
                  <a:pt x="2" y="8"/>
                  <a:pt x="8" y="16"/>
                  <a:pt x="0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434340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438280" y="4419360"/>
            <a:ext cx="381240" cy="759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Carpaţii Merid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53280" y="6095880"/>
            <a:ext cx="838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267080"/>
            <a:ext cx="295200" cy="652680"/>
          </a:xfrm>
          <a:custGeom>
            <a:avLst/>
            <a:gdLst/>
            <a:ahLst/>
            <a:rect l="l" t="t" r="r" b="b"/>
            <a:pathLst>
              <a:path w="186" h="411">
                <a:moveTo>
                  <a:pt x="165" y="411"/>
                </a:moveTo>
                <a:cubicBezTo>
                  <a:pt x="167" y="390"/>
                  <a:pt x="167" y="368"/>
                  <a:pt x="171" y="347"/>
                </a:cubicBezTo>
                <a:cubicBezTo>
                  <a:pt x="173" y="336"/>
                  <a:pt x="181" y="315"/>
                  <a:pt x="181" y="315"/>
                </a:cubicBezTo>
                <a:cubicBezTo>
                  <a:pt x="179" y="293"/>
                  <a:pt x="186" y="258"/>
                  <a:pt x="165" y="240"/>
                </a:cubicBezTo>
                <a:cubicBezTo>
                  <a:pt x="155" y="232"/>
                  <a:pt x="133" y="219"/>
                  <a:pt x="133" y="219"/>
                </a:cubicBezTo>
                <a:cubicBezTo>
                  <a:pt x="130" y="214"/>
                  <a:pt x="127" y="208"/>
                  <a:pt x="123" y="203"/>
                </a:cubicBezTo>
                <a:cubicBezTo>
                  <a:pt x="119" y="198"/>
                  <a:pt x="111" y="197"/>
                  <a:pt x="107" y="192"/>
                </a:cubicBezTo>
                <a:cubicBezTo>
                  <a:pt x="73" y="151"/>
                  <a:pt x="119" y="187"/>
                  <a:pt x="80" y="160"/>
                </a:cubicBezTo>
                <a:cubicBezTo>
                  <a:pt x="72" y="134"/>
                  <a:pt x="71" y="111"/>
                  <a:pt x="64" y="85"/>
                </a:cubicBezTo>
                <a:cubicBezTo>
                  <a:pt x="61" y="73"/>
                  <a:pt x="44" y="61"/>
                  <a:pt x="37" y="53"/>
                </a:cubicBezTo>
                <a:cubicBezTo>
                  <a:pt x="24" y="36"/>
                  <a:pt x="15" y="15"/>
                  <a:pt x="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 rot="1531800">
            <a:off x="2209320" y="2209320"/>
            <a:ext cx="5823000" cy="839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MUNŢII  CARPAŢ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57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PO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1676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UCRA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36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913400">
            <a:off x="3581640" y="25142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UN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111400">
            <a:off x="3428280" y="46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981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SLOV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257800" y="5334120"/>
            <a:ext cx="1295280" cy="61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uloarul Rucăr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5105520"/>
            <a:ext cx="1066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3657600"/>
            <a:ext cx="1371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u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şu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4952880"/>
            <a:ext cx="1066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oz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4571640" y="4495680"/>
            <a:ext cx="609840" cy="152280"/>
          </a:xfrm>
          <a:prstGeom prst="leftRightArrow">
            <a:avLst>
              <a:gd name="adj1" fmla="val 50000"/>
              <a:gd name="adj2" fmla="val 797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7848200">
            <a:off x="5486400" y="464796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698000">
            <a:off x="3504960" y="4724280"/>
            <a:ext cx="609840" cy="152280"/>
          </a:xfrm>
          <a:prstGeom prst="leftRightArrow">
            <a:avLst>
              <a:gd name="adj1" fmla="val 50000"/>
              <a:gd name="adj2" fmla="val 797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ec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ă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153280" y="6095880"/>
            <a:ext cx="838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0"/>
            <a:ext cx="8991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CARPA</a:t>
            </a:r>
            <a:r>
              <a:rPr b="1" lang="ro-RO" sz="2800" spc="-1" strike="noStrike">
                <a:solidFill>
                  <a:srgbClr val="99ccff"/>
                </a:solidFill>
                <a:latin typeface="Arial"/>
              </a:rPr>
              <a:t>ŢII  MERID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. Localizează grupele de munţ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ornind de la est spre v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7631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04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34440" y="3624120"/>
            <a:ext cx="488880" cy="1074960"/>
          </a:xfrm>
          <a:custGeom>
            <a:avLst/>
            <a:gdLst/>
            <a:ahLst/>
            <a:rect l="l" t="t" r="r" b="b"/>
            <a:pathLst>
              <a:path w="308" h="677">
                <a:moveTo>
                  <a:pt x="10" y="0"/>
                </a:moveTo>
                <a:cubicBezTo>
                  <a:pt x="0" y="27"/>
                  <a:pt x="8" y="83"/>
                  <a:pt x="31" y="106"/>
                </a:cubicBezTo>
                <a:cubicBezTo>
                  <a:pt x="46" y="121"/>
                  <a:pt x="70" y="123"/>
                  <a:pt x="90" y="128"/>
                </a:cubicBezTo>
                <a:cubicBezTo>
                  <a:pt x="118" y="173"/>
                  <a:pt x="107" y="232"/>
                  <a:pt x="122" y="282"/>
                </a:cubicBezTo>
                <a:cubicBezTo>
                  <a:pt x="134" y="323"/>
                  <a:pt x="150" y="309"/>
                  <a:pt x="175" y="330"/>
                </a:cubicBezTo>
                <a:cubicBezTo>
                  <a:pt x="204" y="354"/>
                  <a:pt x="228" y="376"/>
                  <a:pt x="244" y="410"/>
                </a:cubicBezTo>
                <a:cubicBezTo>
                  <a:pt x="248" y="482"/>
                  <a:pt x="244" y="518"/>
                  <a:pt x="266" y="576"/>
                </a:cubicBezTo>
                <a:cubicBezTo>
                  <a:pt x="271" y="627"/>
                  <a:pt x="273" y="642"/>
                  <a:pt x="308" y="677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7440" y="3564000"/>
            <a:ext cx="1670040" cy="1904760"/>
          </a:xfrm>
          <a:custGeom>
            <a:avLst/>
            <a:gdLst/>
            <a:ahLst/>
            <a:rect l="l" t="t" r="r" b="b"/>
            <a:pathLst>
              <a:path w="1052" h="1200">
                <a:moveTo>
                  <a:pt x="54" y="0"/>
                </a:moveTo>
                <a:cubicBezTo>
                  <a:pt x="38" y="16"/>
                  <a:pt x="35" y="29"/>
                  <a:pt x="22" y="48"/>
                </a:cubicBezTo>
                <a:cubicBezTo>
                  <a:pt x="0" y="118"/>
                  <a:pt x="47" y="143"/>
                  <a:pt x="81" y="192"/>
                </a:cubicBezTo>
                <a:cubicBezTo>
                  <a:pt x="88" y="215"/>
                  <a:pt x="99" y="238"/>
                  <a:pt x="118" y="251"/>
                </a:cubicBezTo>
                <a:cubicBezTo>
                  <a:pt x="129" y="299"/>
                  <a:pt x="116" y="355"/>
                  <a:pt x="134" y="400"/>
                </a:cubicBezTo>
                <a:cubicBezTo>
                  <a:pt x="165" y="478"/>
                  <a:pt x="262" y="512"/>
                  <a:pt x="332" y="544"/>
                </a:cubicBezTo>
                <a:cubicBezTo>
                  <a:pt x="371" y="583"/>
                  <a:pt x="398" y="636"/>
                  <a:pt x="444" y="667"/>
                </a:cubicBezTo>
                <a:cubicBezTo>
                  <a:pt x="463" y="696"/>
                  <a:pt x="482" y="724"/>
                  <a:pt x="502" y="752"/>
                </a:cubicBezTo>
                <a:cubicBezTo>
                  <a:pt x="510" y="763"/>
                  <a:pt x="517" y="773"/>
                  <a:pt x="524" y="784"/>
                </a:cubicBezTo>
                <a:cubicBezTo>
                  <a:pt x="531" y="795"/>
                  <a:pt x="556" y="806"/>
                  <a:pt x="556" y="806"/>
                </a:cubicBezTo>
                <a:cubicBezTo>
                  <a:pt x="565" y="834"/>
                  <a:pt x="586" y="849"/>
                  <a:pt x="609" y="864"/>
                </a:cubicBezTo>
                <a:cubicBezTo>
                  <a:pt x="621" y="882"/>
                  <a:pt x="640" y="894"/>
                  <a:pt x="652" y="912"/>
                </a:cubicBezTo>
                <a:cubicBezTo>
                  <a:pt x="684" y="960"/>
                  <a:pt x="727" y="1000"/>
                  <a:pt x="780" y="1024"/>
                </a:cubicBezTo>
                <a:cubicBezTo>
                  <a:pt x="797" y="1041"/>
                  <a:pt x="811" y="1054"/>
                  <a:pt x="833" y="1062"/>
                </a:cubicBezTo>
                <a:cubicBezTo>
                  <a:pt x="859" y="1100"/>
                  <a:pt x="934" y="1149"/>
                  <a:pt x="977" y="1168"/>
                </a:cubicBezTo>
                <a:cubicBezTo>
                  <a:pt x="1003" y="1179"/>
                  <a:pt x="1031" y="1181"/>
                  <a:pt x="1052" y="120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76720" y="1066680"/>
            <a:ext cx="2390760" cy="5105520"/>
          </a:xfrm>
          <a:custGeom>
            <a:avLst/>
            <a:gdLst/>
            <a:ahLst/>
            <a:rect l="l" t="t" r="r" b="b"/>
            <a:pathLst>
              <a:path w="1506" h="3216">
                <a:moveTo>
                  <a:pt x="1506" y="0"/>
                </a:moveTo>
                <a:cubicBezTo>
                  <a:pt x="1488" y="18"/>
                  <a:pt x="1490" y="34"/>
                  <a:pt x="1469" y="48"/>
                </a:cubicBezTo>
                <a:cubicBezTo>
                  <a:pt x="1454" y="69"/>
                  <a:pt x="1430" y="77"/>
                  <a:pt x="1405" y="85"/>
                </a:cubicBezTo>
                <a:cubicBezTo>
                  <a:pt x="1326" y="139"/>
                  <a:pt x="1167" y="135"/>
                  <a:pt x="1079" y="139"/>
                </a:cubicBezTo>
                <a:cubicBezTo>
                  <a:pt x="1047" y="147"/>
                  <a:pt x="1015" y="153"/>
                  <a:pt x="983" y="160"/>
                </a:cubicBezTo>
                <a:cubicBezTo>
                  <a:pt x="962" y="171"/>
                  <a:pt x="941" y="172"/>
                  <a:pt x="919" y="181"/>
                </a:cubicBezTo>
                <a:cubicBezTo>
                  <a:pt x="889" y="194"/>
                  <a:pt x="860" y="214"/>
                  <a:pt x="829" y="224"/>
                </a:cubicBezTo>
                <a:cubicBezTo>
                  <a:pt x="773" y="262"/>
                  <a:pt x="676" y="253"/>
                  <a:pt x="615" y="256"/>
                </a:cubicBezTo>
                <a:cubicBezTo>
                  <a:pt x="581" y="261"/>
                  <a:pt x="547" y="264"/>
                  <a:pt x="514" y="272"/>
                </a:cubicBezTo>
                <a:cubicBezTo>
                  <a:pt x="485" y="287"/>
                  <a:pt x="455" y="287"/>
                  <a:pt x="423" y="293"/>
                </a:cubicBezTo>
                <a:cubicBezTo>
                  <a:pt x="395" y="303"/>
                  <a:pt x="365" y="303"/>
                  <a:pt x="338" y="315"/>
                </a:cubicBezTo>
                <a:cubicBezTo>
                  <a:pt x="323" y="322"/>
                  <a:pt x="309" y="329"/>
                  <a:pt x="295" y="336"/>
                </a:cubicBezTo>
                <a:cubicBezTo>
                  <a:pt x="288" y="340"/>
                  <a:pt x="274" y="347"/>
                  <a:pt x="274" y="347"/>
                </a:cubicBezTo>
                <a:cubicBezTo>
                  <a:pt x="254" y="376"/>
                  <a:pt x="231" y="401"/>
                  <a:pt x="215" y="432"/>
                </a:cubicBezTo>
                <a:cubicBezTo>
                  <a:pt x="209" y="459"/>
                  <a:pt x="199" y="489"/>
                  <a:pt x="183" y="512"/>
                </a:cubicBezTo>
                <a:cubicBezTo>
                  <a:pt x="178" y="528"/>
                  <a:pt x="176" y="546"/>
                  <a:pt x="167" y="560"/>
                </a:cubicBezTo>
                <a:cubicBezTo>
                  <a:pt x="152" y="585"/>
                  <a:pt x="129" y="604"/>
                  <a:pt x="114" y="629"/>
                </a:cubicBezTo>
                <a:cubicBezTo>
                  <a:pt x="103" y="648"/>
                  <a:pt x="99" y="665"/>
                  <a:pt x="87" y="683"/>
                </a:cubicBezTo>
                <a:cubicBezTo>
                  <a:pt x="75" y="723"/>
                  <a:pt x="82" y="705"/>
                  <a:pt x="66" y="736"/>
                </a:cubicBezTo>
                <a:cubicBezTo>
                  <a:pt x="61" y="756"/>
                  <a:pt x="56" y="775"/>
                  <a:pt x="50" y="795"/>
                </a:cubicBezTo>
                <a:cubicBezTo>
                  <a:pt x="56" y="869"/>
                  <a:pt x="73" y="937"/>
                  <a:pt x="119" y="997"/>
                </a:cubicBezTo>
                <a:cubicBezTo>
                  <a:pt x="127" y="1018"/>
                  <a:pt x="133" y="1040"/>
                  <a:pt x="141" y="1061"/>
                </a:cubicBezTo>
                <a:cubicBezTo>
                  <a:pt x="137" y="1119"/>
                  <a:pt x="147" y="1144"/>
                  <a:pt x="119" y="1184"/>
                </a:cubicBezTo>
                <a:cubicBezTo>
                  <a:pt x="107" y="1235"/>
                  <a:pt x="89" y="1284"/>
                  <a:pt x="71" y="1333"/>
                </a:cubicBezTo>
                <a:cubicBezTo>
                  <a:pt x="79" y="1391"/>
                  <a:pt x="79" y="1381"/>
                  <a:pt x="109" y="1424"/>
                </a:cubicBezTo>
                <a:cubicBezTo>
                  <a:pt x="132" y="1497"/>
                  <a:pt x="123" y="1455"/>
                  <a:pt x="130" y="1589"/>
                </a:cubicBezTo>
                <a:cubicBezTo>
                  <a:pt x="132" y="1627"/>
                  <a:pt x="127" y="1683"/>
                  <a:pt x="162" y="1707"/>
                </a:cubicBezTo>
                <a:cubicBezTo>
                  <a:pt x="171" y="1736"/>
                  <a:pt x="163" y="1716"/>
                  <a:pt x="189" y="1755"/>
                </a:cubicBezTo>
                <a:cubicBezTo>
                  <a:pt x="196" y="1766"/>
                  <a:pt x="210" y="1787"/>
                  <a:pt x="210" y="1787"/>
                </a:cubicBezTo>
                <a:cubicBezTo>
                  <a:pt x="225" y="1835"/>
                  <a:pt x="217" y="1887"/>
                  <a:pt x="205" y="1936"/>
                </a:cubicBezTo>
                <a:cubicBezTo>
                  <a:pt x="204" y="1952"/>
                  <a:pt x="226" y="2099"/>
                  <a:pt x="167" y="2117"/>
                </a:cubicBezTo>
                <a:cubicBezTo>
                  <a:pt x="149" y="2157"/>
                  <a:pt x="125" y="2197"/>
                  <a:pt x="103" y="2235"/>
                </a:cubicBezTo>
                <a:cubicBezTo>
                  <a:pt x="97" y="2276"/>
                  <a:pt x="90" y="2322"/>
                  <a:pt x="66" y="2357"/>
                </a:cubicBezTo>
                <a:cubicBezTo>
                  <a:pt x="69" y="2718"/>
                  <a:pt x="0" y="2747"/>
                  <a:pt x="98" y="2933"/>
                </a:cubicBezTo>
                <a:cubicBezTo>
                  <a:pt x="107" y="2973"/>
                  <a:pt x="144" y="3014"/>
                  <a:pt x="146" y="3056"/>
                </a:cubicBezTo>
                <a:cubicBezTo>
                  <a:pt x="149" y="3109"/>
                  <a:pt x="146" y="3163"/>
                  <a:pt x="146" y="3216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16120" y="3056040"/>
            <a:ext cx="677880" cy="2997000"/>
          </a:xfrm>
          <a:custGeom>
            <a:avLst/>
            <a:gdLst/>
            <a:ahLst/>
            <a:rect l="l" t="t" r="r" b="b"/>
            <a:pathLst>
              <a:path w="427" h="1888">
                <a:moveTo>
                  <a:pt x="421" y="0"/>
                </a:moveTo>
                <a:cubicBezTo>
                  <a:pt x="413" y="63"/>
                  <a:pt x="400" y="59"/>
                  <a:pt x="363" y="96"/>
                </a:cubicBezTo>
                <a:cubicBezTo>
                  <a:pt x="346" y="142"/>
                  <a:pt x="310" y="178"/>
                  <a:pt x="293" y="224"/>
                </a:cubicBezTo>
                <a:cubicBezTo>
                  <a:pt x="302" y="314"/>
                  <a:pt x="338" y="442"/>
                  <a:pt x="251" y="502"/>
                </a:cubicBezTo>
                <a:cubicBezTo>
                  <a:pt x="232" y="538"/>
                  <a:pt x="204" y="574"/>
                  <a:pt x="181" y="608"/>
                </a:cubicBezTo>
                <a:cubicBezTo>
                  <a:pt x="157" y="684"/>
                  <a:pt x="177" y="611"/>
                  <a:pt x="165" y="763"/>
                </a:cubicBezTo>
                <a:cubicBezTo>
                  <a:pt x="164" y="781"/>
                  <a:pt x="146" y="797"/>
                  <a:pt x="139" y="811"/>
                </a:cubicBezTo>
                <a:cubicBezTo>
                  <a:pt x="128" y="833"/>
                  <a:pt x="127" y="845"/>
                  <a:pt x="107" y="859"/>
                </a:cubicBezTo>
                <a:cubicBezTo>
                  <a:pt x="95" y="877"/>
                  <a:pt x="92" y="894"/>
                  <a:pt x="80" y="912"/>
                </a:cubicBezTo>
                <a:cubicBezTo>
                  <a:pt x="65" y="960"/>
                  <a:pt x="49" y="1038"/>
                  <a:pt x="21" y="1078"/>
                </a:cubicBezTo>
                <a:cubicBezTo>
                  <a:pt x="8" y="1119"/>
                  <a:pt x="0" y="1161"/>
                  <a:pt x="27" y="1200"/>
                </a:cubicBezTo>
                <a:cubicBezTo>
                  <a:pt x="30" y="1211"/>
                  <a:pt x="29" y="1224"/>
                  <a:pt x="37" y="1232"/>
                </a:cubicBezTo>
                <a:cubicBezTo>
                  <a:pt x="78" y="1273"/>
                  <a:pt x="25" y="1224"/>
                  <a:pt x="75" y="1259"/>
                </a:cubicBezTo>
                <a:cubicBezTo>
                  <a:pt x="107" y="1281"/>
                  <a:pt x="133" y="1306"/>
                  <a:pt x="160" y="1334"/>
                </a:cubicBezTo>
                <a:cubicBezTo>
                  <a:pt x="175" y="1349"/>
                  <a:pt x="195" y="1358"/>
                  <a:pt x="213" y="1371"/>
                </a:cubicBezTo>
                <a:cubicBezTo>
                  <a:pt x="218" y="1375"/>
                  <a:pt x="229" y="1382"/>
                  <a:pt x="229" y="1382"/>
                </a:cubicBezTo>
                <a:cubicBezTo>
                  <a:pt x="245" y="1424"/>
                  <a:pt x="222" y="1369"/>
                  <a:pt x="251" y="1414"/>
                </a:cubicBezTo>
                <a:cubicBezTo>
                  <a:pt x="254" y="1419"/>
                  <a:pt x="254" y="1425"/>
                  <a:pt x="256" y="1430"/>
                </a:cubicBezTo>
                <a:cubicBezTo>
                  <a:pt x="259" y="1436"/>
                  <a:pt x="263" y="1441"/>
                  <a:pt x="267" y="1446"/>
                </a:cubicBezTo>
                <a:cubicBezTo>
                  <a:pt x="276" y="1474"/>
                  <a:pt x="277" y="1503"/>
                  <a:pt x="283" y="1531"/>
                </a:cubicBezTo>
                <a:cubicBezTo>
                  <a:pt x="286" y="1591"/>
                  <a:pt x="281" y="1614"/>
                  <a:pt x="304" y="1659"/>
                </a:cubicBezTo>
                <a:cubicBezTo>
                  <a:pt x="314" y="1679"/>
                  <a:pt x="332" y="1687"/>
                  <a:pt x="347" y="1702"/>
                </a:cubicBezTo>
                <a:cubicBezTo>
                  <a:pt x="379" y="1734"/>
                  <a:pt x="406" y="1769"/>
                  <a:pt x="416" y="1814"/>
                </a:cubicBezTo>
                <a:cubicBezTo>
                  <a:pt x="418" y="1828"/>
                  <a:pt x="427" y="1869"/>
                  <a:pt x="427" y="1888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45120" y="2989440"/>
            <a:ext cx="1981440" cy="3047760"/>
          </a:xfrm>
          <a:custGeom>
            <a:avLst/>
            <a:gdLst/>
            <a:ahLst/>
            <a:rect l="l" t="t" r="r" b="b"/>
            <a:pathLst>
              <a:path w="1248" h="1920">
                <a:moveTo>
                  <a:pt x="0" y="0"/>
                </a:moveTo>
                <a:cubicBezTo>
                  <a:pt x="6" y="53"/>
                  <a:pt x="6" y="115"/>
                  <a:pt x="21" y="165"/>
                </a:cubicBezTo>
                <a:cubicBezTo>
                  <a:pt x="34" y="210"/>
                  <a:pt x="59" y="245"/>
                  <a:pt x="75" y="288"/>
                </a:cubicBezTo>
                <a:cubicBezTo>
                  <a:pt x="83" y="480"/>
                  <a:pt x="75" y="672"/>
                  <a:pt x="85" y="864"/>
                </a:cubicBezTo>
                <a:cubicBezTo>
                  <a:pt x="86" y="882"/>
                  <a:pt x="132" y="948"/>
                  <a:pt x="144" y="960"/>
                </a:cubicBezTo>
                <a:cubicBezTo>
                  <a:pt x="155" y="971"/>
                  <a:pt x="176" y="992"/>
                  <a:pt x="176" y="992"/>
                </a:cubicBezTo>
                <a:cubicBezTo>
                  <a:pt x="181" y="1010"/>
                  <a:pt x="203" y="1040"/>
                  <a:pt x="203" y="1040"/>
                </a:cubicBezTo>
                <a:cubicBezTo>
                  <a:pt x="214" y="1075"/>
                  <a:pt x="198" y="1036"/>
                  <a:pt x="229" y="1072"/>
                </a:cubicBezTo>
                <a:cubicBezTo>
                  <a:pt x="237" y="1081"/>
                  <a:pt x="238" y="1094"/>
                  <a:pt x="245" y="1104"/>
                </a:cubicBezTo>
                <a:cubicBezTo>
                  <a:pt x="272" y="1143"/>
                  <a:pt x="249" y="1109"/>
                  <a:pt x="277" y="1141"/>
                </a:cubicBezTo>
                <a:cubicBezTo>
                  <a:pt x="304" y="1172"/>
                  <a:pt x="324" y="1208"/>
                  <a:pt x="347" y="1242"/>
                </a:cubicBezTo>
                <a:cubicBezTo>
                  <a:pt x="351" y="1247"/>
                  <a:pt x="358" y="1249"/>
                  <a:pt x="363" y="1253"/>
                </a:cubicBezTo>
                <a:cubicBezTo>
                  <a:pt x="386" y="1274"/>
                  <a:pt x="409" y="1296"/>
                  <a:pt x="432" y="1317"/>
                </a:cubicBezTo>
                <a:cubicBezTo>
                  <a:pt x="453" y="1336"/>
                  <a:pt x="468" y="1360"/>
                  <a:pt x="491" y="1376"/>
                </a:cubicBezTo>
                <a:cubicBezTo>
                  <a:pt x="508" y="1404"/>
                  <a:pt x="571" y="1460"/>
                  <a:pt x="603" y="1472"/>
                </a:cubicBezTo>
                <a:cubicBezTo>
                  <a:pt x="655" y="1524"/>
                  <a:pt x="721" y="1560"/>
                  <a:pt x="789" y="1589"/>
                </a:cubicBezTo>
                <a:cubicBezTo>
                  <a:pt x="810" y="1610"/>
                  <a:pt x="829" y="1635"/>
                  <a:pt x="848" y="1658"/>
                </a:cubicBezTo>
                <a:cubicBezTo>
                  <a:pt x="859" y="1672"/>
                  <a:pt x="869" y="1687"/>
                  <a:pt x="880" y="1701"/>
                </a:cubicBezTo>
                <a:cubicBezTo>
                  <a:pt x="885" y="1708"/>
                  <a:pt x="896" y="1722"/>
                  <a:pt x="896" y="1722"/>
                </a:cubicBezTo>
                <a:cubicBezTo>
                  <a:pt x="905" y="1751"/>
                  <a:pt x="937" y="1778"/>
                  <a:pt x="960" y="1797"/>
                </a:cubicBezTo>
                <a:cubicBezTo>
                  <a:pt x="966" y="1802"/>
                  <a:pt x="971" y="1807"/>
                  <a:pt x="976" y="1813"/>
                </a:cubicBezTo>
                <a:cubicBezTo>
                  <a:pt x="980" y="1818"/>
                  <a:pt x="982" y="1825"/>
                  <a:pt x="987" y="1829"/>
                </a:cubicBezTo>
                <a:cubicBezTo>
                  <a:pt x="1061" y="1895"/>
                  <a:pt x="1150" y="1920"/>
                  <a:pt x="1248" y="192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5840" y="2438280"/>
            <a:ext cx="1738080" cy="625680"/>
          </a:xfrm>
          <a:custGeom>
            <a:avLst/>
            <a:gdLst/>
            <a:ahLst/>
            <a:rect l="l" t="t" r="r" b="b"/>
            <a:pathLst>
              <a:path w="1095" h="394">
                <a:moveTo>
                  <a:pt x="1095" y="0"/>
                </a:moveTo>
                <a:cubicBezTo>
                  <a:pt x="981" y="36"/>
                  <a:pt x="979" y="23"/>
                  <a:pt x="801" y="32"/>
                </a:cubicBezTo>
                <a:cubicBezTo>
                  <a:pt x="763" y="44"/>
                  <a:pt x="726" y="64"/>
                  <a:pt x="689" y="75"/>
                </a:cubicBezTo>
                <a:cubicBezTo>
                  <a:pt x="618" y="96"/>
                  <a:pt x="537" y="103"/>
                  <a:pt x="465" y="107"/>
                </a:cubicBezTo>
                <a:cubicBezTo>
                  <a:pt x="462" y="107"/>
                  <a:pt x="425" y="112"/>
                  <a:pt x="417" y="117"/>
                </a:cubicBezTo>
                <a:cubicBezTo>
                  <a:pt x="411" y="121"/>
                  <a:pt x="408" y="132"/>
                  <a:pt x="401" y="133"/>
                </a:cubicBezTo>
                <a:cubicBezTo>
                  <a:pt x="346" y="140"/>
                  <a:pt x="291" y="137"/>
                  <a:pt x="236" y="139"/>
                </a:cubicBezTo>
                <a:cubicBezTo>
                  <a:pt x="216" y="145"/>
                  <a:pt x="200" y="148"/>
                  <a:pt x="183" y="160"/>
                </a:cubicBezTo>
                <a:cubicBezTo>
                  <a:pt x="179" y="165"/>
                  <a:pt x="177" y="172"/>
                  <a:pt x="172" y="176"/>
                </a:cubicBezTo>
                <a:cubicBezTo>
                  <a:pt x="168" y="179"/>
                  <a:pt x="160" y="177"/>
                  <a:pt x="156" y="181"/>
                </a:cubicBezTo>
                <a:cubicBezTo>
                  <a:pt x="152" y="185"/>
                  <a:pt x="154" y="192"/>
                  <a:pt x="151" y="197"/>
                </a:cubicBezTo>
                <a:cubicBezTo>
                  <a:pt x="139" y="220"/>
                  <a:pt x="138" y="217"/>
                  <a:pt x="119" y="229"/>
                </a:cubicBezTo>
                <a:cubicBezTo>
                  <a:pt x="103" y="273"/>
                  <a:pt x="127" y="220"/>
                  <a:pt x="97" y="251"/>
                </a:cubicBezTo>
                <a:cubicBezTo>
                  <a:pt x="75" y="274"/>
                  <a:pt x="75" y="293"/>
                  <a:pt x="49" y="309"/>
                </a:cubicBezTo>
                <a:cubicBezTo>
                  <a:pt x="45" y="323"/>
                  <a:pt x="27" y="361"/>
                  <a:pt x="17" y="373"/>
                </a:cubicBezTo>
                <a:cubicBezTo>
                  <a:pt x="0" y="394"/>
                  <a:pt x="1" y="375"/>
                  <a:pt x="1" y="389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46000" y="4005360"/>
            <a:ext cx="1447920" cy="1539720"/>
          </a:xfrm>
          <a:custGeom>
            <a:avLst/>
            <a:gdLst/>
            <a:ahLst/>
            <a:rect l="l" t="t" r="r" b="b"/>
            <a:pathLst>
              <a:path w="912" h="970">
                <a:moveTo>
                  <a:pt x="0" y="970"/>
                </a:moveTo>
                <a:cubicBezTo>
                  <a:pt x="13" y="936"/>
                  <a:pt x="16" y="907"/>
                  <a:pt x="43" y="880"/>
                </a:cubicBezTo>
                <a:cubicBezTo>
                  <a:pt x="53" y="848"/>
                  <a:pt x="67" y="816"/>
                  <a:pt x="86" y="789"/>
                </a:cubicBezTo>
                <a:cubicBezTo>
                  <a:pt x="100" y="712"/>
                  <a:pt x="81" y="820"/>
                  <a:pt x="96" y="645"/>
                </a:cubicBezTo>
                <a:cubicBezTo>
                  <a:pt x="99" y="603"/>
                  <a:pt x="149" y="582"/>
                  <a:pt x="176" y="560"/>
                </a:cubicBezTo>
                <a:cubicBezTo>
                  <a:pt x="222" y="523"/>
                  <a:pt x="269" y="487"/>
                  <a:pt x="326" y="469"/>
                </a:cubicBezTo>
                <a:cubicBezTo>
                  <a:pt x="352" y="451"/>
                  <a:pt x="390" y="442"/>
                  <a:pt x="422" y="437"/>
                </a:cubicBezTo>
                <a:cubicBezTo>
                  <a:pt x="458" y="412"/>
                  <a:pt x="508" y="406"/>
                  <a:pt x="550" y="394"/>
                </a:cubicBezTo>
                <a:cubicBezTo>
                  <a:pt x="606" y="359"/>
                  <a:pt x="671" y="338"/>
                  <a:pt x="736" y="330"/>
                </a:cubicBezTo>
                <a:cubicBezTo>
                  <a:pt x="770" y="319"/>
                  <a:pt x="746" y="329"/>
                  <a:pt x="795" y="293"/>
                </a:cubicBezTo>
                <a:cubicBezTo>
                  <a:pt x="800" y="289"/>
                  <a:pt x="811" y="282"/>
                  <a:pt x="811" y="282"/>
                </a:cubicBezTo>
                <a:cubicBezTo>
                  <a:pt x="825" y="262"/>
                  <a:pt x="827" y="248"/>
                  <a:pt x="832" y="224"/>
                </a:cubicBezTo>
                <a:cubicBezTo>
                  <a:pt x="834" y="172"/>
                  <a:pt x="811" y="110"/>
                  <a:pt x="843" y="69"/>
                </a:cubicBezTo>
                <a:cubicBezTo>
                  <a:pt x="847" y="64"/>
                  <a:pt x="854" y="62"/>
                  <a:pt x="859" y="58"/>
                </a:cubicBezTo>
                <a:cubicBezTo>
                  <a:pt x="865" y="53"/>
                  <a:pt x="870" y="48"/>
                  <a:pt x="875" y="42"/>
                </a:cubicBezTo>
                <a:cubicBezTo>
                  <a:pt x="883" y="32"/>
                  <a:pt x="885" y="17"/>
                  <a:pt x="896" y="10"/>
                </a:cubicBezTo>
                <a:cubicBezTo>
                  <a:pt x="901" y="7"/>
                  <a:pt x="912" y="0"/>
                  <a:pt x="912" y="0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1676520"/>
            <a:ext cx="2689200" cy="2185920"/>
          </a:xfrm>
          <a:custGeom>
            <a:avLst/>
            <a:gdLst/>
            <a:ahLst/>
            <a:rect l="l" t="t" r="r" b="b"/>
            <a:pathLst>
              <a:path w="1694" h="1377">
                <a:moveTo>
                  <a:pt x="4" y="337"/>
                </a:moveTo>
                <a:cubicBezTo>
                  <a:pt x="11" y="315"/>
                  <a:pt x="22" y="318"/>
                  <a:pt x="41" y="305"/>
                </a:cubicBezTo>
                <a:cubicBezTo>
                  <a:pt x="60" y="245"/>
                  <a:pt x="29" y="337"/>
                  <a:pt x="57" y="273"/>
                </a:cubicBezTo>
                <a:cubicBezTo>
                  <a:pt x="60" y="265"/>
                  <a:pt x="67" y="223"/>
                  <a:pt x="68" y="220"/>
                </a:cubicBezTo>
                <a:cubicBezTo>
                  <a:pt x="70" y="214"/>
                  <a:pt x="81" y="210"/>
                  <a:pt x="78" y="204"/>
                </a:cubicBezTo>
                <a:cubicBezTo>
                  <a:pt x="75" y="199"/>
                  <a:pt x="56" y="209"/>
                  <a:pt x="62" y="209"/>
                </a:cubicBezTo>
                <a:cubicBezTo>
                  <a:pt x="92" y="209"/>
                  <a:pt x="106" y="198"/>
                  <a:pt x="132" y="188"/>
                </a:cubicBezTo>
                <a:cubicBezTo>
                  <a:pt x="164" y="176"/>
                  <a:pt x="193" y="175"/>
                  <a:pt x="228" y="172"/>
                </a:cubicBezTo>
                <a:cubicBezTo>
                  <a:pt x="275" y="157"/>
                  <a:pt x="317" y="131"/>
                  <a:pt x="366" y="119"/>
                </a:cubicBezTo>
                <a:cubicBezTo>
                  <a:pt x="402" y="101"/>
                  <a:pt x="444" y="90"/>
                  <a:pt x="484" y="81"/>
                </a:cubicBezTo>
                <a:cubicBezTo>
                  <a:pt x="751" y="97"/>
                  <a:pt x="663" y="94"/>
                  <a:pt x="1145" y="81"/>
                </a:cubicBezTo>
                <a:cubicBezTo>
                  <a:pt x="1156" y="81"/>
                  <a:pt x="1177" y="71"/>
                  <a:pt x="1177" y="71"/>
                </a:cubicBezTo>
                <a:cubicBezTo>
                  <a:pt x="1195" y="53"/>
                  <a:pt x="1187" y="56"/>
                  <a:pt x="1209" y="49"/>
                </a:cubicBezTo>
                <a:cubicBezTo>
                  <a:pt x="1220" y="45"/>
                  <a:pt x="1241" y="39"/>
                  <a:pt x="1241" y="39"/>
                </a:cubicBezTo>
                <a:cubicBezTo>
                  <a:pt x="1270" y="19"/>
                  <a:pt x="1300" y="13"/>
                  <a:pt x="1332" y="1"/>
                </a:cubicBezTo>
                <a:cubicBezTo>
                  <a:pt x="1426" y="3"/>
                  <a:pt x="1520" y="0"/>
                  <a:pt x="1614" y="7"/>
                </a:cubicBezTo>
                <a:cubicBezTo>
                  <a:pt x="1626" y="8"/>
                  <a:pt x="1625" y="28"/>
                  <a:pt x="1630" y="39"/>
                </a:cubicBezTo>
                <a:cubicBezTo>
                  <a:pt x="1649" y="77"/>
                  <a:pt x="1659" y="126"/>
                  <a:pt x="1668" y="167"/>
                </a:cubicBezTo>
                <a:cubicBezTo>
                  <a:pt x="1669" y="186"/>
                  <a:pt x="1694" y="439"/>
                  <a:pt x="1641" y="476"/>
                </a:cubicBezTo>
                <a:cubicBezTo>
                  <a:pt x="1634" y="497"/>
                  <a:pt x="1631" y="506"/>
                  <a:pt x="1609" y="513"/>
                </a:cubicBezTo>
                <a:cubicBezTo>
                  <a:pt x="1586" y="529"/>
                  <a:pt x="1570" y="552"/>
                  <a:pt x="1550" y="572"/>
                </a:cubicBezTo>
                <a:cubicBezTo>
                  <a:pt x="1526" y="596"/>
                  <a:pt x="1520" y="633"/>
                  <a:pt x="1492" y="652"/>
                </a:cubicBezTo>
                <a:cubicBezTo>
                  <a:pt x="1482" y="672"/>
                  <a:pt x="1468" y="690"/>
                  <a:pt x="1460" y="711"/>
                </a:cubicBezTo>
                <a:cubicBezTo>
                  <a:pt x="1453" y="730"/>
                  <a:pt x="1451" y="750"/>
                  <a:pt x="1444" y="769"/>
                </a:cubicBezTo>
                <a:cubicBezTo>
                  <a:pt x="1443" y="772"/>
                  <a:pt x="1433" y="801"/>
                  <a:pt x="1428" y="801"/>
                </a:cubicBezTo>
                <a:cubicBezTo>
                  <a:pt x="1422" y="801"/>
                  <a:pt x="1438" y="786"/>
                  <a:pt x="1433" y="785"/>
                </a:cubicBezTo>
                <a:cubicBezTo>
                  <a:pt x="1418" y="782"/>
                  <a:pt x="1405" y="796"/>
                  <a:pt x="1390" y="801"/>
                </a:cubicBezTo>
                <a:cubicBezTo>
                  <a:pt x="1374" y="812"/>
                  <a:pt x="1358" y="817"/>
                  <a:pt x="1342" y="828"/>
                </a:cubicBezTo>
                <a:cubicBezTo>
                  <a:pt x="1335" y="839"/>
                  <a:pt x="1328" y="849"/>
                  <a:pt x="1321" y="860"/>
                </a:cubicBezTo>
                <a:cubicBezTo>
                  <a:pt x="1317" y="865"/>
                  <a:pt x="1310" y="876"/>
                  <a:pt x="1310" y="876"/>
                </a:cubicBezTo>
                <a:cubicBezTo>
                  <a:pt x="1304" y="896"/>
                  <a:pt x="1301" y="916"/>
                  <a:pt x="1294" y="935"/>
                </a:cubicBezTo>
                <a:cubicBezTo>
                  <a:pt x="1291" y="992"/>
                  <a:pt x="1295" y="1021"/>
                  <a:pt x="1284" y="1068"/>
                </a:cubicBezTo>
                <a:cubicBezTo>
                  <a:pt x="1276" y="1104"/>
                  <a:pt x="1252" y="1134"/>
                  <a:pt x="1241" y="1169"/>
                </a:cubicBezTo>
                <a:cubicBezTo>
                  <a:pt x="1235" y="1243"/>
                  <a:pt x="1239" y="1252"/>
                  <a:pt x="1172" y="1271"/>
                </a:cubicBezTo>
                <a:cubicBezTo>
                  <a:pt x="1164" y="1300"/>
                  <a:pt x="1144" y="1309"/>
                  <a:pt x="1118" y="1319"/>
                </a:cubicBezTo>
                <a:cubicBezTo>
                  <a:pt x="1104" y="1342"/>
                  <a:pt x="1081" y="1354"/>
                  <a:pt x="1065" y="1377"/>
                </a:cubicBezTo>
                <a:cubicBezTo>
                  <a:pt x="996" y="1375"/>
                  <a:pt x="926" y="1377"/>
                  <a:pt x="857" y="1372"/>
                </a:cubicBezTo>
                <a:cubicBezTo>
                  <a:pt x="837" y="1371"/>
                  <a:pt x="800" y="1330"/>
                  <a:pt x="782" y="1319"/>
                </a:cubicBezTo>
                <a:cubicBezTo>
                  <a:pt x="767" y="1311"/>
                  <a:pt x="734" y="1303"/>
                  <a:pt x="734" y="1303"/>
                </a:cubicBezTo>
                <a:cubicBezTo>
                  <a:pt x="567" y="1306"/>
                  <a:pt x="407" y="1318"/>
                  <a:pt x="244" y="1287"/>
                </a:cubicBezTo>
                <a:cubicBezTo>
                  <a:pt x="228" y="1276"/>
                  <a:pt x="214" y="1272"/>
                  <a:pt x="196" y="1265"/>
                </a:cubicBezTo>
                <a:cubicBezTo>
                  <a:pt x="174" y="1234"/>
                  <a:pt x="198" y="1261"/>
                  <a:pt x="164" y="1244"/>
                </a:cubicBezTo>
                <a:cubicBezTo>
                  <a:pt x="138" y="1231"/>
                  <a:pt x="123" y="1212"/>
                  <a:pt x="100" y="1196"/>
                </a:cubicBezTo>
                <a:cubicBezTo>
                  <a:pt x="85" y="1156"/>
                  <a:pt x="70" y="1109"/>
                  <a:pt x="46" y="1073"/>
                </a:cubicBezTo>
                <a:cubicBezTo>
                  <a:pt x="34" y="1036"/>
                  <a:pt x="40" y="1051"/>
                  <a:pt x="30" y="1025"/>
                </a:cubicBezTo>
                <a:cubicBezTo>
                  <a:pt x="32" y="961"/>
                  <a:pt x="8" y="861"/>
                  <a:pt x="62" y="807"/>
                </a:cubicBezTo>
                <a:cubicBezTo>
                  <a:pt x="75" y="772"/>
                  <a:pt x="66" y="731"/>
                  <a:pt x="84" y="700"/>
                </a:cubicBezTo>
                <a:cubicBezTo>
                  <a:pt x="90" y="689"/>
                  <a:pt x="98" y="679"/>
                  <a:pt x="105" y="668"/>
                </a:cubicBezTo>
                <a:cubicBezTo>
                  <a:pt x="109" y="663"/>
                  <a:pt x="116" y="652"/>
                  <a:pt x="116" y="652"/>
                </a:cubicBezTo>
                <a:cubicBezTo>
                  <a:pt x="114" y="616"/>
                  <a:pt x="124" y="487"/>
                  <a:pt x="73" y="455"/>
                </a:cubicBezTo>
                <a:cubicBezTo>
                  <a:pt x="60" y="436"/>
                  <a:pt x="60" y="425"/>
                  <a:pt x="41" y="412"/>
                </a:cubicBezTo>
                <a:cubicBezTo>
                  <a:pt x="33" y="386"/>
                  <a:pt x="7" y="378"/>
                  <a:pt x="4" y="369"/>
                </a:cubicBezTo>
                <a:cubicBezTo>
                  <a:pt x="0" y="359"/>
                  <a:pt x="4" y="348"/>
                  <a:pt x="4" y="337"/>
                </a:cubicBez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91520" y="2057400"/>
            <a:ext cx="1143000" cy="1905120"/>
          </a:xfrm>
          <a:custGeom>
            <a:avLst/>
            <a:gdLst/>
            <a:ahLst/>
            <a:rect l="l" t="t" r="r" b="b"/>
            <a:pathLst>
              <a:path w="720" h="1177">
                <a:moveTo>
                  <a:pt x="302" y="284"/>
                </a:moveTo>
                <a:cubicBezTo>
                  <a:pt x="322" y="278"/>
                  <a:pt x="333" y="264"/>
                  <a:pt x="350" y="252"/>
                </a:cubicBezTo>
                <a:cubicBezTo>
                  <a:pt x="370" y="223"/>
                  <a:pt x="350" y="245"/>
                  <a:pt x="382" y="231"/>
                </a:cubicBezTo>
                <a:cubicBezTo>
                  <a:pt x="401" y="223"/>
                  <a:pt x="414" y="204"/>
                  <a:pt x="425" y="188"/>
                </a:cubicBezTo>
                <a:cubicBezTo>
                  <a:pt x="439" y="99"/>
                  <a:pt x="518" y="68"/>
                  <a:pt x="564" y="1"/>
                </a:cubicBezTo>
                <a:cubicBezTo>
                  <a:pt x="598" y="3"/>
                  <a:pt x="632" y="0"/>
                  <a:pt x="665" y="7"/>
                </a:cubicBezTo>
                <a:cubicBezTo>
                  <a:pt x="670" y="8"/>
                  <a:pt x="667" y="18"/>
                  <a:pt x="670" y="23"/>
                </a:cubicBezTo>
                <a:cubicBezTo>
                  <a:pt x="681" y="40"/>
                  <a:pt x="708" y="71"/>
                  <a:pt x="708" y="71"/>
                </a:cubicBezTo>
                <a:cubicBezTo>
                  <a:pt x="720" y="108"/>
                  <a:pt x="720" y="144"/>
                  <a:pt x="692" y="172"/>
                </a:cubicBezTo>
                <a:cubicBezTo>
                  <a:pt x="680" y="203"/>
                  <a:pt x="652" y="225"/>
                  <a:pt x="633" y="252"/>
                </a:cubicBezTo>
                <a:cubicBezTo>
                  <a:pt x="631" y="257"/>
                  <a:pt x="630" y="263"/>
                  <a:pt x="628" y="268"/>
                </a:cubicBezTo>
                <a:cubicBezTo>
                  <a:pt x="626" y="273"/>
                  <a:pt x="624" y="279"/>
                  <a:pt x="622" y="284"/>
                </a:cubicBezTo>
                <a:cubicBezTo>
                  <a:pt x="618" y="295"/>
                  <a:pt x="612" y="316"/>
                  <a:pt x="612" y="316"/>
                </a:cubicBezTo>
                <a:cubicBezTo>
                  <a:pt x="608" y="356"/>
                  <a:pt x="617" y="381"/>
                  <a:pt x="585" y="401"/>
                </a:cubicBezTo>
                <a:cubicBezTo>
                  <a:pt x="560" y="438"/>
                  <a:pt x="571" y="422"/>
                  <a:pt x="553" y="449"/>
                </a:cubicBezTo>
                <a:cubicBezTo>
                  <a:pt x="549" y="454"/>
                  <a:pt x="542" y="465"/>
                  <a:pt x="542" y="465"/>
                </a:cubicBezTo>
                <a:cubicBezTo>
                  <a:pt x="537" y="556"/>
                  <a:pt x="547" y="643"/>
                  <a:pt x="526" y="732"/>
                </a:cubicBezTo>
                <a:cubicBezTo>
                  <a:pt x="536" y="784"/>
                  <a:pt x="538" y="759"/>
                  <a:pt x="580" y="780"/>
                </a:cubicBezTo>
                <a:cubicBezTo>
                  <a:pt x="625" y="852"/>
                  <a:pt x="651" y="991"/>
                  <a:pt x="558" y="1020"/>
                </a:cubicBezTo>
                <a:cubicBezTo>
                  <a:pt x="548" y="1027"/>
                  <a:pt x="535" y="1029"/>
                  <a:pt x="526" y="1036"/>
                </a:cubicBezTo>
                <a:cubicBezTo>
                  <a:pt x="521" y="1040"/>
                  <a:pt x="521" y="1048"/>
                  <a:pt x="516" y="1052"/>
                </a:cubicBezTo>
                <a:cubicBezTo>
                  <a:pt x="492" y="1073"/>
                  <a:pt x="466" y="1089"/>
                  <a:pt x="436" y="1095"/>
                </a:cubicBezTo>
                <a:cubicBezTo>
                  <a:pt x="399" y="1119"/>
                  <a:pt x="416" y="1112"/>
                  <a:pt x="388" y="1121"/>
                </a:cubicBezTo>
                <a:cubicBezTo>
                  <a:pt x="330" y="1161"/>
                  <a:pt x="222" y="1161"/>
                  <a:pt x="158" y="1164"/>
                </a:cubicBezTo>
                <a:cubicBezTo>
                  <a:pt x="54" y="1159"/>
                  <a:pt x="45" y="1177"/>
                  <a:pt x="14" y="1095"/>
                </a:cubicBezTo>
                <a:cubicBezTo>
                  <a:pt x="6" y="1052"/>
                  <a:pt x="0" y="1016"/>
                  <a:pt x="14" y="972"/>
                </a:cubicBezTo>
                <a:cubicBezTo>
                  <a:pt x="19" y="924"/>
                  <a:pt x="23" y="875"/>
                  <a:pt x="36" y="828"/>
                </a:cubicBezTo>
                <a:cubicBezTo>
                  <a:pt x="43" y="778"/>
                  <a:pt x="36" y="704"/>
                  <a:pt x="62" y="663"/>
                </a:cubicBezTo>
                <a:cubicBezTo>
                  <a:pt x="70" y="633"/>
                  <a:pt x="75" y="616"/>
                  <a:pt x="94" y="593"/>
                </a:cubicBezTo>
                <a:cubicBezTo>
                  <a:pt x="104" y="581"/>
                  <a:pt x="121" y="556"/>
                  <a:pt x="121" y="556"/>
                </a:cubicBezTo>
                <a:cubicBezTo>
                  <a:pt x="129" y="529"/>
                  <a:pt x="138" y="512"/>
                  <a:pt x="158" y="492"/>
                </a:cubicBezTo>
                <a:cubicBezTo>
                  <a:pt x="170" y="461"/>
                  <a:pt x="167" y="425"/>
                  <a:pt x="196" y="407"/>
                </a:cubicBezTo>
                <a:cubicBezTo>
                  <a:pt x="203" y="385"/>
                  <a:pt x="231" y="371"/>
                  <a:pt x="254" y="364"/>
                </a:cubicBezTo>
                <a:cubicBezTo>
                  <a:pt x="259" y="360"/>
                  <a:pt x="266" y="358"/>
                  <a:pt x="270" y="353"/>
                </a:cubicBezTo>
                <a:cubicBezTo>
                  <a:pt x="274" y="349"/>
                  <a:pt x="272" y="341"/>
                  <a:pt x="276" y="337"/>
                </a:cubicBezTo>
                <a:cubicBezTo>
                  <a:pt x="286" y="327"/>
                  <a:pt x="304" y="330"/>
                  <a:pt x="318" y="327"/>
                </a:cubicBezTo>
                <a:cubicBezTo>
                  <a:pt x="325" y="272"/>
                  <a:pt x="340" y="275"/>
                  <a:pt x="302" y="284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03640" y="2201760"/>
            <a:ext cx="50760" cy="109800"/>
          </a:xfrm>
          <a:custGeom>
            <a:avLst/>
            <a:gdLst/>
            <a:ahLst/>
            <a:rect l="l" t="t" r="r" b="b"/>
            <a:pathLst>
              <a:path w="32" h="69">
                <a:moveTo>
                  <a:pt x="5" y="0"/>
                </a:moveTo>
                <a:cubicBezTo>
                  <a:pt x="11" y="63"/>
                  <a:pt x="0" y="42"/>
                  <a:pt x="32" y="6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1066680"/>
            <a:ext cx="2949480" cy="2921040"/>
          </a:xfrm>
          <a:custGeom>
            <a:avLst/>
            <a:gdLst/>
            <a:ahLst/>
            <a:rect l="l" t="t" r="r" b="b"/>
            <a:pathLst>
              <a:path w="1858" h="1840">
                <a:moveTo>
                  <a:pt x="514" y="1291"/>
                </a:moveTo>
                <a:cubicBezTo>
                  <a:pt x="508" y="1125"/>
                  <a:pt x="553" y="1142"/>
                  <a:pt x="471" y="1099"/>
                </a:cubicBezTo>
                <a:cubicBezTo>
                  <a:pt x="450" y="1068"/>
                  <a:pt x="426" y="1056"/>
                  <a:pt x="396" y="1035"/>
                </a:cubicBezTo>
                <a:cubicBezTo>
                  <a:pt x="379" y="1008"/>
                  <a:pt x="349" y="982"/>
                  <a:pt x="327" y="960"/>
                </a:cubicBezTo>
                <a:cubicBezTo>
                  <a:pt x="297" y="930"/>
                  <a:pt x="306" y="919"/>
                  <a:pt x="268" y="907"/>
                </a:cubicBezTo>
                <a:cubicBezTo>
                  <a:pt x="220" y="874"/>
                  <a:pt x="281" y="919"/>
                  <a:pt x="242" y="880"/>
                </a:cubicBezTo>
                <a:cubicBezTo>
                  <a:pt x="229" y="867"/>
                  <a:pt x="206" y="860"/>
                  <a:pt x="188" y="854"/>
                </a:cubicBezTo>
                <a:cubicBezTo>
                  <a:pt x="166" y="839"/>
                  <a:pt x="148" y="825"/>
                  <a:pt x="124" y="816"/>
                </a:cubicBezTo>
                <a:cubicBezTo>
                  <a:pt x="98" y="790"/>
                  <a:pt x="116" y="805"/>
                  <a:pt x="76" y="779"/>
                </a:cubicBezTo>
                <a:cubicBezTo>
                  <a:pt x="71" y="775"/>
                  <a:pt x="60" y="768"/>
                  <a:pt x="60" y="768"/>
                </a:cubicBezTo>
                <a:cubicBezTo>
                  <a:pt x="49" y="750"/>
                  <a:pt x="35" y="737"/>
                  <a:pt x="23" y="720"/>
                </a:cubicBezTo>
                <a:cubicBezTo>
                  <a:pt x="8" y="671"/>
                  <a:pt x="0" y="610"/>
                  <a:pt x="39" y="571"/>
                </a:cubicBezTo>
                <a:cubicBezTo>
                  <a:pt x="46" y="550"/>
                  <a:pt x="59" y="536"/>
                  <a:pt x="71" y="518"/>
                </a:cubicBezTo>
                <a:cubicBezTo>
                  <a:pt x="83" y="480"/>
                  <a:pt x="66" y="523"/>
                  <a:pt x="92" y="491"/>
                </a:cubicBezTo>
                <a:cubicBezTo>
                  <a:pt x="122" y="454"/>
                  <a:pt x="68" y="495"/>
                  <a:pt x="114" y="464"/>
                </a:cubicBezTo>
                <a:cubicBezTo>
                  <a:pt x="127" y="444"/>
                  <a:pt x="136" y="442"/>
                  <a:pt x="156" y="432"/>
                </a:cubicBezTo>
                <a:cubicBezTo>
                  <a:pt x="194" y="413"/>
                  <a:pt x="233" y="383"/>
                  <a:pt x="274" y="374"/>
                </a:cubicBezTo>
                <a:cubicBezTo>
                  <a:pt x="320" y="350"/>
                  <a:pt x="355" y="315"/>
                  <a:pt x="407" y="299"/>
                </a:cubicBezTo>
                <a:cubicBezTo>
                  <a:pt x="424" y="282"/>
                  <a:pt x="478" y="238"/>
                  <a:pt x="503" y="230"/>
                </a:cubicBezTo>
                <a:cubicBezTo>
                  <a:pt x="540" y="193"/>
                  <a:pt x="580" y="167"/>
                  <a:pt x="610" y="123"/>
                </a:cubicBezTo>
                <a:cubicBezTo>
                  <a:pt x="617" y="101"/>
                  <a:pt x="633" y="86"/>
                  <a:pt x="642" y="64"/>
                </a:cubicBezTo>
                <a:cubicBezTo>
                  <a:pt x="653" y="37"/>
                  <a:pt x="648" y="18"/>
                  <a:pt x="674" y="0"/>
                </a:cubicBezTo>
                <a:cubicBezTo>
                  <a:pt x="793" y="6"/>
                  <a:pt x="912" y="9"/>
                  <a:pt x="1031" y="16"/>
                </a:cubicBezTo>
                <a:cubicBezTo>
                  <a:pt x="1043" y="20"/>
                  <a:pt x="1057" y="20"/>
                  <a:pt x="1068" y="27"/>
                </a:cubicBezTo>
                <a:cubicBezTo>
                  <a:pt x="1102" y="50"/>
                  <a:pt x="1132" y="88"/>
                  <a:pt x="1170" y="102"/>
                </a:cubicBezTo>
                <a:cubicBezTo>
                  <a:pt x="1206" y="138"/>
                  <a:pt x="1270" y="188"/>
                  <a:pt x="1319" y="203"/>
                </a:cubicBezTo>
                <a:cubicBezTo>
                  <a:pt x="1346" y="221"/>
                  <a:pt x="1379" y="235"/>
                  <a:pt x="1410" y="246"/>
                </a:cubicBezTo>
                <a:cubicBezTo>
                  <a:pt x="1463" y="286"/>
                  <a:pt x="1508" y="287"/>
                  <a:pt x="1554" y="342"/>
                </a:cubicBezTo>
                <a:cubicBezTo>
                  <a:pt x="1571" y="362"/>
                  <a:pt x="1567" y="355"/>
                  <a:pt x="1586" y="368"/>
                </a:cubicBezTo>
                <a:cubicBezTo>
                  <a:pt x="1599" y="377"/>
                  <a:pt x="1623" y="395"/>
                  <a:pt x="1623" y="395"/>
                </a:cubicBezTo>
                <a:cubicBezTo>
                  <a:pt x="1637" y="415"/>
                  <a:pt x="1649" y="421"/>
                  <a:pt x="1671" y="432"/>
                </a:cubicBezTo>
                <a:cubicBezTo>
                  <a:pt x="1705" y="466"/>
                  <a:pt x="1749" y="480"/>
                  <a:pt x="1788" y="507"/>
                </a:cubicBezTo>
                <a:cubicBezTo>
                  <a:pt x="1811" y="522"/>
                  <a:pt x="1809" y="523"/>
                  <a:pt x="1831" y="539"/>
                </a:cubicBezTo>
                <a:cubicBezTo>
                  <a:pt x="1836" y="543"/>
                  <a:pt x="1847" y="550"/>
                  <a:pt x="1847" y="550"/>
                </a:cubicBezTo>
                <a:cubicBezTo>
                  <a:pt x="1858" y="584"/>
                  <a:pt x="1832" y="632"/>
                  <a:pt x="1804" y="651"/>
                </a:cubicBezTo>
                <a:cubicBezTo>
                  <a:pt x="1792" y="690"/>
                  <a:pt x="1802" y="675"/>
                  <a:pt x="1778" y="699"/>
                </a:cubicBezTo>
                <a:cubicBezTo>
                  <a:pt x="1757" y="754"/>
                  <a:pt x="1757" y="820"/>
                  <a:pt x="1788" y="870"/>
                </a:cubicBezTo>
                <a:cubicBezTo>
                  <a:pt x="1790" y="877"/>
                  <a:pt x="1790" y="885"/>
                  <a:pt x="1794" y="891"/>
                </a:cubicBezTo>
                <a:cubicBezTo>
                  <a:pt x="1798" y="896"/>
                  <a:pt x="1806" y="897"/>
                  <a:pt x="1810" y="902"/>
                </a:cubicBezTo>
                <a:cubicBezTo>
                  <a:pt x="1818" y="913"/>
                  <a:pt x="1821" y="941"/>
                  <a:pt x="1826" y="955"/>
                </a:cubicBezTo>
                <a:cubicBezTo>
                  <a:pt x="1820" y="1218"/>
                  <a:pt x="1830" y="1160"/>
                  <a:pt x="1794" y="1312"/>
                </a:cubicBezTo>
                <a:cubicBezTo>
                  <a:pt x="1792" y="1444"/>
                  <a:pt x="1803" y="1576"/>
                  <a:pt x="1788" y="1707"/>
                </a:cubicBezTo>
                <a:cubicBezTo>
                  <a:pt x="1785" y="1736"/>
                  <a:pt x="1653" y="1749"/>
                  <a:pt x="1644" y="1750"/>
                </a:cubicBezTo>
                <a:cubicBezTo>
                  <a:pt x="1600" y="1761"/>
                  <a:pt x="1562" y="1767"/>
                  <a:pt x="1516" y="1771"/>
                </a:cubicBezTo>
                <a:cubicBezTo>
                  <a:pt x="1461" y="1784"/>
                  <a:pt x="1414" y="1783"/>
                  <a:pt x="1356" y="1787"/>
                </a:cubicBezTo>
                <a:cubicBezTo>
                  <a:pt x="1319" y="1790"/>
                  <a:pt x="1244" y="1798"/>
                  <a:pt x="1244" y="1798"/>
                </a:cubicBezTo>
                <a:cubicBezTo>
                  <a:pt x="1209" y="1806"/>
                  <a:pt x="1173" y="1813"/>
                  <a:pt x="1138" y="1819"/>
                </a:cubicBezTo>
                <a:cubicBezTo>
                  <a:pt x="1051" y="1818"/>
                  <a:pt x="868" y="1840"/>
                  <a:pt x="748" y="1803"/>
                </a:cubicBezTo>
                <a:cubicBezTo>
                  <a:pt x="704" y="1773"/>
                  <a:pt x="650" y="1770"/>
                  <a:pt x="599" y="1766"/>
                </a:cubicBezTo>
                <a:cubicBezTo>
                  <a:pt x="588" y="1759"/>
                  <a:pt x="578" y="1751"/>
                  <a:pt x="567" y="1744"/>
                </a:cubicBezTo>
                <a:cubicBezTo>
                  <a:pt x="562" y="1741"/>
                  <a:pt x="566" y="1732"/>
                  <a:pt x="562" y="1728"/>
                </a:cubicBezTo>
                <a:cubicBezTo>
                  <a:pt x="558" y="1723"/>
                  <a:pt x="551" y="1721"/>
                  <a:pt x="546" y="1718"/>
                </a:cubicBezTo>
                <a:cubicBezTo>
                  <a:pt x="515" y="1655"/>
                  <a:pt x="555" y="1727"/>
                  <a:pt x="519" y="1686"/>
                </a:cubicBezTo>
                <a:cubicBezTo>
                  <a:pt x="501" y="1665"/>
                  <a:pt x="495" y="1647"/>
                  <a:pt x="487" y="1622"/>
                </a:cubicBezTo>
                <a:cubicBezTo>
                  <a:pt x="490" y="1552"/>
                  <a:pt x="479" y="1534"/>
                  <a:pt x="508" y="1488"/>
                </a:cubicBezTo>
                <a:cubicBezTo>
                  <a:pt x="512" y="1457"/>
                  <a:pt x="551" y="1210"/>
                  <a:pt x="514" y="1291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514600"/>
            <a:ext cx="2573280" cy="2517840"/>
          </a:xfrm>
          <a:custGeom>
            <a:avLst/>
            <a:gdLst/>
            <a:ahLst/>
            <a:rect l="l" t="t" r="r" b="b"/>
            <a:pathLst>
              <a:path w="1621" h="1586">
                <a:moveTo>
                  <a:pt x="1463" y="205"/>
                </a:moveTo>
                <a:cubicBezTo>
                  <a:pt x="1438" y="180"/>
                  <a:pt x="1401" y="173"/>
                  <a:pt x="1367" y="162"/>
                </a:cubicBezTo>
                <a:cubicBezTo>
                  <a:pt x="1316" y="127"/>
                  <a:pt x="1235" y="141"/>
                  <a:pt x="1175" y="135"/>
                </a:cubicBezTo>
                <a:cubicBezTo>
                  <a:pt x="1131" y="125"/>
                  <a:pt x="1083" y="115"/>
                  <a:pt x="1042" y="98"/>
                </a:cubicBezTo>
                <a:cubicBezTo>
                  <a:pt x="1006" y="83"/>
                  <a:pt x="954" y="58"/>
                  <a:pt x="914" y="55"/>
                </a:cubicBezTo>
                <a:cubicBezTo>
                  <a:pt x="837" y="50"/>
                  <a:pt x="761" y="48"/>
                  <a:pt x="684" y="45"/>
                </a:cubicBezTo>
                <a:cubicBezTo>
                  <a:pt x="668" y="43"/>
                  <a:pt x="652" y="43"/>
                  <a:pt x="636" y="39"/>
                </a:cubicBezTo>
                <a:cubicBezTo>
                  <a:pt x="606" y="31"/>
                  <a:pt x="578" y="10"/>
                  <a:pt x="546" y="2"/>
                </a:cubicBezTo>
                <a:cubicBezTo>
                  <a:pt x="487" y="4"/>
                  <a:pt x="428" y="0"/>
                  <a:pt x="370" y="7"/>
                </a:cubicBezTo>
                <a:cubicBezTo>
                  <a:pt x="364" y="8"/>
                  <a:pt x="376" y="18"/>
                  <a:pt x="375" y="23"/>
                </a:cubicBezTo>
                <a:cubicBezTo>
                  <a:pt x="374" y="29"/>
                  <a:pt x="369" y="35"/>
                  <a:pt x="364" y="39"/>
                </a:cubicBezTo>
                <a:cubicBezTo>
                  <a:pt x="338" y="60"/>
                  <a:pt x="259" y="52"/>
                  <a:pt x="226" y="55"/>
                </a:cubicBezTo>
                <a:cubicBezTo>
                  <a:pt x="226" y="55"/>
                  <a:pt x="191" y="64"/>
                  <a:pt x="188" y="66"/>
                </a:cubicBezTo>
                <a:cubicBezTo>
                  <a:pt x="177" y="72"/>
                  <a:pt x="156" y="87"/>
                  <a:pt x="156" y="87"/>
                </a:cubicBezTo>
                <a:cubicBezTo>
                  <a:pt x="143" y="129"/>
                  <a:pt x="145" y="131"/>
                  <a:pt x="114" y="162"/>
                </a:cubicBezTo>
                <a:cubicBezTo>
                  <a:pt x="108" y="168"/>
                  <a:pt x="103" y="176"/>
                  <a:pt x="98" y="183"/>
                </a:cubicBezTo>
                <a:cubicBezTo>
                  <a:pt x="90" y="194"/>
                  <a:pt x="76" y="215"/>
                  <a:pt x="76" y="215"/>
                </a:cubicBezTo>
                <a:cubicBezTo>
                  <a:pt x="67" y="245"/>
                  <a:pt x="55" y="272"/>
                  <a:pt x="44" y="301"/>
                </a:cubicBezTo>
                <a:cubicBezTo>
                  <a:pt x="40" y="311"/>
                  <a:pt x="34" y="333"/>
                  <a:pt x="34" y="333"/>
                </a:cubicBezTo>
                <a:cubicBezTo>
                  <a:pt x="39" y="430"/>
                  <a:pt x="51" y="529"/>
                  <a:pt x="39" y="626"/>
                </a:cubicBezTo>
                <a:cubicBezTo>
                  <a:pt x="35" y="657"/>
                  <a:pt x="18" y="717"/>
                  <a:pt x="18" y="717"/>
                </a:cubicBezTo>
                <a:cubicBezTo>
                  <a:pt x="26" y="928"/>
                  <a:pt x="0" y="1144"/>
                  <a:pt x="34" y="1351"/>
                </a:cubicBezTo>
                <a:cubicBezTo>
                  <a:pt x="35" y="1377"/>
                  <a:pt x="25" y="1485"/>
                  <a:pt x="66" y="1517"/>
                </a:cubicBezTo>
                <a:cubicBezTo>
                  <a:pt x="84" y="1531"/>
                  <a:pt x="112" y="1525"/>
                  <a:pt x="135" y="1527"/>
                </a:cubicBezTo>
                <a:cubicBezTo>
                  <a:pt x="181" y="1560"/>
                  <a:pt x="169" y="1539"/>
                  <a:pt x="178" y="1586"/>
                </a:cubicBezTo>
                <a:cubicBezTo>
                  <a:pt x="185" y="1575"/>
                  <a:pt x="192" y="1565"/>
                  <a:pt x="199" y="1554"/>
                </a:cubicBezTo>
                <a:cubicBezTo>
                  <a:pt x="203" y="1549"/>
                  <a:pt x="210" y="1538"/>
                  <a:pt x="210" y="1538"/>
                </a:cubicBezTo>
                <a:cubicBezTo>
                  <a:pt x="222" y="1500"/>
                  <a:pt x="214" y="1515"/>
                  <a:pt x="231" y="1490"/>
                </a:cubicBezTo>
                <a:cubicBezTo>
                  <a:pt x="253" y="1419"/>
                  <a:pt x="371" y="1429"/>
                  <a:pt x="423" y="1426"/>
                </a:cubicBezTo>
                <a:cubicBezTo>
                  <a:pt x="453" y="1420"/>
                  <a:pt x="484" y="1421"/>
                  <a:pt x="514" y="1415"/>
                </a:cubicBezTo>
                <a:cubicBezTo>
                  <a:pt x="527" y="1412"/>
                  <a:pt x="538" y="1403"/>
                  <a:pt x="551" y="1399"/>
                </a:cubicBezTo>
                <a:cubicBezTo>
                  <a:pt x="590" y="1374"/>
                  <a:pt x="572" y="1384"/>
                  <a:pt x="604" y="1367"/>
                </a:cubicBezTo>
                <a:cubicBezTo>
                  <a:pt x="622" y="1340"/>
                  <a:pt x="609" y="1355"/>
                  <a:pt x="647" y="1330"/>
                </a:cubicBezTo>
                <a:cubicBezTo>
                  <a:pt x="658" y="1323"/>
                  <a:pt x="679" y="1309"/>
                  <a:pt x="679" y="1309"/>
                </a:cubicBezTo>
                <a:cubicBezTo>
                  <a:pt x="710" y="1266"/>
                  <a:pt x="743" y="1206"/>
                  <a:pt x="802" y="1197"/>
                </a:cubicBezTo>
                <a:cubicBezTo>
                  <a:pt x="821" y="1194"/>
                  <a:pt x="841" y="1193"/>
                  <a:pt x="860" y="1191"/>
                </a:cubicBezTo>
                <a:cubicBezTo>
                  <a:pt x="878" y="1180"/>
                  <a:pt x="883" y="1166"/>
                  <a:pt x="903" y="1159"/>
                </a:cubicBezTo>
                <a:cubicBezTo>
                  <a:pt x="924" y="1129"/>
                  <a:pt x="902" y="1153"/>
                  <a:pt x="930" y="1138"/>
                </a:cubicBezTo>
                <a:cubicBezTo>
                  <a:pt x="941" y="1132"/>
                  <a:pt x="962" y="1117"/>
                  <a:pt x="962" y="1117"/>
                </a:cubicBezTo>
                <a:cubicBezTo>
                  <a:pt x="981" y="1033"/>
                  <a:pt x="1076" y="1071"/>
                  <a:pt x="1154" y="1069"/>
                </a:cubicBezTo>
                <a:cubicBezTo>
                  <a:pt x="1198" y="1056"/>
                  <a:pt x="1178" y="1061"/>
                  <a:pt x="1212" y="1053"/>
                </a:cubicBezTo>
                <a:cubicBezTo>
                  <a:pt x="1231" y="1040"/>
                  <a:pt x="1249" y="1037"/>
                  <a:pt x="1271" y="1031"/>
                </a:cubicBezTo>
                <a:cubicBezTo>
                  <a:pt x="1285" y="1011"/>
                  <a:pt x="1296" y="1012"/>
                  <a:pt x="1319" y="1005"/>
                </a:cubicBezTo>
                <a:cubicBezTo>
                  <a:pt x="1359" y="944"/>
                  <a:pt x="1392" y="930"/>
                  <a:pt x="1458" y="909"/>
                </a:cubicBezTo>
                <a:cubicBezTo>
                  <a:pt x="1469" y="884"/>
                  <a:pt x="1492" y="860"/>
                  <a:pt x="1516" y="845"/>
                </a:cubicBezTo>
                <a:cubicBezTo>
                  <a:pt x="1527" y="815"/>
                  <a:pt x="1533" y="790"/>
                  <a:pt x="1538" y="759"/>
                </a:cubicBezTo>
                <a:cubicBezTo>
                  <a:pt x="1541" y="673"/>
                  <a:pt x="1537" y="632"/>
                  <a:pt x="1559" y="562"/>
                </a:cubicBezTo>
                <a:cubicBezTo>
                  <a:pt x="1571" y="473"/>
                  <a:pt x="1621" y="336"/>
                  <a:pt x="1538" y="279"/>
                </a:cubicBezTo>
                <a:cubicBezTo>
                  <a:pt x="1522" y="256"/>
                  <a:pt x="1495" y="230"/>
                  <a:pt x="1468" y="221"/>
                </a:cubicBezTo>
                <a:cubicBezTo>
                  <a:pt x="1449" y="202"/>
                  <a:pt x="1444" y="205"/>
                  <a:pt x="1463" y="205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124080"/>
            <a:ext cx="187200" cy="1371600"/>
          </a:xfrm>
          <a:custGeom>
            <a:avLst/>
            <a:gdLst/>
            <a:ahLst/>
            <a:rect l="l" t="t" r="r" b="b"/>
            <a:pathLst>
              <a:path w="70" h="816">
                <a:moveTo>
                  <a:pt x="0" y="0"/>
                </a:moveTo>
                <a:cubicBezTo>
                  <a:pt x="22" y="7"/>
                  <a:pt x="30" y="18"/>
                  <a:pt x="43" y="37"/>
                </a:cubicBezTo>
                <a:cubicBezTo>
                  <a:pt x="70" y="123"/>
                  <a:pt x="62" y="92"/>
                  <a:pt x="43" y="282"/>
                </a:cubicBezTo>
                <a:cubicBezTo>
                  <a:pt x="41" y="301"/>
                  <a:pt x="11" y="330"/>
                  <a:pt x="11" y="330"/>
                </a:cubicBezTo>
                <a:cubicBezTo>
                  <a:pt x="13" y="407"/>
                  <a:pt x="13" y="483"/>
                  <a:pt x="16" y="560"/>
                </a:cubicBezTo>
                <a:cubicBezTo>
                  <a:pt x="16" y="566"/>
                  <a:pt x="22" y="570"/>
                  <a:pt x="22" y="576"/>
                </a:cubicBezTo>
                <a:cubicBezTo>
                  <a:pt x="25" y="617"/>
                  <a:pt x="24" y="657"/>
                  <a:pt x="27" y="698"/>
                </a:cubicBezTo>
                <a:cubicBezTo>
                  <a:pt x="29" y="722"/>
                  <a:pt x="48" y="768"/>
                  <a:pt x="48" y="768"/>
                </a:cubicBezTo>
                <a:cubicBezTo>
                  <a:pt x="50" y="784"/>
                  <a:pt x="54" y="816"/>
                  <a:pt x="54" y="816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320" y="6095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ro-RO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Indică râurile care delimitează grupele de munţi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7899800">
            <a:off x="7033320" y="2742480"/>
            <a:ext cx="19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-ţii Buceg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-ţii Făgăraş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48120" y="1981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2133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-ţii Parâng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0112000">
            <a:off x="609480" y="3352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-ţii Retezat- Gode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8229600" y="63244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295280" y="3808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Carpaţii Occid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219320"/>
            <a:ext cx="845820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Întind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 închid arcul muntos, de la Dunăre, până la văile râurilor Barcău şi 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omeş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Grupe</a:t>
            </a:r>
            <a:r>
              <a:rPr b="1" lang="ro-RO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unţii Banatulu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între Dunăre şi Timiş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unţii Poiana Ruscă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între Valea Mureşului şi Valea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Bistr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unţii Apuseni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între Valea Mureşului şi Valea Barcăulu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Bogăţii: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ăduri, cărbuni, fier, aur,marmur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Obiective turistice: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heile Turzi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Peştera Urşilor (M-ţii Bihorului)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eştera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cărişoara (prez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ţ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unui gheţar)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âna de Val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3794"/>
                </a:moveTo>
                <a:lnTo>
                  <a:pt x="32192" y="10800"/>
                </a:lnTo>
                <a:lnTo>
                  <a:pt x="1817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752480" y="609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Carpaţii  Occid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495680"/>
            <a:ext cx="1089000" cy="1347840"/>
          </a:xfrm>
          <a:custGeom>
            <a:avLst/>
            <a:gdLst/>
            <a:ahLst/>
            <a:rect l="l" t="t" r="r" b="b"/>
            <a:pathLst>
              <a:path w="686" h="849">
                <a:moveTo>
                  <a:pt x="635" y="667"/>
                </a:moveTo>
                <a:cubicBezTo>
                  <a:pt x="624" y="674"/>
                  <a:pt x="607" y="676"/>
                  <a:pt x="603" y="688"/>
                </a:cubicBezTo>
                <a:cubicBezTo>
                  <a:pt x="601" y="693"/>
                  <a:pt x="602" y="700"/>
                  <a:pt x="598" y="704"/>
                </a:cubicBezTo>
                <a:cubicBezTo>
                  <a:pt x="588" y="712"/>
                  <a:pt x="573" y="711"/>
                  <a:pt x="560" y="715"/>
                </a:cubicBezTo>
                <a:cubicBezTo>
                  <a:pt x="551" y="730"/>
                  <a:pt x="543" y="745"/>
                  <a:pt x="539" y="763"/>
                </a:cubicBezTo>
                <a:cubicBezTo>
                  <a:pt x="537" y="774"/>
                  <a:pt x="539" y="785"/>
                  <a:pt x="534" y="795"/>
                </a:cubicBezTo>
                <a:cubicBezTo>
                  <a:pt x="531" y="801"/>
                  <a:pt x="523" y="802"/>
                  <a:pt x="518" y="806"/>
                </a:cubicBezTo>
                <a:cubicBezTo>
                  <a:pt x="489" y="849"/>
                  <a:pt x="491" y="838"/>
                  <a:pt x="427" y="832"/>
                </a:cubicBezTo>
                <a:cubicBezTo>
                  <a:pt x="420" y="811"/>
                  <a:pt x="425" y="795"/>
                  <a:pt x="432" y="774"/>
                </a:cubicBezTo>
                <a:cubicBezTo>
                  <a:pt x="424" y="709"/>
                  <a:pt x="420" y="721"/>
                  <a:pt x="352" y="715"/>
                </a:cubicBezTo>
                <a:cubicBezTo>
                  <a:pt x="270" y="689"/>
                  <a:pt x="337" y="696"/>
                  <a:pt x="192" y="688"/>
                </a:cubicBezTo>
                <a:cubicBezTo>
                  <a:pt x="153" y="676"/>
                  <a:pt x="133" y="638"/>
                  <a:pt x="96" y="624"/>
                </a:cubicBezTo>
                <a:cubicBezTo>
                  <a:pt x="75" y="590"/>
                  <a:pt x="35" y="589"/>
                  <a:pt x="0" y="576"/>
                </a:cubicBezTo>
                <a:cubicBezTo>
                  <a:pt x="25" y="510"/>
                  <a:pt x="117" y="581"/>
                  <a:pt x="171" y="544"/>
                </a:cubicBezTo>
                <a:cubicBezTo>
                  <a:pt x="176" y="524"/>
                  <a:pt x="172" y="521"/>
                  <a:pt x="192" y="512"/>
                </a:cubicBezTo>
                <a:cubicBezTo>
                  <a:pt x="202" y="508"/>
                  <a:pt x="224" y="502"/>
                  <a:pt x="224" y="502"/>
                </a:cubicBezTo>
                <a:cubicBezTo>
                  <a:pt x="241" y="478"/>
                  <a:pt x="261" y="456"/>
                  <a:pt x="278" y="432"/>
                </a:cubicBezTo>
                <a:cubicBezTo>
                  <a:pt x="281" y="421"/>
                  <a:pt x="301" y="374"/>
                  <a:pt x="283" y="363"/>
                </a:cubicBezTo>
                <a:cubicBezTo>
                  <a:pt x="265" y="352"/>
                  <a:pt x="240" y="360"/>
                  <a:pt x="219" y="358"/>
                </a:cubicBezTo>
                <a:cubicBezTo>
                  <a:pt x="215" y="353"/>
                  <a:pt x="209" y="348"/>
                  <a:pt x="208" y="342"/>
                </a:cubicBezTo>
                <a:cubicBezTo>
                  <a:pt x="206" y="329"/>
                  <a:pt x="221" y="293"/>
                  <a:pt x="235" y="288"/>
                </a:cubicBezTo>
                <a:cubicBezTo>
                  <a:pt x="250" y="283"/>
                  <a:pt x="267" y="285"/>
                  <a:pt x="283" y="283"/>
                </a:cubicBezTo>
                <a:cubicBezTo>
                  <a:pt x="275" y="208"/>
                  <a:pt x="268" y="230"/>
                  <a:pt x="182" y="224"/>
                </a:cubicBezTo>
                <a:cubicBezTo>
                  <a:pt x="166" y="182"/>
                  <a:pt x="172" y="147"/>
                  <a:pt x="214" y="134"/>
                </a:cubicBezTo>
                <a:cubicBezTo>
                  <a:pt x="241" y="90"/>
                  <a:pt x="209" y="29"/>
                  <a:pt x="251" y="0"/>
                </a:cubicBezTo>
                <a:cubicBezTo>
                  <a:pt x="313" y="5"/>
                  <a:pt x="370" y="17"/>
                  <a:pt x="432" y="22"/>
                </a:cubicBezTo>
                <a:cubicBezTo>
                  <a:pt x="478" y="36"/>
                  <a:pt x="453" y="30"/>
                  <a:pt x="507" y="38"/>
                </a:cubicBezTo>
                <a:cubicBezTo>
                  <a:pt x="523" y="48"/>
                  <a:pt x="537" y="53"/>
                  <a:pt x="555" y="59"/>
                </a:cubicBezTo>
                <a:cubicBezTo>
                  <a:pt x="560" y="64"/>
                  <a:pt x="565" y="71"/>
                  <a:pt x="571" y="75"/>
                </a:cubicBezTo>
                <a:cubicBezTo>
                  <a:pt x="576" y="78"/>
                  <a:pt x="586" y="74"/>
                  <a:pt x="587" y="80"/>
                </a:cubicBezTo>
                <a:cubicBezTo>
                  <a:pt x="600" y="159"/>
                  <a:pt x="588" y="208"/>
                  <a:pt x="614" y="278"/>
                </a:cubicBezTo>
                <a:cubicBezTo>
                  <a:pt x="619" y="334"/>
                  <a:pt x="630" y="385"/>
                  <a:pt x="662" y="432"/>
                </a:cubicBezTo>
                <a:cubicBezTo>
                  <a:pt x="673" y="466"/>
                  <a:pt x="686" y="515"/>
                  <a:pt x="646" y="528"/>
                </a:cubicBezTo>
                <a:cubicBezTo>
                  <a:pt x="630" y="571"/>
                  <a:pt x="638" y="544"/>
                  <a:pt x="646" y="635"/>
                </a:cubicBezTo>
                <a:cubicBezTo>
                  <a:pt x="647" y="644"/>
                  <a:pt x="654" y="653"/>
                  <a:pt x="651" y="662"/>
                </a:cubicBezTo>
                <a:cubicBezTo>
                  <a:pt x="649" y="667"/>
                  <a:pt x="640" y="665"/>
                  <a:pt x="635" y="66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87520" y="3711600"/>
            <a:ext cx="987480" cy="741240"/>
          </a:xfrm>
          <a:custGeom>
            <a:avLst/>
            <a:gdLst/>
            <a:ahLst/>
            <a:rect l="l" t="t" r="r" b="b"/>
            <a:pathLst>
              <a:path w="622" h="467">
                <a:moveTo>
                  <a:pt x="91" y="377"/>
                </a:moveTo>
                <a:cubicBezTo>
                  <a:pt x="74" y="365"/>
                  <a:pt x="60" y="351"/>
                  <a:pt x="43" y="339"/>
                </a:cubicBezTo>
                <a:cubicBezTo>
                  <a:pt x="39" y="334"/>
                  <a:pt x="37" y="327"/>
                  <a:pt x="32" y="323"/>
                </a:cubicBezTo>
                <a:cubicBezTo>
                  <a:pt x="28" y="320"/>
                  <a:pt x="20" y="322"/>
                  <a:pt x="16" y="318"/>
                </a:cubicBezTo>
                <a:cubicBezTo>
                  <a:pt x="8" y="310"/>
                  <a:pt x="9" y="297"/>
                  <a:pt x="5" y="286"/>
                </a:cubicBezTo>
                <a:cubicBezTo>
                  <a:pt x="15" y="243"/>
                  <a:pt x="28" y="254"/>
                  <a:pt x="75" y="249"/>
                </a:cubicBezTo>
                <a:cubicBezTo>
                  <a:pt x="82" y="182"/>
                  <a:pt x="78" y="187"/>
                  <a:pt x="144" y="195"/>
                </a:cubicBezTo>
                <a:cubicBezTo>
                  <a:pt x="173" y="206"/>
                  <a:pt x="198" y="220"/>
                  <a:pt x="229" y="227"/>
                </a:cubicBezTo>
                <a:cubicBezTo>
                  <a:pt x="264" y="216"/>
                  <a:pt x="238" y="179"/>
                  <a:pt x="224" y="158"/>
                </a:cubicBezTo>
                <a:cubicBezTo>
                  <a:pt x="222" y="153"/>
                  <a:pt x="216" y="146"/>
                  <a:pt x="219" y="142"/>
                </a:cubicBezTo>
                <a:cubicBezTo>
                  <a:pt x="221" y="140"/>
                  <a:pt x="262" y="129"/>
                  <a:pt x="272" y="126"/>
                </a:cubicBezTo>
                <a:cubicBezTo>
                  <a:pt x="243" y="85"/>
                  <a:pt x="211" y="93"/>
                  <a:pt x="160" y="89"/>
                </a:cubicBezTo>
                <a:cubicBezTo>
                  <a:pt x="140" y="69"/>
                  <a:pt x="120" y="66"/>
                  <a:pt x="149" y="46"/>
                </a:cubicBezTo>
                <a:cubicBezTo>
                  <a:pt x="181" y="0"/>
                  <a:pt x="237" y="28"/>
                  <a:pt x="293" y="30"/>
                </a:cubicBezTo>
                <a:cubicBezTo>
                  <a:pt x="307" y="40"/>
                  <a:pt x="341" y="51"/>
                  <a:pt x="341" y="51"/>
                </a:cubicBezTo>
                <a:cubicBezTo>
                  <a:pt x="356" y="62"/>
                  <a:pt x="364" y="81"/>
                  <a:pt x="384" y="83"/>
                </a:cubicBezTo>
                <a:cubicBezTo>
                  <a:pt x="441" y="88"/>
                  <a:pt x="555" y="94"/>
                  <a:pt x="555" y="94"/>
                </a:cubicBezTo>
                <a:cubicBezTo>
                  <a:pt x="564" y="96"/>
                  <a:pt x="578" y="91"/>
                  <a:pt x="581" y="99"/>
                </a:cubicBezTo>
                <a:cubicBezTo>
                  <a:pt x="590" y="121"/>
                  <a:pt x="574" y="165"/>
                  <a:pt x="560" y="185"/>
                </a:cubicBezTo>
                <a:cubicBezTo>
                  <a:pt x="553" y="208"/>
                  <a:pt x="547" y="229"/>
                  <a:pt x="533" y="249"/>
                </a:cubicBezTo>
                <a:cubicBezTo>
                  <a:pt x="526" y="271"/>
                  <a:pt x="526" y="279"/>
                  <a:pt x="549" y="286"/>
                </a:cubicBezTo>
                <a:cubicBezTo>
                  <a:pt x="566" y="298"/>
                  <a:pt x="574" y="312"/>
                  <a:pt x="592" y="323"/>
                </a:cubicBezTo>
                <a:cubicBezTo>
                  <a:pt x="622" y="367"/>
                  <a:pt x="592" y="406"/>
                  <a:pt x="549" y="419"/>
                </a:cubicBezTo>
                <a:cubicBezTo>
                  <a:pt x="462" y="417"/>
                  <a:pt x="375" y="421"/>
                  <a:pt x="288" y="414"/>
                </a:cubicBezTo>
                <a:cubicBezTo>
                  <a:pt x="282" y="414"/>
                  <a:pt x="283" y="399"/>
                  <a:pt x="277" y="398"/>
                </a:cubicBezTo>
                <a:cubicBezTo>
                  <a:pt x="260" y="395"/>
                  <a:pt x="242" y="401"/>
                  <a:pt x="224" y="403"/>
                </a:cubicBezTo>
                <a:cubicBezTo>
                  <a:pt x="190" y="426"/>
                  <a:pt x="189" y="435"/>
                  <a:pt x="165" y="467"/>
                </a:cubicBezTo>
                <a:cubicBezTo>
                  <a:pt x="118" y="452"/>
                  <a:pt x="121" y="403"/>
                  <a:pt x="80" y="377"/>
                </a:cubicBezTo>
                <a:cubicBezTo>
                  <a:pt x="67" y="358"/>
                  <a:pt x="56" y="357"/>
                  <a:pt x="37" y="345"/>
                </a:cubicBezTo>
                <a:cubicBezTo>
                  <a:pt x="34" y="340"/>
                  <a:pt x="31" y="334"/>
                  <a:pt x="27" y="329"/>
                </a:cubicBezTo>
                <a:cubicBezTo>
                  <a:pt x="23" y="324"/>
                  <a:pt x="15" y="323"/>
                  <a:pt x="11" y="318"/>
                </a:cubicBezTo>
                <a:cubicBezTo>
                  <a:pt x="7" y="314"/>
                  <a:pt x="8" y="307"/>
                  <a:pt x="5" y="302"/>
                </a:cubicBezTo>
                <a:cubicBezTo>
                  <a:pt x="4" y="300"/>
                  <a:pt x="2" y="299"/>
                  <a:pt x="0" y="297"/>
                </a:cubicBez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4640" y="2006640"/>
            <a:ext cx="2376360" cy="1846080"/>
          </a:xfrm>
          <a:custGeom>
            <a:avLst/>
            <a:gdLst/>
            <a:ahLst/>
            <a:rect l="l" t="t" r="r" b="b"/>
            <a:pathLst>
              <a:path w="1497" h="1163">
                <a:moveTo>
                  <a:pt x="619" y="1019"/>
                </a:moveTo>
                <a:cubicBezTo>
                  <a:pt x="604" y="995"/>
                  <a:pt x="588" y="975"/>
                  <a:pt x="561" y="965"/>
                </a:cubicBezTo>
                <a:cubicBezTo>
                  <a:pt x="545" y="971"/>
                  <a:pt x="513" y="981"/>
                  <a:pt x="513" y="981"/>
                </a:cubicBezTo>
                <a:cubicBezTo>
                  <a:pt x="506" y="992"/>
                  <a:pt x="498" y="1002"/>
                  <a:pt x="491" y="1013"/>
                </a:cubicBezTo>
                <a:cubicBezTo>
                  <a:pt x="488" y="1018"/>
                  <a:pt x="481" y="1029"/>
                  <a:pt x="481" y="1029"/>
                </a:cubicBezTo>
                <a:cubicBezTo>
                  <a:pt x="351" y="1022"/>
                  <a:pt x="409" y="1038"/>
                  <a:pt x="342" y="992"/>
                </a:cubicBezTo>
                <a:cubicBezTo>
                  <a:pt x="311" y="894"/>
                  <a:pt x="250" y="942"/>
                  <a:pt x="134" y="939"/>
                </a:cubicBezTo>
                <a:cubicBezTo>
                  <a:pt x="114" y="931"/>
                  <a:pt x="96" y="923"/>
                  <a:pt x="75" y="917"/>
                </a:cubicBezTo>
                <a:cubicBezTo>
                  <a:pt x="52" y="903"/>
                  <a:pt x="40" y="880"/>
                  <a:pt x="17" y="864"/>
                </a:cubicBezTo>
                <a:cubicBezTo>
                  <a:pt x="10" y="846"/>
                  <a:pt x="0" y="830"/>
                  <a:pt x="11" y="811"/>
                </a:cubicBezTo>
                <a:cubicBezTo>
                  <a:pt x="30" y="778"/>
                  <a:pt x="140" y="766"/>
                  <a:pt x="171" y="763"/>
                </a:cubicBezTo>
                <a:cubicBezTo>
                  <a:pt x="208" y="749"/>
                  <a:pt x="238" y="770"/>
                  <a:pt x="273" y="773"/>
                </a:cubicBezTo>
                <a:cubicBezTo>
                  <a:pt x="316" y="776"/>
                  <a:pt x="358" y="777"/>
                  <a:pt x="401" y="779"/>
                </a:cubicBezTo>
                <a:cubicBezTo>
                  <a:pt x="438" y="791"/>
                  <a:pt x="423" y="785"/>
                  <a:pt x="449" y="795"/>
                </a:cubicBezTo>
                <a:cubicBezTo>
                  <a:pt x="486" y="793"/>
                  <a:pt x="525" y="798"/>
                  <a:pt x="561" y="789"/>
                </a:cubicBezTo>
                <a:cubicBezTo>
                  <a:pt x="568" y="787"/>
                  <a:pt x="559" y="774"/>
                  <a:pt x="555" y="768"/>
                </a:cubicBezTo>
                <a:cubicBezTo>
                  <a:pt x="546" y="753"/>
                  <a:pt x="527" y="735"/>
                  <a:pt x="513" y="725"/>
                </a:cubicBezTo>
                <a:cubicBezTo>
                  <a:pt x="499" y="697"/>
                  <a:pt x="485" y="679"/>
                  <a:pt x="459" y="661"/>
                </a:cubicBezTo>
                <a:cubicBezTo>
                  <a:pt x="434" y="624"/>
                  <a:pt x="445" y="640"/>
                  <a:pt x="427" y="613"/>
                </a:cubicBezTo>
                <a:cubicBezTo>
                  <a:pt x="419" y="602"/>
                  <a:pt x="403" y="598"/>
                  <a:pt x="395" y="587"/>
                </a:cubicBezTo>
                <a:cubicBezTo>
                  <a:pt x="387" y="577"/>
                  <a:pt x="374" y="555"/>
                  <a:pt x="374" y="555"/>
                </a:cubicBezTo>
                <a:cubicBezTo>
                  <a:pt x="362" y="516"/>
                  <a:pt x="345" y="457"/>
                  <a:pt x="390" y="443"/>
                </a:cubicBezTo>
                <a:cubicBezTo>
                  <a:pt x="442" y="446"/>
                  <a:pt x="485" y="449"/>
                  <a:pt x="534" y="464"/>
                </a:cubicBezTo>
                <a:cubicBezTo>
                  <a:pt x="536" y="469"/>
                  <a:pt x="535" y="477"/>
                  <a:pt x="539" y="480"/>
                </a:cubicBezTo>
                <a:cubicBezTo>
                  <a:pt x="545" y="485"/>
                  <a:pt x="581" y="494"/>
                  <a:pt x="593" y="501"/>
                </a:cubicBezTo>
                <a:cubicBezTo>
                  <a:pt x="617" y="463"/>
                  <a:pt x="586" y="413"/>
                  <a:pt x="577" y="373"/>
                </a:cubicBezTo>
                <a:cubicBezTo>
                  <a:pt x="575" y="350"/>
                  <a:pt x="588" y="320"/>
                  <a:pt x="571" y="304"/>
                </a:cubicBezTo>
                <a:cubicBezTo>
                  <a:pt x="553" y="287"/>
                  <a:pt x="521" y="305"/>
                  <a:pt x="497" y="299"/>
                </a:cubicBezTo>
                <a:cubicBezTo>
                  <a:pt x="485" y="296"/>
                  <a:pt x="480" y="279"/>
                  <a:pt x="470" y="272"/>
                </a:cubicBezTo>
                <a:cubicBezTo>
                  <a:pt x="446" y="235"/>
                  <a:pt x="453" y="252"/>
                  <a:pt x="443" y="224"/>
                </a:cubicBezTo>
                <a:cubicBezTo>
                  <a:pt x="461" y="206"/>
                  <a:pt x="474" y="206"/>
                  <a:pt x="497" y="197"/>
                </a:cubicBezTo>
                <a:cubicBezTo>
                  <a:pt x="563" y="201"/>
                  <a:pt x="624" y="207"/>
                  <a:pt x="689" y="213"/>
                </a:cubicBezTo>
                <a:cubicBezTo>
                  <a:pt x="712" y="211"/>
                  <a:pt x="737" y="217"/>
                  <a:pt x="758" y="208"/>
                </a:cubicBezTo>
                <a:cubicBezTo>
                  <a:pt x="765" y="205"/>
                  <a:pt x="752" y="193"/>
                  <a:pt x="747" y="187"/>
                </a:cubicBezTo>
                <a:cubicBezTo>
                  <a:pt x="734" y="169"/>
                  <a:pt x="694" y="144"/>
                  <a:pt x="694" y="144"/>
                </a:cubicBezTo>
                <a:cubicBezTo>
                  <a:pt x="674" y="115"/>
                  <a:pt x="661" y="86"/>
                  <a:pt x="625" y="75"/>
                </a:cubicBezTo>
                <a:cubicBezTo>
                  <a:pt x="613" y="67"/>
                  <a:pt x="585" y="50"/>
                  <a:pt x="603" y="32"/>
                </a:cubicBezTo>
                <a:cubicBezTo>
                  <a:pt x="611" y="24"/>
                  <a:pt x="624" y="25"/>
                  <a:pt x="635" y="21"/>
                </a:cubicBezTo>
                <a:cubicBezTo>
                  <a:pt x="662" y="23"/>
                  <a:pt x="688" y="24"/>
                  <a:pt x="715" y="27"/>
                </a:cubicBezTo>
                <a:cubicBezTo>
                  <a:pt x="730" y="29"/>
                  <a:pt x="758" y="37"/>
                  <a:pt x="758" y="37"/>
                </a:cubicBezTo>
                <a:cubicBezTo>
                  <a:pt x="763" y="41"/>
                  <a:pt x="768" y="45"/>
                  <a:pt x="774" y="48"/>
                </a:cubicBezTo>
                <a:cubicBezTo>
                  <a:pt x="779" y="50"/>
                  <a:pt x="785" y="50"/>
                  <a:pt x="790" y="53"/>
                </a:cubicBezTo>
                <a:cubicBezTo>
                  <a:pt x="827" y="78"/>
                  <a:pt x="786" y="63"/>
                  <a:pt x="822" y="75"/>
                </a:cubicBezTo>
                <a:cubicBezTo>
                  <a:pt x="833" y="79"/>
                  <a:pt x="854" y="85"/>
                  <a:pt x="854" y="85"/>
                </a:cubicBezTo>
                <a:cubicBezTo>
                  <a:pt x="874" y="99"/>
                  <a:pt x="869" y="110"/>
                  <a:pt x="891" y="117"/>
                </a:cubicBezTo>
                <a:cubicBezTo>
                  <a:pt x="928" y="115"/>
                  <a:pt x="966" y="118"/>
                  <a:pt x="1003" y="112"/>
                </a:cubicBezTo>
                <a:cubicBezTo>
                  <a:pt x="1009" y="111"/>
                  <a:pt x="1009" y="100"/>
                  <a:pt x="1014" y="96"/>
                </a:cubicBezTo>
                <a:cubicBezTo>
                  <a:pt x="1018" y="93"/>
                  <a:pt x="1025" y="93"/>
                  <a:pt x="1030" y="91"/>
                </a:cubicBezTo>
                <a:cubicBezTo>
                  <a:pt x="1051" y="77"/>
                  <a:pt x="1045" y="65"/>
                  <a:pt x="1062" y="48"/>
                </a:cubicBezTo>
                <a:cubicBezTo>
                  <a:pt x="1074" y="36"/>
                  <a:pt x="1110" y="27"/>
                  <a:pt x="1110" y="27"/>
                </a:cubicBezTo>
                <a:cubicBezTo>
                  <a:pt x="1125" y="17"/>
                  <a:pt x="1142" y="0"/>
                  <a:pt x="1163" y="21"/>
                </a:cubicBezTo>
                <a:cubicBezTo>
                  <a:pt x="1168" y="26"/>
                  <a:pt x="1153" y="32"/>
                  <a:pt x="1147" y="37"/>
                </a:cubicBezTo>
                <a:cubicBezTo>
                  <a:pt x="1137" y="45"/>
                  <a:pt x="1126" y="52"/>
                  <a:pt x="1115" y="59"/>
                </a:cubicBezTo>
                <a:cubicBezTo>
                  <a:pt x="1110" y="62"/>
                  <a:pt x="1099" y="69"/>
                  <a:pt x="1099" y="69"/>
                </a:cubicBezTo>
                <a:cubicBezTo>
                  <a:pt x="1079" y="112"/>
                  <a:pt x="1101" y="72"/>
                  <a:pt x="1073" y="107"/>
                </a:cubicBezTo>
                <a:cubicBezTo>
                  <a:pt x="1065" y="117"/>
                  <a:pt x="1051" y="139"/>
                  <a:pt x="1051" y="139"/>
                </a:cubicBezTo>
                <a:cubicBezTo>
                  <a:pt x="1039" y="189"/>
                  <a:pt x="1047" y="168"/>
                  <a:pt x="1030" y="203"/>
                </a:cubicBezTo>
                <a:cubicBezTo>
                  <a:pt x="1032" y="214"/>
                  <a:pt x="1028" y="227"/>
                  <a:pt x="1035" y="235"/>
                </a:cubicBezTo>
                <a:cubicBezTo>
                  <a:pt x="1042" y="243"/>
                  <a:pt x="1067" y="245"/>
                  <a:pt x="1067" y="245"/>
                </a:cubicBezTo>
                <a:cubicBezTo>
                  <a:pt x="1085" y="271"/>
                  <a:pt x="1075" y="288"/>
                  <a:pt x="1046" y="299"/>
                </a:cubicBezTo>
                <a:cubicBezTo>
                  <a:pt x="1039" y="310"/>
                  <a:pt x="1032" y="320"/>
                  <a:pt x="1025" y="331"/>
                </a:cubicBezTo>
                <a:cubicBezTo>
                  <a:pt x="1019" y="340"/>
                  <a:pt x="1035" y="363"/>
                  <a:pt x="1035" y="363"/>
                </a:cubicBezTo>
                <a:cubicBezTo>
                  <a:pt x="1037" y="388"/>
                  <a:pt x="1033" y="413"/>
                  <a:pt x="1041" y="437"/>
                </a:cubicBezTo>
                <a:cubicBezTo>
                  <a:pt x="1043" y="442"/>
                  <a:pt x="1052" y="433"/>
                  <a:pt x="1057" y="432"/>
                </a:cubicBezTo>
                <a:cubicBezTo>
                  <a:pt x="1075" y="427"/>
                  <a:pt x="1092" y="422"/>
                  <a:pt x="1110" y="416"/>
                </a:cubicBezTo>
                <a:cubicBezTo>
                  <a:pt x="1125" y="395"/>
                  <a:pt x="1138" y="390"/>
                  <a:pt x="1163" y="384"/>
                </a:cubicBezTo>
                <a:cubicBezTo>
                  <a:pt x="1192" y="364"/>
                  <a:pt x="1209" y="348"/>
                  <a:pt x="1259" y="379"/>
                </a:cubicBezTo>
                <a:cubicBezTo>
                  <a:pt x="1273" y="388"/>
                  <a:pt x="1258" y="412"/>
                  <a:pt x="1265" y="427"/>
                </a:cubicBezTo>
                <a:cubicBezTo>
                  <a:pt x="1268" y="433"/>
                  <a:pt x="1310" y="448"/>
                  <a:pt x="1318" y="453"/>
                </a:cubicBezTo>
                <a:cubicBezTo>
                  <a:pt x="1336" y="480"/>
                  <a:pt x="1314" y="523"/>
                  <a:pt x="1334" y="549"/>
                </a:cubicBezTo>
                <a:cubicBezTo>
                  <a:pt x="1345" y="563"/>
                  <a:pt x="1369" y="546"/>
                  <a:pt x="1387" y="544"/>
                </a:cubicBezTo>
                <a:cubicBezTo>
                  <a:pt x="1422" y="533"/>
                  <a:pt x="1442" y="550"/>
                  <a:pt x="1473" y="560"/>
                </a:cubicBezTo>
                <a:cubicBezTo>
                  <a:pt x="1489" y="610"/>
                  <a:pt x="1497" y="680"/>
                  <a:pt x="1441" y="693"/>
                </a:cubicBezTo>
                <a:cubicBezTo>
                  <a:pt x="1445" y="715"/>
                  <a:pt x="1462" y="758"/>
                  <a:pt x="1446" y="779"/>
                </a:cubicBezTo>
                <a:cubicBezTo>
                  <a:pt x="1443" y="783"/>
                  <a:pt x="1436" y="783"/>
                  <a:pt x="1430" y="784"/>
                </a:cubicBezTo>
                <a:cubicBezTo>
                  <a:pt x="1403" y="788"/>
                  <a:pt x="1350" y="795"/>
                  <a:pt x="1350" y="795"/>
                </a:cubicBezTo>
                <a:cubicBezTo>
                  <a:pt x="1345" y="937"/>
                  <a:pt x="1376" y="931"/>
                  <a:pt x="1281" y="949"/>
                </a:cubicBezTo>
                <a:cubicBezTo>
                  <a:pt x="1270" y="965"/>
                  <a:pt x="1266" y="979"/>
                  <a:pt x="1259" y="997"/>
                </a:cubicBezTo>
                <a:cubicBezTo>
                  <a:pt x="1254" y="1056"/>
                  <a:pt x="1261" y="1056"/>
                  <a:pt x="1211" y="1067"/>
                </a:cubicBezTo>
                <a:cubicBezTo>
                  <a:pt x="1175" y="1084"/>
                  <a:pt x="1157" y="1118"/>
                  <a:pt x="1126" y="1125"/>
                </a:cubicBezTo>
                <a:cubicBezTo>
                  <a:pt x="1121" y="1129"/>
                  <a:pt x="1115" y="1131"/>
                  <a:pt x="1110" y="1136"/>
                </a:cubicBezTo>
                <a:cubicBezTo>
                  <a:pt x="1105" y="1141"/>
                  <a:pt x="1104" y="1148"/>
                  <a:pt x="1099" y="1152"/>
                </a:cubicBezTo>
                <a:cubicBezTo>
                  <a:pt x="1090" y="1159"/>
                  <a:pt x="1078" y="1159"/>
                  <a:pt x="1067" y="1163"/>
                </a:cubicBezTo>
                <a:cubicBezTo>
                  <a:pt x="1030" y="1161"/>
                  <a:pt x="992" y="1163"/>
                  <a:pt x="955" y="1157"/>
                </a:cubicBezTo>
                <a:cubicBezTo>
                  <a:pt x="938" y="1154"/>
                  <a:pt x="932" y="1126"/>
                  <a:pt x="913" y="1120"/>
                </a:cubicBezTo>
                <a:cubicBezTo>
                  <a:pt x="819" y="1135"/>
                  <a:pt x="901" y="1137"/>
                  <a:pt x="726" y="1131"/>
                </a:cubicBezTo>
                <a:cubicBezTo>
                  <a:pt x="707" y="1112"/>
                  <a:pt x="688" y="1092"/>
                  <a:pt x="667" y="1077"/>
                </a:cubicBezTo>
                <a:cubicBezTo>
                  <a:pt x="655" y="1058"/>
                  <a:pt x="644" y="1047"/>
                  <a:pt x="625" y="1035"/>
                </a:cubicBezTo>
                <a:cubicBezTo>
                  <a:pt x="606" y="1007"/>
                  <a:pt x="603" y="997"/>
                  <a:pt x="571" y="987"/>
                </a:cubicBezTo>
                <a:cubicBezTo>
                  <a:pt x="498" y="992"/>
                  <a:pt x="523" y="982"/>
                  <a:pt x="491" y="99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49528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ro-RO" sz="1600" spc="-1" strike="noStrike">
                <a:solidFill>
                  <a:srgbClr val="ff3300"/>
                </a:solidFill>
                <a:latin typeface="Arial"/>
              </a:rPr>
              <a:t>-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3300"/>
                </a:solidFill>
                <a:latin typeface="Arial"/>
              </a:rPr>
              <a:t>Banat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37339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o-RO" sz="1400" spc="-1" strike="noStrike">
                <a:solidFill>
                  <a:srgbClr val="333399"/>
                </a:solidFill>
                <a:latin typeface="Arial"/>
              </a:rPr>
              <a:t>M-ţii Poian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3399"/>
                </a:solidFill>
                <a:latin typeface="Arial"/>
              </a:rPr>
              <a:t>Rusc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28954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99"/>
                </a:solidFill>
                <a:latin typeface="Arial"/>
              </a:rPr>
              <a:t>M-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99"/>
                </a:solidFill>
                <a:latin typeface="Arial"/>
              </a:rPr>
              <a:t>Apus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520" y="5867280"/>
            <a:ext cx="1295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un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ă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523880" y="4114440"/>
            <a:ext cx="60984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403848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200400"/>
            <a:ext cx="892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Mure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828800" y="5943240"/>
            <a:ext cx="60948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35053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182880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Barcă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905120" y="1904760"/>
            <a:ext cx="60948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92400" y="4165560"/>
            <a:ext cx="419040" cy="711360"/>
          </a:xfrm>
          <a:custGeom>
            <a:avLst/>
            <a:gdLst/>
            <a:ahLst/>
            <a:rect l="l" t="t" r="r" b="b"/>
            <a:pathLst>
              <a:path w="264" h="448">
                <a:moveTo>
                  <a:pt x="0" y="0"/>
                </a:moveTo>
                <a:cubicBezTo>
                  <a:pt x="21" y="14"/>
                  <a:pt x="34" y="16"/>
                  <a:pt x="59" y="21"/>
                </a:cubicBezTo>
                <a:cubicBezTo>
                  <a:pt x="80" y="29"/>
                  <a:pt x="89" y="29"/>
                  <a:pt x="102" y="48"/>
                </a:cubicBezTo>
                <a:cubicBezTo>
                  <a:pt x="109" y="72"/>
                  <a:pt x="109" y="108"/>
                  <a:pt x="123" y="128"/>
                </a:cubicBezTo>
                <a:cubicBezTo>
                  <a:pt x="135" y="145"/>
                  <a:pt x="149" y="158"/>
                  <a:pt x="160" y="176"/>
                </a:cubicBezTo>
                <a:cubicBezTo>
                  <a:pt x="172" y="218"/>
                  <a:pt x="188" y="243"/>
                  <a:pt x="230" y="256"/>
                </a:cubicBezTo>
                <a:cubicBezTo>
                  <a:pt x="264" y="311"/>
                  <a:pt x="251" y="388"/>
                  <a:pt x="251" y="44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472428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Timi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87520" y="4351320"/>
            <a:ext cx="465120" cy="111240"/>
          </a:xfrm>
          <a:custGeom>
            <a:avLst/>
            <a:gdLst/>
            <a:ahLst/>
            <a:rect l="l" t="t" r="r" b="b"/>
            <a:pathLst>
              <a:path w="293" h="70">
                <a:moveTo>
                  <a:pt x="293" y="38"/>
                </a:moveTo>
                <a:cubicBezTo>
                  <a:pt x="265" y="40"/>
                  <a:pt x="233" y="35"/>
                  <a:pt x="208" y="48"/>
                </a:cubicBezTo>
                <a:cubicBezTo>
                  <a:pt x="196" y="54"/>
                  <a:pt x="176" y="70"/>
                  <a:pt x="176" y="70"/>
                </a:cubicBezTo>
                <a:cubicBezTo>
                  <a:pt x="155" y="68"/>
                  <a:pt x="133" y="70"/>
                  <a:pt x="112" y="64"/>
                </a:cubicBezTo>
                <a:cubicBezTo>
                  <a:pt x="93" y="59"/>
                  <a:pt x="83" y="36"/>
                  <a:pt x="64" y="32"/>
                </a:cubicBezTo>
                <a:cubicBezTo>
                  <a:pt x="38" y="26"/>
                  <a:pt x="50" y="29"/>
                  <a:pt x="27" y="22"/>
                </a:cubicBezTo>
                <a:cubicBezTo>
                  <a:pt x="23" y="17"/>
                  <a:pt x="21" y="10"/>
                  <a:pt x="16" y="6"/>
                </a:cubicBezTo>
                <a:cubicBezTo>
                  <a:pt x="12" y="2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4343400"/>
            <a:ext cx="106704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97200" y="1697040"/>
            <a:ext cx="812520" cy="174600"/>
          </a:xfrm>
          <a:custGeom>
            <a:avLst/>
            <a:gdLst/>
            <a:ahLst/>
            <a:rect l="l" t="t" r="r" b="b"/>
            <a:pathLst>
              <a:path w="512" h="110">
                <a:moveTo>
                  <a:pt x="512" y="46"/>
                </a:moveTo>
                <a:cubicBezTo>
                  <a:pt x="464" y="13"/>
                  <a:pt x="493" y="23"/>
                  <a:pt x="421" y="30"/>
                </a:cubicBezTo>
                <a:cubicBezTo>
                  <a:pt x="361" y="49"/>
                  <a:pt x="283" y="0"/>
                  <a:pt x="245" y="56"/>
                </a:cubicBezTo>
                <a:cubicBezTo>
                  <a:pt x="240" y="77"/>
                  <a:pt x="230" y="90"/>
                  <a:pt x="224" y="110"/>
                </a:cubicBezTo>
                <a:cubicBezTo>
                  <a:pt x="190" y="101"/>
                  <a:pt x="184" y="86"/>
                  <a:pt x="160" y="62"/>
                </a:cubicBezTo>
                <a:cubicBezTo>
                  <a:pt x="149" y="66"/>
                  <a:pt x="140" y="76"/>
                  <a:pt x="128" y="78"/>
                </a:cubicBezTo>
                <a:cubicBezTo>
                  <a:pt x="88" y="83"/>
                  <a:pt x="42" y="83"/>
                  <a:pt x="0" y="83"/>
                </a:cubicBezTo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92468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724280" y="4572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 grupele de munţi, pornind de la sud spre n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4495680"/>
            <a:ext cx="1254240" cy="2084400"/>
          </a:xfrm>
          <a:custGeom>
            <a:avLst/>
            <a:gdLst/>
            <a:ahLst/>
            <a:rect l="l" t="t" r="r" b="b"/>
            <a:pathLst>
              <a:path w="759" h="1243">
                <a:moveTo>
                  <a:pt x="758" y="821"/>
                </a:moveTo>
                <a:cubicBezTo>
                  <a:pt x="756" y="840"/>
                  <a:pt x="759" y="860"/>
                  <a:pt x="753" y="879"/>
                </a:cubicBezTo>
                <a:cubicBezTo>
                  <a:pt x="749" y="891"/>
                  <a:pt x="738" y="900"/>
                  <a:pt x="731" y="911"/>
                </a:cubicBezTo>
                <a:cubicBezTo>
                  <a:pt x="728" y="916"/>
                  <a:pt x="721" y="927"/>
                  <a:pt x="721" y="927"/>
                </a:cubicBezTo>
                <a:cubicBezTo>
                  <a:pt x="713" y="957"/>
                  <a:pt x="695" y="984"/>
                  <a:pt x="683" y="1013"/>
                </a:cubicBezTo>
                <a:cubicBezTo>
                  <a:pt x="663" y="1061"/>
                  <a:pt x="672" y="1083"/>
                  <a:pt x="630" y="1125"/>
                </a:cubicBezTo>
                <a:cubicBezTo>
                  <a:pt x="618" y="1163"/>
                  <a:pt x="636" y="1118"/>
                  <a:pt x="603" y="1151"/>
                </a:cubicBezTo>
                <a:cubicBezTo>
                  <a:pt x="583" y="1171"/>
                  <a:pt x="580" y="1202"/>
                  <a:pt x="561" y="1221"/>
                </a:cubicBezTo>
                <a:cubicBezTo>
                  <a:pt x="555" y="1227"/>
                  <a:pt x="528" y="1239"/>
                  <a:pt x="523" y="1242"/>
                </a:cubicBezTo>
                <a:cubicBezTo>
                  <a:pt x="495" y="1240"/>
                  <a:pt x="466" y="1243"/>
                  <a:pt x="438" y="1237"/>
                </a:cubicBezTo>
                <a:cubicBezTo>
                  <a:pt x="432" y="1236"/>
                  <a:pt x="432" y="1225"/>
                  <a:pt x="427" y="1221"/>
                </a:cubicBezTo>
                <a:cubicBezTo>
                  <a:pt x="405" y="1202"/>
                  <a:pt x="374" y="1171"/>
                  <a:pt x="347" y="1162"/>
                </a:cubicBezTo>
                <a:cubicBezTo>
                  <a:pt x="300" y="1130"/>
                  <a:pt x="263" y="1129"/>
                  <a:pt x="203" y="1125"/>
                </a:cubicBezTo>
                <a:cubicBezTo>
                  <a:pt x="187" y="1119"/>
                  <a:pt x="155" y="1109"/>
                  <a:pt x="155" y="1109"/>
                </a:cubicBezTo>
                <a:cubicBezTo>
                  <a:pt x="144" y="1092"/>
                  <a:pt x="129" y="1083"/>
                  <a:pt x="113" y="1071"/>
                </a:cubicBezTo>
                <a:cubicBezTo>
                  <a:pt x="103" y="1063"/>
                  <a:pt x="81" y="1050"/>
                  <a:pt x="81" y="1050"/>
                </a:cubicBezTo>
                <a:cubicBezTo>
                  <a:pt x="55" y="1013"/>
                  <a:pt x="70" y="1025"/>
                  <a:pt x="43" y="1007"/>
                </a:cubicBezTo>
                <a:cubicBezTo>
                  <a:pt x="36" y="983"/>
                  <a:pt x="19" y="966"/>
                  <a:pt x="11" y="943"/>
                </a:cubicBezTo>
                <a:cubicBezTo>
                  <a:pt x="7" y="932"/>
                  <a:pt x="1" y="911"/>
                  <a:pt x="1" y="911"/>
                </a:cubicBezTo>
                <a:cubicBezTo>
                  <a:pt x="5" y="845"/>
                  <a:pt x="0" y="851"/>
                  <a:pt x="11" y="810"/>
                </a:cubicBezTo>
                <a:cubicBezTo>
                  <a:pt x="16" y="791"/>
                  <a:pt x="38" y="757"/>
                  <a:pt x="38" y="757"/>
                </a:cubicBezTo>
                <a:cubicBezTo>
                  <a:pt x="50" y="717"/>
                  <a:pt x="33" y="766"/>
                  <a:pt x="54" y="725"/>
                </a:cubicBezTo>
                <a:cubicBezTo>
                  <a:pt x="67" y="699"/>
                  <a:pt x="69" y="670"/>
                  <a:pt x="86" y="645"/>
                </a:cubicBezTo>
                <a:cubicBezTo>
                  <a:pt x="92" y="626"/>
                  <a:pt x="101" y="610"/>
                  <a:pt x="107" y="591"/>
                </a:cubicBezTo>
                <a:cubicBezTo>
                  <a:pt x="105" y="492"/>
                  <a:pt x="105" y="392"/>
                  <a:pt x="102" y="293"/>
                </a:cubicBezTo>
                <a:cubicBezTo>
                  <a:pt x="100" y="246"/>
                  <a:pt x="94" y="213"/>
                  <a:pt x="145" y="197"/>
                </a:cubicBezTo>
                <a:cubicBezTo>
                  <a:pt x="183" y="171"/>
                  <a:pt x="175" y="196"/>
                  <a:pt x="182" y="133"/>
                </a:cubicBezTo>
                <a:cubicBezTo>
                  <a:pt x="184" y="97"/>
                  <a:pt x="159" y="48"/>
                  <a:pt x="187" y="26"/>
                </a:cubicBezTo>
                <a:cubicBezTo>
                  <a:pt x="219" y="0"/>
                  <a:pt x="269" y="28"/>
                  <a:pt x="310" y="31"/>
                </a:cubicBezTo>
                <a:cubicBezTo>
                  <a:pt x="333" y="33"/>
                  <a:pt x="356" y="50"/>
                  <a:pt x="379" y="53"/>
                </a:cubicBezTo>
                <a:cubicBezTo>
                  <a:pt x="400" y="56"/>
                  <a:pt x="422" y="56"/>
                  <a:pt x="443" y="58"/>
                </a:cubicBezTo>
                <a:cubicBezTo>
                  <a:pt x="472" y="63"/>
                  <a:pt x="501" y="68"/>
                  <a:pt x="529" y="74"/>
                </a:cubicBezTo>
                <a:cubicBezTo>
                  <a:pt x="578" y="108"/>
                  <a:pt x="549" y="168"/>
                  <a:pt x="577" y="218"/>
                </a:cubicBezTo>
                <a:cubicBezTo>
                  <a:pt x="598" y="256"/>
                  <a:pt x="597" y="251"/>
                  <a:pt x="635" y="277"/>
                </a:cubicBezTo>
                <a:cubicBezTo>
                  <a:pt x="640" y="281"/>
                  <a:pt x="651" y="287"/>
                  <a:pt x="651" y="287"/>
                </a:cubicBezTo>
                <a:cubicBezTo>
                  <a:pt x="677" y="325"/>
                  <a:pt x="666" y="337"/>
                  <a:pt x="662" y="394"/>
                </a:cubicBezTo>
                <a:cubicBezTo>
                  <a:pt x="666" y="489"/>
                  <a:pt x="654" y="489"/>
                  <a:pt x="689" y="549"/>
                </a:cubicBezTo>
                <a:cubicBezTo>
                  <a:pt x="699" y="593"/>
                  <a:pt x="713" y="634"/>
                  <a:pt x="726" y="677"/>
                </a:cubicBezTo>
                <a:cubicBezTo>
                  <a:pt x="728" y="718"/>
                  <a:pt x="728" y="758"/>
                  <a:pt x="731" y="799"/>
                </a:cubicBezTo>
                <a:cubicBezTo>
                  <a:pt x="731" y="801"/>
                  <a:pt x="738" y="849"/>
                  <a:pt x="742" y="858"/>
                </a:cubicBezTo>
                <a:cubicBezTo>
                  <a:pt x="745" y="864"/>
                  <a:pt x="753" y="874"/>
                  <a:pt x="753" y="874"/>
                </a:cubicBezTo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3809880"/>
            <a:ext cx="1796760" cy="762120"/>
          </a:xfrm>
          <a:custGeom>
            <a:avLst/>
            <a:gdLst/>
            <a:ahLst/>
            <a:rect l="l" t="t" r="r" b="b"/>
            <a:pathLst>
              <a:path w="1276" h="542">
                <a:moveTo>
                  <a:pt x="997" y="102"/>
                </a:moveTo>
                <a:cubicBezTo>
                  <a:pt x="979" y="95"/>
                  <a:pt x="962" y="90"/>
                  <a:pt x="944" y="86"/>
                </a:cubicBezTo>
                <a:cubicBezTo>
                  <a:pt x="893" y="60"/>
                  <a:pt x="842" y="42"/>
                  <a:pt x="800" y="0"/>
                </a:cubicBezTo>
                <a:cubicBezTo>
                  <a:pt x="770" y="2"/>
                  <a:pt x="739" y="2"/>
                  <a:pt x="709" y="6"/>
                </a:cubicBezTo>
                <a:cubicBezTo>
                  <a:pt x="641" y="15"/>
                  <a:pt x="575" y="56"/>
                  <a:pt x="506" y="59"/>
                </a:cubicBezTo>
                <a:cubicBezTo>
                  <a:pt x="444" y="62"/>
                  <a:pt x="382" y="62"/>
                  <a:pt x="320" y="64"/>
                </a:cubicBezTo>
                <a:cubicBezTo>
                  <a:pt x="299" y="70"/>
                  <a:pt x="284" y="73"/>
                  <a:pt x="266" y="86"/>
                </a:cubicBezTo>
                <a:cubicBezTo>
                  <a:pt x="241" y="124"/>
                  <a:pt x="215" y="145"/>
                  <a:pt x="170" y="155"/>
                </a:cubicBezTo>
                <a:cubicBezTo>
                  <a:pt x="133" y="182"/>
                  <a:pt x="130" y="179"/>
                  <a:pt x="90" y="192"/>
                </a:cubicBezTo>
                <a:cubicBezTo>
                  <a:pt x="71" y="205"/>
                  <a:pt x="54" y="208"/>
                  <a:pt x="32" y="214"/>
                </a:cubicBezTo>
                <a:cubicBezTo>
                  <a:pt x="20" y="232"/>
                  <a:pt x="6" y="235"/>
                  <a:pt x="0" y="256"/>
                </a:cubicBezTo>
                <a:cubicBezTo>
                  <a:pt x="9" y="343"/>
                  <a:pt x="16" y="325"/>
                  <a:pt x="106" y="331"/>
                </a:cubicBezTo>
                <a:cubicBezTo>
                  <a:pt x="149" y="360"/>
                  <a:pt x="131" y="428"/>
                  <a:pt x="176" y="459"/>
                </a:cubicBezTo>
                <a:cubicBezTo>
                  <a:pt x="200" y="496"/>
                  <a:pt x="185" y="487"/>
                  <a:pt x="213" y="496"/>
                </a:cubicBezTo>
                <a:cubicBezTo>
                  <a:pt x="236" y="512"/>
                  <a:pt x="257" y="526"/>
                  <a:pt x="282" y="539"/>
                </a:cubicBezTo>
                <a:cubicBezTo>
                  <a:pt x="394" y="537"/>
                  <a:pt x="506" y="542"/>
                  <a:pt x="618" y="534"/>
                </a:cubicBezTo>
                <a:cubicBezTo>
                  <a:pt x="662" y="531"/>
                  <a:pt x="758" y="457"/>
                  <a:pt x="810" y="454"/>
                </a:cubicBezTo>
                <a:cubicBezTo>
                  <a:pt x="874" y="451"/>
                  <a:pt x="938" y="450"/>
                  <a:pt x="1002" y="448"/>
                </a:cubicBezTo>
                <a:cubicBezTo>
                  <a:pt x="1035" y="438"/>
                  <a:pt x="1038" y="430"/>
                  <a:pt x="1066" y="411"/>
                </a:cubicBezTo>
                <a:cubicBezTo>
                  <a:pt x="1122" y="329"/>
                  <a:pt x="1054" y="434"/>
                  <a:pt x="1082" y="166"/>
                </a:cubicBezTo>
                <a:cubicBezTo>
                  <a:pt x="1087" y="115"/>
                  <a:pt x="1168" y="104"/>
                  <a:pt x="1205" y="86"/>
                </a:cubicBezTo>
                <a:cubicBezTo>
                  <a:pt x="1220" y="78"/>
                  <a:pt x="1253" y="70"/>
                  <a:pt x="1253" y="70"/>
                </a:cubicBezTo>
                <a:cubicBezTo>
                  <a:pt x="1264" y="54"/>
                  <a:pt x="1276" y="48"/>
                  <a:pt x="1242" y="48"/>
                </a:cubicBezTo>
                <a:cubicBezTo>
                  <a:pt x="1189" y="48"/>
                  <a:pt x="1135" y="52"/>
                  <a:pt x="1082" y="54"/>
                </a:cubicBezTo>
                <a:cubicBezTo>
                  <a:pt x="1050" y="62"/>
                  <a:pt x="1065" y="58"/>
                  <a:pt x="1024" y="70"/>
                </a:cubicBezTo>
                <a:cubicBezTo>
                  <a:pt x="1019" y="72"/>
                  <a:pt x="1008" y="75"/>
                  <a:pt x="1008" y="75"/>
                </a:cubicBezTo>
                <a:cubicBezTo>
                  <a:pt x="990" y="87"/>
                  <a:pt x="971" y="96"/>
                  <a:pt x="949" y="96"/>
                </a:cubicBezTo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24280" y="43434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archeaz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2.   Găseşte râurile care delimitează grupele de munţ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5486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5410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-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Banat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380988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cccc"/>
                </a:solidFill>
                <a:latin typeface="Arial"/>
              </a:rPr>
              <a:t>   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M-ţii Poian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Rusc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4114800"/>
            <a:ext cx="1897200" cy="1074600"/>
          </a:xfrm>
          <a:custGeom>
            <a:avLst/>
            <a:gdLst/>
            <a:ahLst/>
            <a:rect l="l" t="t" r="r" b="b"/>
            <a:pathLst>
              <a:path w="1195" h="677">
                <a:moveTo>
                  <a:pt x="1195" y="677"/>
                </a:moveTo>
                <a:cubicBezTo>
                  <a:pt x="1163" y="667"/>
                  <a:pt x="1144" y="640"/>
                  <a:pt x="1125" y="613"/>
                </a:cubicBezTo>
                <a:cubicBezTo>
                  <a:pt x="1122" y="536"/>
                  <a:pt x="1148" y="494"/>
                  <a:pt x="1093" y="459"/>
                </a:cubicBezTo>
                <a:cubicBezTo>
                  <a:pt x="1070" y="424"/>
                  <a:pt x="1043" y="392"/>
                  <a:pt x="1008" y="368"/>
                </a:cubicBezTo>
                <a:cubicBezTo>
                  <a:pt x="1004" y="363"/>
                  <a:pt x="1002" y="357"/>
                  <a:pt x="997" y="352"/>
                </a:cubicBezTo>
                <a:cubicBezTo>
                  <a:pt x="992" y="347"/>
                  <a:pt x="985" y="346"/>
                  <a:pt x="981" y="341"/>
                </a:cubicBezTo>
                <a:cubicBezTo>
                  <a:pt x="978" y="337"/>
                  <a:pt x="979" y="330"/>
                  <a:pt x="976" y="325"/>
                </a:cubicBezTo>
                <a:cubicBezTo>
                  <a:pt x="963" y="305"/>
                  <a:pt x="911" y="253"/>
                  <a:pt x="891" y="240"/>
                </a:cubicBezTo>
                <a:cubicBezTo>
                  <a:pt x="878" y="222"/>
                  <a:pt x="861" y="215"/>
                  <a:pt x="848" y="197"/>
                </a:cubicBezTo>
                <a:cubicBezTo>
                  <a:pt x="828" y="169"/>
                  <a:pt x="819" y="155"/>
                  <a:pt x="784" y="144"/>
                </a:cubicBezTo>
                <a:cubicBezTo>
                  <a:pt x="733" y="93"/>
                  <a:pt x="798" y="153"/>
                  <a:pt x="752" y="123"/>
                </a:cubicBezTo>
                <a:cubicBezTo>
                  <a:pt x="718" y="101"/>
                  <a:pt x="696" y="76"/>
                  <a:pt x="656" y="64"/>
                </a:cubicBezTo>
                <a:cubicBezTo>
                  <a:pt x="629" y="37"/>
                  <a:pt x="586" y="22"/>
                  <a:pt x="549" y="11"/>
                </a:cubicBezTo>
                <a:cubicBezTo>
                  <a:pt x="521" y="12"/>
                  <a:pt x="406" y="0"/>
                  <a:pt x="352" y="27"/>
                </a:cubicBezTo>
                <a:cubicBezTo>
                  <a:pt x="331" y="38"/>
                  <a:pt x="308" y="48"/>
                  <a:pt x="288" y="59"/>
                </a:cubicBezTo>
                <a:cubicBezTo>
                  <a:pt x="277" y="65"/>
                  <a:pt x="256" y="80"/>
                  <a:pt x="256" y="80"/>
                </a:cubicBezTo>
                <a:cubicBezTo>
                  <a:pt x="240" y="104"/>
                  <a:pt x="225" y="124"/>
                  <a:pt x="197" y="133"/>
                </a:cubicBezTo>
                <a:cubicBezTo>
                  <a:pt x="136" y="175"/>
                  <a:pt x="77" y="171"/>
                  <a:pt x="0" y="171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66720" y="4591080"/>
            <a:ext cx="584280" cy="92160"/>
          </a:xfrm>
          <a:custGeom>
            <a:avLst/>
            <a:gdLst/>
            <a:ahLst/>
            <a:rect l="l" t="t" r="r" b="b"/>
            <a:pathLst>
              <a:path w="368" h="58">
                <a:moveTo>
                  <a:pt x="368" y="47"/>
                </a:moveTo>
                <a:cubicBezTo>
                  <a:pt x="331" y="22"/>
                  <a:pt x="348" y="29"/>
                  <a:pt x="320" y="20"/>
                </a:cubicBezTo>
                <a:cubicBezTo>
                  <a:pt x="291" y="0"/>
                  <a:pt x="285" y="4"/>
                  <a:pt x="245" y="9"/>
                </a:cubicBezTo>
                <a:cubicBezTo>
                  <a:pt x="194" y="44"/>
                  <a:pt x="142" y="46"/>
                  <a:pt x="80" y="52"/>
                </a:cubicBezTo>
                <a:cubicBezTo>
                  <a:pt x="25" y="47"/>
                  <a:pt x="27" y="58"/>
                  <a:pt x="0" y="25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1399600">
            <a:off x="990720" y="533160"/>
            <a:ext cx="1387440" cy="326880"/>
          </a:xfrm>
          <a:custGeom>
            <a:avLst/>
            <a:gdLst/>
            <a:ahLst/>
            <a:rect l="l" t="t" r="r" b="b"/>
            <a:pathLst>
              <a:path w="586" h="206">
                <a:moveTo>
                  <a:pt x="586" y="206"/>
                </a:moveTo>
                <a:cubicBezTo>
                  <a:pt x="579" y="185"/>
                  <a:pt x="572" y="176"/>
                  <a:pt x="554" y="163"/>
                </a:cubicBezTo>
                <a:cubicBezTo>
                  <a:pt x="549" y="148"/>
                  <a:pt x="521" y="110"/>
                  <a:pt x="506" y="99"/>
                </a:cubicBezTo>
                <a:cubicBezTo>
                  <a:pt x="496" y="91"/>
                  <a:pt x="470" y="87"/>
                  <a:pt x="458" y="83"/>
                </a:cubicBezTo>
                <a:cubicBezTo>
                  <a:pt x="431" y="40"/>
                  <a:pt x="352" y="26"/>
                  <a:pt x="304" y="8"/>
                </a:cubicBezTo>
                <a:cubicBezTo>
                  <a:pt x="241" y="12"/>
                  <a:pt x="213" y="0"/>
                  <a:pt x="170" y="30"/>
                </a:cubicBezTo>
                <a:cubicBezTo>
                  <a:pt x="159" y="64"/>
                  <a:pt x="174" y="31"/>
                  <a:pt x="149" y="51"/>
                </a:cubicBezTo>
                <a:cubicBezTo>
                  <a:pt x="144" y="55"/>
                  <a:pt x="143" y="62"/>
                  <a:pt x="138" y="67"/>
                </a:cubicBezTo>
                <a:cubicBezTo>
                  <a:pt x="128" y="77"/>
                  <a:pt x="116" y="84"/>
                  <a:pt x="106" y="94"/>
                </a:cubicBezTo>
                <a:cubicBezTo>
                  <a:pt x="91" y="142"/>
                  <a:pt x="52" y="179"/>
                  <a:pt x="0" y="179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76320" y="2743200"/>
            <a:ext cx="4876920" cy="1189080"/>
          </a:xfrm>
          <a:custGeom>
            <a:avLst/>
            <a:gdLst/>
            <a:ahLst/>
            <a:rect l="l" t="t" r="r" b="b"/>
            <a:pathLst>
              <a:path w="3072" h="749">
                <a:moveTo>
                  <a:pt x="3072" y="0"/>
                </a:moveTo>
                <a:cubicBezTo>
                  <a:pt x="3042" y="4"/>
                  <a:pt x="3010" y="2"/>
                  <a:pt x="2981" y="11"/>
                </a:cubicBezTo>
                <a:cubicBezTo>
                  <a:pt x="2948" y="22"/>
                  <a:pt x="2942" y="49"/>
                  <a:pt x="2917" y="69"/>
                </a:cubicBezTo>
                <a:cubicBezTo>
                  <a:pt x="2889" y="91"/>
                  <a:pt x="2863" y="109"/>
                  <a:pt x="2842" y="139"/>
                </a:cubicBezTo>
                <a:cubicBezTo>
                  <a:pt x="2834" y="166"/>
                  <a:pt x="2823" y="194"/>
                  <a:pt x="2810" y="219"/>
                </a:cubicBezTo>
                <a:cubicBezTo>
                  <a:pt x="2804" y="245"/>
                  <a:pt x="2796" y="279"/>
                  <a:pt x="2773" y="293"/>
                </a:cubicBezTo>
                <a:cubicBezTo>
                  <a:pt x="2760" y="351"/>
                  <a:pt x="2724" y="411"/>
                  <a:pt x="2682" y="453"/>
                </a:cubicBezTo>
                <a:cubicBezTo>
                  <a:pt x="2670" y="490"/>
                  <a:pt x="2641" y="500"/>
                  <a:pt x="2618" y="528"/>
                </a:cubicBezTo>
                <a:cubicBezTo>
                  <a:pt x="2591" y="561"/>
                  <a:pt x="2561" y="621"/>
                  <a:pt x="2517" y="635"/>
                </a:cubicBezTo>
                <a:cubicBezTo>
                  <a:pt x="2482" y="646"/>
                  <a:pt x="2507" y="640"/>
                  <a:pt x="2442" y="645"/>
                </a:cubicBezTo>
                <a:cubicBezTo>
                  <a:pt x="2405" y="656"/>
                  <a:pt x="2377" y="677"/>
                  <a:pt x="2341" y="688"/>
                </a:cubicBezTo>
                <a:cubicBezTo>
                  <a:pt x="2319" y="703"/>
                  <a:pt x="2305" y="705"/>
                  <a:pt x="2277" y="709"/>
                </a:cubicBezTo>
                <a:cubicBezTo>
                  <a:pt x="2253" y="726"/>
                  <a:pt x="2235" y="737"/>
                  <a:pt x="2208" y="747"/>
                </a:cubicBezTo>
                <a:cubicBezTo>
                  <a:pt x="2151" y="745"/>
                  <a:pt x="2094" y="749"/>
                  <a:pt x="2037" y="741"/>
                </a:cubicBezTo>
                <a:cubicBezTo>
                  <a:pt x="2010" y="737"/>
                  <a:pt x="1996" y="703"/>
                  <a:pt x="1973" y="693"/>
                </a:cubicBezTo>
                <a:cubicBezTo>
                  <a:pt x="1930" y="674"/>
                  <a:pt x="1885" y="662"/>
                  <a:pt x="1840" y="651"/>
                </a:cubicBezTo>
                <a:cubicBezTo>
                  <a:pt x="1826" y="644"/>
                  <a:pt x="1811" y="636"/>
                  <a:pt x="1797" y="629"/>
                </a:cubicBezTo>
                <a:cubicBezTo>
                  <a:pt x="1787" y="624"/>
                  <a:pt x="1765" y="619"/>
                  <a:pt x="1765" y="619"/>
                </a:cubicBezTo>
                <a:cubicBezTo>
                  <a:pt x="1724" y="627"/>
                  <a:pt x="1642" y="635"/>
                  <a:pt x="1642" y="635"/>
                </a:cubicBezTo>
                <a:cubicBezTo>
                  <a:pt x="1498" y="632"/>
                  <a:pt x="1360" y="664"/>
                  <a:pt x="1232" y="603"/>
                </a:cubicBezTo>
                <a:cubicBezTo>
                  <a:pt x="1199" y="570"/>
                  <a:pt x="1127" y="542"/>
                  <a:pt x="1082" y="528"/>
                </a:cubicBezTo>
                <a:cubicBezTo>
                  <a:pt x="1052" y="507"/>
                  <a:pt x="1009" y="499"/>
                  <a:pt x="981" y="475"/>
                </a:cubicBezTo>
                <a:cubicBezTo>
                  <a:pt x="960" y="457"/>
                  <a:pt x="944" y="428"/>
                  <a:pt x="912" y="427"/>
                </a:cubicBezTo>
                <a:cubicBezTo>
                  <a:pt x="793" y="424"/>
                  <a:pt x="673" y="423"/>
                  <a:pt x="554" y="421"/>
                </a:cubicBezTo>
                <a:cubicBezTo>
                  <a:pt x="547" y="419"/>
                  <a:pt x="540" y="419"/>
                  <a:pt x="533" y="416"/>
                </a:cubicBezTo>
                <a:cubicBezTo>
                  <a:pt x="526" y="413"/>
                  <a:pt x="519" y="407"/>
                  <a:pt x="512" y="405"/>
                </a:cubicBezTo>
                <a:cubicBezTo>
                  <a:pt x="486" y="396"/>
                  <a:pt x="458" y="392"/>
                  <a:pt x="432" y="384"/>
                </a:cubicBezTo>
                <a:cubicBezTo>
                  <a:pt x="413" y="356"/>
                  <a:pt x="394" y="352"/>
                  <a:pt x="362" y="336"/>
                </a:cubicBezTo>
                <a:cubicBezTo>
                  <a:pt x="355" y="332"/>
                  <a:pt x="341" y="325"/>
                  <a:pt x="341" y="325"/>
                </a:cubicBezTo>
                <a:cubicBezTo>
                  <a:pt x="226" y="329"/>
                  <a:pt x="114" y="341"/>
                  <a:pt x="0" y="341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-7920" y="5062680"/>
            <a:ext cx="2751120" cy="1888920"/>
          </a:xfrm>
          <a:custGeom>
            <a:avLst/>
            <a:gdLst/>
            <a:ahLst/>
            <a:rect l="l" t="t" r="r" b="b"/>
            <a:pathLst>
              <a:path w="1733" h="1190">
                <a:moveTo>
                  <a:pt x="0" y="0"/>
                </a:moveTo>
                <a:cubicBezTo>
                  <a:pt x="38" y="14"/>
                  <a:pt x="31" y="29"/>
                  <a:pt x="80" y="38"/>
                </a:cubicBezTo>
                <a:cubicBezTo>
                  <a:pt x="98" y="66"/>
                  <a:pt x="103" y="94"/>
                  <a:pt x="122" y="123"/>
                </a:cubicBezTo>
                <a:cubicBezTo>
                  <a:pt x="144" y="156"/>
                  <a:pt x="201" y="126"/>
                  <a:pt x="240" y="128"/>
                </a:cubicBezTo>
                <a:cubicBezTo>
                  <a:pt x="298" y="135"/>
                  <a:pt x="318" y="157"/>
                  <a:pt x="378" y="166"/>
                </a:cubicBezTo>
                <a:cubicBezTo>
                  <a:pt x="393" y="206"/>
                  <a:pt x="406" y="235"/>
                  <a:pt x="378" y="288"/>
                </a:cubicBezTo>
                <a:cubicBezTo>
                  <a:pt x="370" y="304"/>
                  <a:pt x="343" y="292"/>
                  <a:pt x="325" y="294"/>
                </a:cubicBezTo>
                <a:cubicBezTo>
                  <a:pt x="314" y="329"/>
                  <a:pt x="299" y="346"/>
                  <a:pt x="266" y="358"/>
                </a:cubicBezTo>
                <a:cubicBezTo>
                  <a:pt x="230" y="416"/>
                  <a:pt x="279" y="424"/>
                  <a:pt x="320" y="432"/>
                </a:cubicBezTo>
                <a:cubicBezTo>
                  <a:pt x="340" y="440"/>
                  <a:pt x="344" y="453"/>
                  <a:pt x="362" y="464"/>
                </a:cubicBezTo>
                <a:cubicBezTo>
                  <a:pt x="379" y="489"/>
                  <a:pt x="384" y="508"/>
                  <a:pt x="410" y="518"/>
                </a:cubicBezTo>
                <a:cubicBezTo>
                  <a:pt x="420" y="545"/>
                  <a:pt x="418" y="558"/>
                  <a:pt x="389" y="566"/>
                </a:cubicBezTo>
                <a:cubicBezTo>
                  <a:pt x="339" y="598"/>
                  <a:pt x="274" y="560"/>
                  <a:pt x="224" y="592"/>
                </a:cubicBezTo>
                <a:cubicBezTo>
                  <a:pt x="220" y="597"/>
                  <a:pt x="213" y="602"/>
                  <a:pt x="213" y="608"/>
                </a:cubicBezTo>
                <a:cubicBezTo>
                  <a:pt x="204" y="743"/>
                  <a:pt x="266" y="695"/>
                  <a:pt x="405" y="699"/>
                </a:cubicBezTo>
                <a:cubicBezTo>
                  <a:pt x="433" y="718"/>
                  <a:pt x="456" y="746"/>
                  <a:pt x="474" y="774"/>
                </a:cubicBezTo>
                <a:cubicBezTo>
                  <a:pt x="480" y="783"/>
                  <a:pt x="478" y="797"/>
                  <a:pt x="485" y="806"/>
                </a:cubicBezTo>
                <a:cubicBezTo>
                  <a:pt x="510" y="837"/>
                  <a:pt x="588" y="835"/>
                  <a:pt x="618" y="838"/>
                </a:cubicBezTo>
                <a:cubicBezTo>
                  <a:pt x="644" y="854"/>
                  <a:pt x="671" y="851"/>
                  <a:pt x="698" y="864"/>
                </a:cubicBezTo>
                <a:cubicBezTo>
                  <a:pt x="713" y="872"/>
                  <a:pt x="746" y="880"/>
                  <a:pt x="746" y="880"/>
                </a:cubicBezTo>
                <a:cubicBezTo>
                  <a:pt x="773" y="899"/>
                  <a:pt x="799" y="903"/>
                  <a:pt x="832" y="907"/>
                </a:cubicBezTo>
                <a:cubicBezTo>
                  <a:pt x="864" y="959"/>
                  <a:pt x="901" y="1008"/>
                  <a:pt x="944" y="1051"/>
                </a:cubicBezTo>
                <a:cubicBezTo>
                  <a:pt x="965" y="1072"/>
                  <a:pt x="1004" y="1060"/>
                  <a:pt x="1034" y="1062"/>
                </a:cubicBezTo>
                <a:cubicBezTo>
                  <a:pt x="967" y="1067"/>
                  <a:pt x="935" y="1060"/>
                  <a:pt x="986" y="1099"/>
                </a:cubicBezTo>
                <a:cubicBezTo>
                  <a:pt x="998" y="1131"/>
                  <a:pt x="998" y="1177"/>
                  <a:pt x="1034" y="1190"/>
                </a:cubicBezTo>
                <a:cubicBezTo>
                  <a:pt x="1051" y="1165"/>
                  <a:pt x="1070" y="1154"/>
                  <a:pt x="1098" y="1147"/>
                </a:cubicBezTo>
                <a:cubicBezTo>
                  <a:pt x="1129" y="1101"/>
                  <a:pt x="1174" y="1070"/>
                  <a:pt x="1205" y="1024"/>
                </a:cubicBezTo>
                <a:cubicBezTo>
                  <a:pt x="1211" y="998"/>
                  <a:pt x="1208" y="970"/>
                  <a:pt x="1216" y="944"/>
                </a:cubicBezTo>
                <a:cubicBezTo>
                  <a:pt x="1221" y="927"/>
                  <a:pt x="1264" y="918"/>
                  <a:pt x="1264" y="918"/>
                </a:cubicBezTo>
                <a:cubicBezTo>
                  <a:pt x="1300" y="893"/>
                  <a:pt x="1334" y="851"/>
                  <a:pt x="1376" y="838"/>
                </a:cubicBezTo>
                <a:cubicBezTo>
                  <a:pt x="1418" y="845"/>
                  <a:pt x="1448" y="850"/>
                  <a:pt x="1493" y="854"/>
                </a:cubicBezTo>
                <a:cubicBezTo>
                  <a:pt x="1529" y="876"/>
                  <a:pt x="1490" y="846"/>
                  <a:pt x="1514" y="896"/>
                </a:cubicBezTo>
                <a:cubicBezTo>
                  <a:pt x="1523" y="915"/>
                  <a:pt x="1616" y="915"/>
                  <a:pt x="1642" y="918"/>
                </a:cubicBezTo>
                <a:cubicBezTo>
                  <a:pt x="1660" y="929"/>
                  <a:pt x="1676" y="933"/>
                  <a:pt x="1690" y="950"/>
                </a:cubicBezTo>
                <a:cubicBezTo>
                  <a:pt x="1698" y="960"/>
                  <a:pt x="1712" y="982"/>
                  <a:pt x="1712" y="982"/>
                </a:cubicBezTo>
                <a:cubicBezTo>
                  <a:pt x="1733" y="1050"/>
                  <a:pt x="1655" y="1021"/>
                  <a:pt x="1610" y="1019"/>
                </a:cubicBezTo>
                <a:cubicBezTo>
                  <a:pt x="1590" y="1013"/>
                  <a:pt x="1581" y="999"/>
                  <a:pt x="1562" y="992"/>
                </a:cubicBezTo>
                <a:cubicBezTo>
                  <a:pt x="1553" y="994"/>
                  <a:pt x="1544" y="993"/>
                  <a:pt x="1536" y="998"/>
                </a:cubicBezTo>
                <a:cubicBezTo>
                  <a:pt x="1519" y="1008"/>
                  <a:pt x="1520" y="1054"/>
                  <a:pt x="1509" y="1062"/>
                </a:cubicBezTo>
                <a:cubicBezTo>
                  <a:pt x="1500" y="1068"/>
                  <a:pt x="1477" y="1072"/>
                  <a:pt x="1477" y="1072"/>
                </a:cubicBezTo>
                <a:cubicBezTo>
                  <a:pt x="1450" y="1091"/>
                  <a:pt x="1422" y="1075"/>
                  <a:pt x="1402" y="1104"/>
                </a:cubicBezTo>
                <a:cubicBezTo>
                  <a:pt x="1394" y="1149"/>
                  <a:pt x="1399" y="1128"/>
                  <a:pt x="1381" y="111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762120"/>
            <a:ext cx="3566880" cy="3082680"/>
          </a:xfrm>
          <a:custGeom>
            <a:avLst/>
            <a:gdLst/>
            <a:ahLst/>
            <a:rect l="l" t="t" r="r" b="b"/>
            <a:pathLst>
              <a:path w="2265" h="1997">
                <a:moveTo>
                  <a:pt x="247" y="1462"/>
                </a:moveTo>
                <a:cubicBezTo>
                  <a:pt x="239" y="1461"/>
                  <a:pt x="201" y="1460"/>
                  <a:pt x="188" y="1451"/>
                </a:cubicBezTo>
                <a:cubicBezTo>
                  <a:pt x="182" y="1447"/>
                  <a:pt x="179" y="1439"/>
                  <a:pt x="172" y="1435"/>
                </a:cubicBezTo>
                <a:cubicBezTo>
                  <a:pt x="162" y="1430"/>
                  <a:pt x="140" y="1425"/>
                  <a:pt x="140" y="1425"/>
                </a:cubicBezTo>
                <a:cubicBezTo>
                  <a:pt x="100" y="1428"/>
                  <a:pt x="83" y="1429"/>
                  <a:pt x="50" y="1441"/>
                </a:cubicBezTo>
                <a:cubicBezTo>
                  <a:pt x="29" y="1462"/>
                  <a:pt x="22" y="1478"/>
                  <a:pt x="12" y="1505"/>
                </a:cubicBezTo>
                <a:cubicBezTo>
                  <a:pt x="21" y="1650"/>
                  <a:pt x="0" y="1626"/>
                  <a:pt x="146" y="1633"/>
                </a:cubicBezTo>
                <a:cubicBezTo>
                  <a:pt x="185" y="1635"/>
                  <a:pt x="224" y="1636"/>
                  <a:pt x="263" y="1638"/>
                </a:cubicBezTo>
                <a:cubicBezTo>
                  <a:pt x="298" y="1641"/>
                  <a:pt x="322" y="1644"/>
                  <a:pt x="354" y="1654"/>
                </a:cubicBezTo>
                <a:cubicBezTo>
                  <a:pt x="382" y="1682"/>
                  <a:pt x="416" y="1701"/>
                  <a:pt x="444" y="1729"/>
                </a:cubicBezTo>
                <a:cubicBezTo>
                  <a:pt x="598" y="1712"/>
                  <a:pt x="563" y="1692"/>
                  <a:pt x="647" y="1750"/>
                </a:cubicBezTo>
                <a:cubicBezTo>
                  <a:pt x="726" y="1865"/>
                  <a:pt x="805" y="1821"/>
                  <a:pt x="962" y="1825"/>
                </a:cubicBezTo>
                <a:cubicBezTo>
                  <a:pt x="1001" y="1851"/>
                  <a:pt x="981" y="1844"/>
                  <a:pt x="1020" y="1851"/>
                </a:cubicBezTo>
                <a:cubicBezTo>
                  <a:pt x="1131" y="1928"/>
                  <a:pt x="1005" y="1845"/>
                  <a:pt x="1378" y="1867"/>
                </a:cubicBezTo>
                <a:cubicBezTo>
                  <a:pt x="1388" y="1868"/>
                  <a:pt x="1425" y="1902"/>
                  <a:pt x="1436" y="1910"/>
                </a:cubicBezTo>
                <a:cubicBezTo>
                  <a:pt x="1479" y="1973"/>
                  <a:pt x="1571" y="1921"/>
                  <a:pt x="1639" y="1942"/>
                </a:cubicBezTo>
                <a:cubicBezTo>
                  <a:pt x="1711" y="1997"/>
                  <a:pt x="1823" y="1971"/>
                  <a:pt x="1900" y="1931"/>
                </a:cubicBezTo>
                <a:cubicBezTo>
                  <a:pt x="1920" y="1902"/>
                  <a:pt x="1957" y="1873"/>
                  <a:pt x="1991" y="1862"/>
                </a:cubicBezTo>
                <a:cubicBezTo>
                  <a:pt x="2025" y="1813"/>
                  <a:pt x="1979" y="1873"/>
                  <a:pt x="2018" y="1841"/>
                </a:cubicBezTo>
                <a:cubicBezTo>
                  <a:pt x="2023" y="1837"/>
                  <a:pt x="2024" y="1830"/>
                  <a:pt x="2028" y="1825"/>
                </a:cubicBezTo>
                <a:cubicBezTo>
                  <a:pt x="2032" y="1820"/>
                  <a:pt x="2039" y="1818"/>
                  <a:pt x="2044" y="1814"/>
                </a:cubicBezTo>
                <a:cubicBezTo>
                  <a:pt x="2056" y="1781"/>
                  <a:pt x="2052" y="1784"/>
                  <a:pt x="2087" y="1761"/>
                </a:cubicBezTo>
                <a:cubicBezTo>
                  <a:pt x="2092" y="1757"/>
                  <a:pt x="2103" y="1750"/>
                  <a:pt x="2103" y="1750"/>
                </a:cubicBezTo>
                <a:cubicBezTo>
                  <a:pt x="2128" y="1712"/>
                  <a:pt x="2120" y="1730"/>
                  <a:pt x="2130" y="1697"/>
                </a:cubicBezTo>
                <a:cubicBezTo>
                  <a:pt x="2135" y="1662"/>
                  <a:pt x="2134" y="1605"/>
                  <a:pt x="2151" y="1574"/>
                </a:cubicBezTo>
                <a:cubicBezTo>
                  <a:pt x="2157" y="1563"/>
                  <a:pt x="2165" y="1553"/>
                  <a:pt x="2172" y="1542"/>
                </a:cubicBezTo>
                <a:cubicBezTo>
                  <a:pt x="2176" y="1537"/>
                  <a:pt x="2183" y="1526"/>
                  <a:pt x="2183" y="1526"/>
                </a:cubicBezTo>
                <a:cubicBezTo>
                  <a:pt x="2193" y="1493"/>
                  <a:pt x="2211" y="1465"/>
                  <a:pt x="2226" y="1435"/>
                </a:cubicBezTo>
                <a:cubicBezTo>
                  <a:pt x="2238" y="1372"/>
                  <a:pt x="2265" y="1209"/>
                  <a:pt x="2215" y="1174"/>
                </a:cubicBezTo>
                <a:cubicBezTo>
                  <a:pt x="2200" y="1126"/>
                  <a:pt x="2130" y="1139"/>
                  <a:pt x="2092" y="1137"/>
                </a:cubicBezTo>
                <a:cubicBezTo>
                  <a:pt x="2085" y="1108"/>
                  <a:pt x="2081" y="1098"/>
                  <a:pt x="2092" y="1062"/>
                </a:cubicBezTo>
                <a:cubicBezTo>
                  <a:pt x="2096" y="1050"/>
                  <a:pt x="2114" y="1030"/>
                  <a:pt x="2114" y="1030"/>
                </a:cubicBezTo>
                <a:cubicBezTo>
                  <a:pt x="2116" y="1025"/>
                  <a:pt x="2119" y="1020"/>
                  <a:pt x="2119" y="1014"/>
                </a:cubicBezTo>
                <a:cubicBezTo>
                  <a:pt x="2119" y="864"/>
                  <a:pt x="2128" y="885"/>
                  <a:pt x="2002" y="875"/>
                </a:cubicBezTo>
                <a:cubicBezTo>
                  <a:pt x="1932" y="853"/>
                  <a:pt x="1862" y="862"/>
                  <a:pt x="1788" y="859"/>
                </a:cubicBezTo>
                <a:cubicBezTo>
                  <a:pt x="1790" y="799"/>
                  <a:pt x="1787" y="738"/>
                  <a:pt x="1794" y="678"/>
                </a:cubicBezTo>
                <a:cubicBezTo>
                  <a:pt x="1796" y="658"/>
                  <a:pt x="1842" y="641"/>
                  <a:pt x="1842" y="641"/>
                </a:cubicBezTo>
                <a:cubicBezTo>
                  <a:pt x="1862" y="578"/>
                  <a:pt x="1858" y="596"/>
                  <a:pt x="1842" y="465"/>
                </a:cubicBezTo>
                <a:cubicBezTo>
                  <a:pt x="1840" y="450"/>
                  <a:pt x="1816" y="451"/>
                  <a:pt x="1804" y="443"/>
                </a:cubicBezTo>
                <a:cubicBezTo>
                  <a:pt x="1784" y="430"/>
                  <a:pt x="1740" y="411"/>
                  <a:pt x="1740" y="411"/>
                </a:cubicBezTo>
                <a:cubicBezTo>
                  <a:pt x="1720" y="391"/>
                  <a:pt x="1700" y="376"/>
                  <a:pt x="1682" y="353"/>
                </a:cubicBezTo>
                <a:cubicBezTo>
                  <a:pt x="1655" y="319"/>
                  <a:pt x="1637" y="268"/>
                  <a:pt x="1586" y="267"/>
                </a:cubicBezTo>
                <a:cubicBezTo>
                  <a:pt x="1520" y="265"/>
                  <a:pt x="1454" y="264"/>
                  <a:pt x="1388" y="262"/>
                </a:cubicBezTo>
                <a:cubicBezTo>
                  <a:pt x="1376" y="260"/>
                  <a:pt x="1363" y="262"/>
                  <a:pt x="1351" y="257"/>
                </a:cubicBezTo>
                <a:cubicBezTo>
                  <a:pt x="1339" y="252"/>
                  <a:pt x="1319" y="235"/>
                  <a:pt x="1319" y="235"/>
                </a:cubicBezTo>
                <a:cubicBezTo>
                  <a:pt x="1309" y="204"/>
                  <a:pt x="1290" y="166"/>
                  <a:pt x="1271" y="139"/>
                </a:cubicBezTo>
                <a:cubicBezTo>
                  <a:pt x="1267" y="128"/>
                  <a:pt x="1258" y="118"/>
                  <a:pt x="1255" y="107"/>
                </a:cubicBezTo>
                <a:cubicBezTo>
                  <a:pt x="1231" y="28"/>
                  <a:pt x="1267" y="102"/>
                  <a:pt x="1239" y="49"/>
                </a:cubicBezTo>
                <a:cubicBezTo>
                  <a:pt x="1233" y="25"/>
                  <a:pt x="1232" y="9"/>
                  <a:pt x="1207" y="1"/>
                </a:cubicBezTo>
                <a:cubicBezTo>
                  <a:pt x="1173" y="3"/>
                  <a:pt x="1139" y="0"/>
                  <a:pt x="1106" y="6"/>
                </a:cubicBezTo>
                <a:cubicBezTo>
                  <a:pt x="1084" y="10"/>
                  <a:pt x="1118" y="82"/>
                  <a:pt x="1079" y="86"/>
                </a:cubicBezTo>
                <a:cubicBezTo>
                  <a:pt x="1035" y="91"/>
                  <a:pt x="990" y="89"/>
                  <a:pt x="946" y="91"/>
                </a:cubicBezTo>
                <a:cubicBezTo>
                  <a:pt x="927" y="119"/>
                  <a:pt x="928" y="154"/>
                  <a:pt x="924" y="187"/>
                </a:cubicBezTo>
                <a:cubicBezTo>
                  <a:pt x="873" y="184"/>
                  <a:pt x="857" y="186"/>
                  <a:pt x="818" y="171"/>
                </a:cubicBezTo>
                <a:cubicBezTo>
                  <a:pt x="773" y="173"/>
                  <a:pt x="723" y="156"/>
                  <a:pt x="684" y="177"/>
                </a:cubicBezTo>
                <a:cubicBezTo>
                  <a:pt x="665" y="187"/>
                  <a:pt x="684" y="220"/>
                  <a:pt x="690" y="241"/>
                </a:cubicBezTo>
                <a:cubicBezTo>
                  <a:pt x="696" y="263"/>
                  <a:pt x="736" y="272"/>
                  <a:pt x="754" y="278"/>
                </a:cubicBezTo>
                <a:cubicBezTo>
                  <a:pt x="789" y="302"/>
                  <a:pt x="786" y="341"/>
                  <a:pt x="807" y="374"/>
                </a:cubicBezTo>
                <a:cubicBezTo>
                  <a:pt x="816" y="389"/>
                  <a:pt x="828" y="403"/>
                  <a:pt x="839" y="417"/>
                </a:cubicBezTo>
                <a:cubicBezTo>
                  <a:pt x="848" y="429"/>
                  <a:pt x="860" y="438"/>
                  <a:pt x="871" y="449"/>
                </a:cubicBezTo>
                <a:cubicBezTo>
                  <a:pt x="880" y="458"/>
                  <a:pt x="903" y="470"/>
                  <a:pt x="903" y="470"/>
                </a:cubicBezTo>
                <a:cubicBezTo>
                  <a:pt x="920" y="495"/>
                  <a:pt x="933" y="499"/>
                  <a:pt x="898" y="507"/>
                </a:cubicBezTo>
                <a:cubicBezTo>
                  <a:pt x="880" y="501"/>
                  <a:pt x="861" y="499"/>
                  <a:pt x="844" y="491"/>
                </a:cubicBezTo>
                <a:cubicBezTo>
                  <a:pt x="822" y="480"/>
                  <a:pt x="835" y="481"/>
                  <a:pt x="812" y="475"/>
                </a:cubicBezTo>
                <a:cubicBezTo>
                  <a:pt x="746" y="457"/>
                  <a:pt x="791" y="473"/>
                  <a:pt x="754" y="459"/>
                </a:cubicBezTo>
                <a:cubicBezTo>
                  <a:pt x="709" y="460"/>
                  <a:pt x="543" y="449"/>
                  <a:pt x="460" y="475"/>
                </a:cubicBezTo>
                <a:cubicBezTo>
                  <a:pt x="443" y="492"/>
                  <a:pt x="436" y="510"/>
                  <a:pt x="423" y="529"/>
                </a:cubicBezTo>
                <a:cubicBezTo>
                  <a:pt x="420" y="540"/>
                  <a:pt x="412" y="550"/>
                  <a:pt x="412" y="561"/>
                </a:cubicBezTo>
                <a:cubicBezTo>
                  <a:pt x="412" y="684"/>
                  <a:pt x="602" y="660"/>
                  <a:pt x="668" y="662"/>
                </a:cubicBezTo>
                <a:cubicBezTo>
                  <a:pt x="675" y="664"/>
                  <a:pt x="684" y="662"/>
                  <a:pt x="690" y="667"/>
                </a:cubicBezTo>
                <a:cubicBezTo>
                  <a:pt x="700" y="675"/>
                  <a:pt x="711" y="699"/>
                  <a:pt x="711" y="699"/>
                </a:cubicBezTo>
                <a:cubicBezTo>
                  <a:pt x="737" y="781"/>
                  <a:pt x="685" y="778"/>
                  <a:pt x="626" y="785"/>
                </a:cubicBezTo>
                <a:cubicBezTo>
                  <a:pt x="598" y="794"/>
                  <a:pt x="598" y="828"/>
                  <a:pt x="588" y="854"/>
                </a:cubicBezTo>
                <a:cubicBezTo>
                  <a:pt x="582" y="884"/>
                  <a:pt x="583" y="913"/>
                  <a:pt x="551" y="923"/>
                </a:cubicBezTo>
                <a:cubicBezTo>
                  <a:pt x="485" y="915"/>
                  <a:pt x="524" y="920"/>
                  <a:pt x="482" y="891"/>
                </a:cubicBezTo>
                <a:cubicBezTo>
                  <a:pt x="416" y="896"/>
                  <a:pt x="393" y="885"/>
                  <a:pt x="359" y="934"/>
                </a:cubicBezTo>
                <a:cubicBezTo>
                  <a:pt x="345" y="980"/>
                  <a:pt x="354" y="1037"/>
                  <a:pt x="380" y="1078"/>
                </a:cubicBezTo>
                <a:cubicBezTo>
                  <a:pt x="389" y="1110"/>
                  <a:pt x="411" y="1137"/>
                  <a:pt x="444" y="1147"/>
                </a:cubicBezTo>
                <a:cubicBezTo>
                  <a:pt x="460" y="1189"/>
                  <a:pt x="480" y="1233"/>
                  <a:pt x="524" y="1249"/>
                </a:cubicBezTo>
                <a:cubicBezTo>
                  <a:pt x="544" y="1301"/>
                  <a:pt x="652" y="1309"/>
                  <a:pt x="695" y="1313"/>
                </a:cubicBezTo>
                <a:cubicBezTo>
                  <a:pt x="693" y="1340"/>
                  <a:pt x="696" y="1367"/>
                  <a:pt x="690" y="1393"/>
                </a:cubicBezTo>
                <a:cubicBezTo>
                  <a:pt x="689" y="1399"/>
                  <a:pt x="674" y="1397"/>
                  <a:pt x="674" y="1403"/>
                </a:cubicBezTo>
                <a:cubicBezTo>
                  <a:pt x="674" y="1409"/>
                  <a:pt x="685" y="1407"/>
                  <a:pt x="690" y="1409"/>
                </a:cubicBezTo>
                <a:cubicBezTo>
                  <a:pt x="655" y="1431"/>
                  <a:pt x="612" y="1426"/>
                  <a:pt x="578" y="1403"/>
                </a:cubicBezTo>
                <a:cubicBezTo>
                  <a:pt x="574" y="1398"/>
                  <a:pt x="572" y="1391"/>
                  <a:pt x="567" y="1387"/>
                </a:cubicBezTo>
                <a:cubicBezTo>
                  <a:pt x="562" y="1383"/>
                  <a:pt x="555" y="1382"/>
                  <a:pt x="551" y="1377"/>
                </a:cubicBezTo>
                <a:cubicBezTo>
                  <a:pt x="523" y="1345"/>
                  <a:pt x="514" y="1291"/>
                  <a:pt x="471" y="1275"/>
                </a:cubicBezTo>
                <a:cubicBezTo>
                  <a:pt x="466" y="1270"/>
                  <a:pt x="461" y="1264"/>
                  <a:pt x="455" y="1259"/>
                </a:cubicBezTo>
                <a:cubicBezTo>
                  <a:pt x="445" y="1251"/>
                  <a:pt x="423" y="1238"/>
                  <a:pt x="423" y="1238"/>
                </a:cubicBezTo>
                <a:cubicBezTo>
                  <a:pt x="385" y="1242"/>
                  <a:pt x="370" y="1244"/>
                  <a:pt x="338" y="1254"/>
                </a:cubicBezTo>
                <a:cubicBezTo>
                  <a:pt x="315" y="1270"/>
                  <a:pt x="313" y="1293"/>
                  <a:pt x="290" y="1307"/>
                </a:cubicBezTo>
                <a:cubicBezTo>
                  <a:pt x="297" y="1328"/>
                  <a:pt x="298" y="1350"/>
                  <a:pt x="306" y="1371"/>
                </a:cubicBezTo>
                <a:cubicBezTo>
                  <a:pt x="300" y="1456"/>
                  <a:pt x="327" y="1451"/>
                  <a:pt x="284" y="1451"/>
                </a:cubicBezTo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57400" y="2133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M-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Apus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844720" y="617400"/>
            <a:ext cx="2836800" cy="1452600"/>
          </a:xfrm>
          <a:custGeom>
            <a:avLst/>
            <a:gdLst/>
            <a:ahLst/>
            <a:rect l="l" t="t" r="r" b="b"/>
            <a:pathLst>
              <a:path w="1787" h="915">
                <a:moveTo>
                  <a:pt x="315" y="107"/>
                </a:moveTo>
                <a:cubicBezTo>
                  <a:pt x="288" y="89"/>
                  <a:pt x="262" y="71"/>
                  <a:pt x="235" y="54"/>
                </a:cubicBezTo>
                <a:cubicBezTo>
                  <a:pt x="205" y="35"/>
                  <a:pt x="169" y="25"/>
                  <a:pt x="139" y="6"/>
                </a:cubicBezTo>
                <a:cubicBezTo>
                  <a:pt x="15" y="13"/>
                  <a:pt x="83" y="0"/>
                  <a:pt x="27" y="38"/>
                </a:cubicBezTo>
                <a:cubicBezTo>
                  <a:pt x="0" y="132"/>
                  <a:pt x="142" y="105"/>
                  <a:pt x="192" y="107"/>
                </a:cubicBezTo>
                <a:cubicBezTo>
                  <a:pt x="235" y="117"/>
                  <a:pt x="255" y="192"/>
                  <a:pt x="203" y="208"/>
                </a:cubicBezTo>
                <a:cubicBezTo>
                  <a:pt x="188" y="223"/>
                  <a:pt x="172" y="233"/>
                  <a:pt x="160" y="251"/>
                </a:cubicBezTo>
                <a:cubicBezTo>
                  <a:pt x="167" y="318"/>
                  <a:pt x="160" y="314"/>
                  <a:pt x="229" y="320"/>
                </a:cubicBezTo>
                <a:cubicBezTo>
                  <a:pt x="270" y="348"/>
                  <a:pt x="297" y="338"/>
                  <a:pt x="357" y="342"/>
                </a:cubicBezTo>
                <a:cubicBezTo>
                  <a:pt x="385" y="355"/>
                  <a:pt x="395" y="380"/>
                  <a:pt x="421" y="390"/>
                </a:cubicBezTo>
                <a:cubicBezTo>
                  <a:pt x="438" y="407"/>
                  <a:pt x="461" y="420"/>
                  <a:pt x="485" y="427"/>
                </a:cubicBezTo>
                <a:cubicBezTo>
                  <a:pt x="535" y="461"/>
                  <a:pt x="507" y="480"/>
                  <a:pt x="517" y="555"/>
                </a:cubicBezTo>
                <a:cubicBezTo>
                  <a:pt x="520" y="577"/>
                  <a:pt x="575" y="586"/>
                  <a:pt x="592" y="587"/>
                </a:cubicBezTo>
                <a:cubicBezTo>
                  <a:pt x="679" y="590"/>
                  <a:pt x="766" y="590"/>
                  <a:pt x="853" y="592"/>
                </a:cubicBezTo>
                <a:cubicBezTo>
                  <a:pt x="884" y="604"/>
                  <a:pt x="889" y="639"/>
                  <a:pt x="917" y="656"/>
                </a:cubicBezTo>
                <a:cubicBezTo>
                  <a:pt x="948" y="701"/>
                  <a:pt x="933" y="728"/>
                  <a:pt x="939" y="795"/>
                </a:cubicBezTo>
                <a:cubicBezTo>
                  <a:pt x="939" y="801"/>
                  <a:pt x="939" y="808"/>
                  <a:pt x="944" y="811"/>
                </a:cubicBezTo>
                <a:cubicBezTo>
                  <a:pt x="955" y="818"/>
                  <a:pt x="969" y="818"/>
                  <a:pt x="981" y="822"/>
                </a:cubicBezTo>
                <a:cubicBezTo>
                  <a:pt x="986" y="824"/>
                  <a:pt x="997" y="827"/>
                  <a:pt x="997" y="827"/>
                </a:cubicBezTo>
                <a:cubicBezTo>
                  <a:pt x="1026" y="847"/>
                  <a:pt x="1060" y="857"/>
                  <a:pt x="1093" y="870"/>
                </a:cubicBezTo>
                <a:cubicBezTo>
                  <a:pt x="1298" y="868"/>
                  <a:pt x="1512" y="915"/>
                  <a:pt x="1707" y="854"/>
                </a:cubicBezTo>
                <a:cubicBezTo>
                  <a:pt x="1736" y="834"/>
                  <a:pt x="1766" y="852"/>
                  <a:pt x="1787" y="822"/>
                </a:cubicBezTo>
                <a:cubicBezTo>
                  <a:pt x="1785" y="804"/>
                  <a:pt x="1786" y="785"/>
                  <a:pt x="1781" y="768"/>
                </a:cubicBezTo>
                <a:cubicBezTo>
                  <a:pt x="1770" y="734"/>
                  <a:pt x="1734" y="700"/>
                  <a:pt x="1717" y="667"/>
                </a:cubicBezTo>
                <a:cubicBezTo>
                  <a:pt x="1710" y="638"/>
                  <a:pt x="1706" y="613"/>
                  <a:pt x="1685" y="592"/>
                </a:cubicBezTo>
                <a:cubicBezTo>
                  <a:pt x="1661" y="543"/>
                  <a:pt x="1675" y="561"/>
                  <a:pt x="1648" y="534"/>
                </a:cubicBezTo>
                <a:cubicBezTo>
                  <a:pt x="1638" y="503"/>
                  <a:pt x="1612" y="474"/>
                  <a:pt x="1584" y="459"/>
                </a:cubicBezTo>
                <a:cubicBezTo>
                  <a:pt x="1578" y="439"/>
                  <a:pt x="1552" y="406"/>
                  <a:pt x="1552" y="406"/>
                </a:cubicBezTo>
                <a:cubicBezTo>
                  <a:pt x="1543" y="376"/>
                  <a:pt x="1538" y="346"/>
                  <a:pt x="1520" y="320"/>
                </a:cubicBezTo>
                <a:cubicBezTo>
                  <a:pt x="1514" y="301"/>
                  <a:pt x="1510" y="281"/>
                  <a:pt x="1504" y="262"/>
                </a:cubicBezTo>
                <a:cubicBezTo>
                  <a:pt x="1499" y="222"/>
                  <a:pt x="1502" y="200"/>
                  <a:pt x="1461" y="187"/>
                </a:cubicBezTo>
                <a:cubicBezTo>
                  <a:pt x="1406" y="189"/>
                  <a:pt x="1351" y="189"/>
                  <a:pt x="1296" y="192"/>
                </a:cubicBezTo>
                <a:cubicBezTo>
                  <a:pt x="1273" y="193"/>
                  <a:pt x="1255" y="217"/>
                  <a:pt x="1232" y="224"/>
                </a:cubicBezTo>
                <a:cubicBezTo>
                  <a:pt x="1198" y="248"/>
                  <a:pt x="1162" y="259"/>
                  <a:pt x="1125" y="278"/>
                </a:cubicBezTo>
                <a:cubicBezTo>
                  <a:pt x="1115" y="283"/>
                  <a:pt x="1093" y="288"/>
                  <a:pt x="1093" y="288"/>
                </a:cubicBezTo>
                <a:cubicBezTo>
                  <a:pt x="1065" y="307"/>
                  <a:pt x="1044" y="314"/>
                  <a:pt x="1013" y="326"/>
                </a:cubicBezTo>
                <a:cubicBezTo>
                  <a:pt x="991" y="318"/>
                  <a:pt x="994" y="307"/>
                  <a:pt x="981" y="288"/>
                </a:cubicBezTo>
                <a:cubicBezTo>
                  <a:pt x="966" y="241"/>
                  <a:pt x="966" y="230"/>
                  <a:pt x="928" y="192"/>
                </a:cubicBezTo>
                <a:cubicBezTo>
                  <a:pt x="916" y="180"/>
                  <a:pt x="869" y="176"/>
                  <a:pt x="853" y="171"/>
                </a:cubicBezTo>
                <a:cubicBezTo>
                  <a:pt x="811" y="142"/>
                  <a:pt x="795" y="156"/>
                  <a:pt x="731" y="160"/>
                </a:cubicBezTo>
                <a:cubicBezTo>
                  <a:pt x="707" y="169"/>
                  <a:pt x="685" y="179"/>
                  <a:pt x="661" y="187"/>
                </a:cubicBezTo>
                <a:cubicBezTo>
                  <a:pt x="634" y="185"/>
                  <a:pt x="607" y="188"/>
                  <a:pt x="581" y="182"/>
                </a:cubicBezTo>
                <a:cubicBezTo>
                  <a:pt x="567" y="179"/>
                  <a:pt x="562" y="161"/>
                  <a:pt x="549" y="155"/>
                </a:cubicBezTo>
                <a:cubicBezTo>
                  <a:pt x="537" y="150"/>
                  <a:pt x="524" y="147"/>
                  <a:pt x="512" y="144"/>
                </a:cubicBezTo>
                <a:cubicBezTo>
                  <a:pt x="498" y="140"/>
                  <a:pt x="469" y="134"/>
                  <a:pt x="469" y="134"/>
                </a:cubicBezTo>
                <a:cubicBezTo>
                  <a:pt x="434" y="110"/>
                  <a:pt x="401" y="116"/>
                  <a:pt x="357" y="112"/>
                </a:cubicBezTo>
                <a:cubicBezTo>
                  <a:pt x="327" y="105"/>
                  <a:pt x="299" y="95"/>
                  <a:pt x="272" y="80"/>
                </a:cubicBezTo>
                <a:cubicBezTo>
                  <a:pt x="261" y="74"/>
                  <a:pt x="251" y="66"/>
                  <a:pt x="240" y="59"/>
                </a:cubicBezTo>
                <a:cubicBezTo>
                  <a:pt x="235" y="55"/>
                  <a:pt x="224" y="48"/>
                  <a:pt x="224" y="48"/>
                </a:cubicBezTo>
                <a:cubicBezTo>
                  <a:pt x="207" y="24"/>
                  <a:pt x="173" y="16"/>
                  <a:pt x="144" y="1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00560" y="1973160"/>
            <a:ext cx="1720800" cy="1666800"/>
          </a:xfrm>
          <a:custGeom>
            <a:avLst/>
            <a:gdLst/>
            <a:ahLst/>
            <a:rect l="l" t="t" r="r" b="b"/>
            <a:pathLst>
              <a:path w="1084" h="1050">
                <a:moveTo>
                  <a:pt x="0" y="0"/>
                </a:moveTo>
                <a:cubicBezTo>
                  <a:pt x="4" y="11"/>
                  <a:pt x="12" y="21"/>
                  <a:pt x="16" y="32"/>
                </a:cubicBezTo>
                <a:cubicBezTo>
                  <a:pt x="30" y="74"/>
                  <a:pt x="17" y="71"/>
                  <a:pt x="38" y="96"/>
                </a:cubicBezTo>
                <a:cubicBezTo>
                  <a:pt x="51" y="111"/>
                  <a:pt x="75" y="144"/>
                  <a:pt x="75" y="144"/>
                </a:cubicBezTo>
                <a:cubicBezTo>
                  <a:pt x="85" y="185"/>
                  <a:pt x="110" y="227"/>
                  <a:pt x="134" y="261"/>
                </a:cubicBezTo>
                <a:cubicBezTo>
                  <a:pt x="145" y="276"/>
                  <a:pt x="176" y="298"/>
                  <a:pt x="176" y="298"/>
                </a:cubicBezTo>
                <a:cubicBezTo>
                  <a:pt x="216" y="356"/>
                  <a:pt x="225" y="356"/>
                  <a:pt x="288" y="400"/>
                </a:cubicBezTo>
                <a:cubicBezTo>
                  <a:pt x="316" y="419"/>
                  <a:pt x="329" y="408"/>
                  <a:pt x="358" y="437"/>
                </a:cubicBezTo>
                <a:cubicBezTo>
                  <a:pt x="387" y="499"/>
                  <a:pt x="348" y="425"/>
                  <a:pt x="384" y="469"/>
                </a:cubicBezTo>
                <a:cubicBezTo>
                  <a:pt x="388" y="474"/>
                  <a:pt x="392" y="496"/>
                  <a:pt x="395" y="501"/>
                </a:cubicBezTo>
                <a:cubicBezTo>
                  <a:pt x="398" y="507"/>
                  <a:pt x="403" y="511"/>
                  <a:pt x="406" y="517"/>
                </a:cubicBezTo>
                <a:cubicBezTo>
                  <a:pt x="410" y="524"/>
                  <a:pt x="413" y="531"/>
                  <a:pt x="416" y="538"/>
                </a:cubicBezTo>
                <a:cubicBezTo>
                  <a:pt x="414" y="607"/>
                  <a:pt x="417" y="677"/>
                  <a:pt x="411" y="746"/>
                </a:cubicBezTo>
                <a:cubicBezTo>
                  <a:pt x="410" y="754"/>
                  <a:pt x="400" y="756"/>
                  <a:pt x="395" y="762"/>
                </a:cubicBezTo>
                <a:cubicBezTo>
                  <a:pt x="387" y="772"/>
                  <a:pt x="374" y="794"/>
                  <a:pt x="374" y="794"/>
                </a:cubicBezTo>
                <a:cubicBezTo>
                  <a:pt x="370" y="852"/>
                  <a:pt x="368" y="887"/>
                  <a:pt x="358" y="938"/>
                </a:cubicBezTo>
                <a:cubicBezTo>
                  <a:pt x="361" y="970"/>
                  <a:pt x="353" y="992"/>
                  <a:pt x="374" y="1013"/>
                </a:cubicBezTo>
                <a:cubicBezTo>
                  <a:pt x="384" y="1023"/>
                  <a:pt x="394" y="1033"/>
                  <a:pt x="406" y="1040"/>
                </a:cubicBezTo>
                <a:cubicBezTo>
                  <a:pt x="416" y="1045"/>
                  <a:pt x="438" y="1050"/>
                  <a:pt x="438" y="1050"/>
                </a:cubicBezTo>
                <a:cubicBezTo>
                  <a:pt x="491" y="1048"/>
                  <a:pt x="545" y="1048"/>
                  <a:pt x="598" y="1045"/>
                </a:cubicBezTo>
                <a:cubicBezTo>
                  <a:pt x="638" y="1043"/>
                  <a:pt x="601" y="1034"/>
                  <a:pt x="651" y="1018"/>
                </a:cubicBezTo>
                <a:cubicBezTo>
                  <a:pt x="662" y="1015"/>
                  <a:pt x="683" y="1008"/>
                  <a:pt x="683" y="1008"/>
                </a:cubicBezTo>
                <a:cubicBezTo>
                  <a:pt x="694" y="974"/>
                  <a:pt x="686" y="1009"/>
                  <a:pt x="720" y="986"/>
                </a:cubicBezTo>
                <a:cubicBezTo>
                  <a:pt x="732" y="969"/>
                  <a:pt x="731" y="949"/>
                  <a:pt x="742" y="933"/>
                </a:cubicBezTo>
                <a:cubicBezTo>
                  <a:pt x="746" y="927"/>
                  <a:pt x="753" y="923"/>
                  <a:pt x="758" y="917"/>
                </a:cubicBezTo>
                <a:cubicBezTo>
                  <a:pt x="762" y="912"/>
                  <a:pt x="765" y="906"/>
                  <a:pt x="768" y="901"/>
                </a:cubicBezTo>
                <a:cubicBezTo>
                  <a:pt x="773" y="883"/>
                  <a:pt x="773" y="852"/>
                  <a:pt x="784" y="837"/>
                </a:cubicBezTo>
                <a:cubicBezTo>
                  <a:pt x="837" y="769"/>
                  <a:pt x="971" y="791"/>
                  <a:pt x="1030" y="789"/>
                </a:cubicBezTo>
                <a:cubicBezTo>
                  <a:pt x="1084" y="754"/>
                  <a:pt x="1052" y="774"/>
                  <a:pt x="1072" y="709"/>
                </a:cubicBezTo>
                <a:cubicBezTo>
                  <a:pt x="1070" y="672"/>
                  <a:pt x="1070" y="634"/>
                  <a:pt x="1067" y="597"/>
                </a:cubicBezTo>
                <a:cubicBezTo>
                  <a:pt x="1066" y="579"/>
                  <a:pt x="1040" y="549"/>
                  <a:pt x="1040" y="549"/>
                </a:cubicBezTo>
                <a:cubicBezTo>
                  <a:pt x="1025" y="501"/>
                  <a:pt x="999" y="453"/>
                  <a:pt x="982" y="405"/>
                </a:cubicBezTo>
                <a:cubicBezTo>
                  <a:pt x="976" y="388"/>
                  <a:pt x="970" y="370"/>
                  <a:pt x="966" y="352"/>
                </a:cubicBezTo>
                <a:cubicBezTo>
                  <a:pt x="962" y="336"/>
                  <a:pt x="955" y="304"/>
                  <a:pt x="955" y="304"/>
                </a:cubicBezTo>
                <a:cubicBezTo>
                  <a:pt x="952" y="250"/>
                  <a:pt x="957" y="212"/>
                  <a:pt x="928" y="170"/>
                </a:cubicBezTo>
                <a:cubicBezTo>
                  <a:pt x="913" y="122"/>
                  <a:pt x="932" y="109"/>
                  <a:pt x="886" y="80"/>
                </a:cubicBezTo>
                <a:cubicBezTo>
                  <a:pt x="872" y="43"/>
                  <a:pt x="891" y="85"/>
                  <a:pt x="864" y="53"/>
                </a:cubicBezTo>
                <a:cubicBezTo>
                  <a:pt x="856" y="43"/>
                  <a:pt x="843" y="21"/>
                  <a:pt x="843" y="21"/>
                </a:cubicBezTo>
                <a:cubicBezTo>
                  <a:pt x="784" y="24"/>
                  <a:pt x="745" y="32"/>
                  <a:pt x="688" y="37"/>
                </a:cubicBezTo>
                <a:cubicBezTo>
                  <a:pt x="560" y="68"/>
                  <a:pt x="254" y="44"/>
                  <a:pt x="160" y="42"/>
                </a:cubicBezTo>
                <a:cubicBezTo>
                  <a:pt x="144" y="37"/>
                  <a:pt x="129" y="29"/>
                  <a:pt x="112" y="26"/>
                </a:cubicBezTo>
                <a:cubicBezTo>
                  <a:pt x="66" y="19"/>
                  <a:pt x="39" y="23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44960" y="3259080"/>
            <a:ext cx="1158840" cy="1111320"/>
          </a:xfrm>
          <a:custGeom>
            <a:avLst/>
            <a:gdLst/>
            <a:ahLst/>
            <a:rect l="l" t="t" r="r" b="b"/>
            <a:pathLst>
              <a:path w="730" h="700">
                <a:moveTo>
                  <a:pt x="437" y="32"/>
                </a:moveTo>
                <a:cubicBezTo>
                  <a:pt x="457" y="96"/>
                  <a:pt x="446" y="53"/>
                  <a:pt x="437" y="203"/>
                </a:cubicBezTo>
                <a:cubicBezTo>
                  <a:pt x="436" y="223"/>
                  <a:pt x="424" y="244"/>
                  <a:pt x="405" y="251"/>
                </a:cubicBezTo>
                <a:cubicBezTo>
                  <a:pt x="334" y="277"/>
                  <a:pt x="274" y="281"/>
                  <a:pt x="224" y="347"/>
                </a:cubicBezTo>
                <a:cubicBezTo>
                  <a:pt x="214" y="374"/>
                  <a:pt x="180" y="374"/>
                  <a:pt x="154" y="384"/>
                </a:cubicBezTo>
                <a:cubicBezTo>
                  <a:pt x="111" y="400"/>
                  <a:pt x="65" y="413"/>
                  <a:pt x="21" y="427"/>
                </a:cubicBezTo>
                <a:cubicBezTo>
                  <a:pt x="15" y="445"/>
                  <a:pt x="6" y="457"/>
                  <a:pt x="0" y="475"/>
                </a:cubicBezTo>
                <a:cubicBezTo>
                  <a:pt x="5" y="544"/>
                  <a:pt x="6" y="557"/>
                  <a:pt x="42" y="608"/>
                </a:cubicBezTo>
                <a:cubicBezTo>
                  <a:pt x="57" y="630"/>
                  <a:pt x="58" y="647"/>
                  <a:pt x="85" y="656"/>
                </a:cubicBezTo>
                <a:cubicBezTo>
                  <a:pt x="99" y="700"/>
                  <a:pt x="179" y="694"/>
                  <a:pt x="218" y="699"/>
                </a:cubicBezTo>
                <a:cubicBezTo>
                  <a:pt x="314" y="695"/>
                  <a:pt x="311" y="698"/>
                  <a:pt x="373" y="683"/>
                </a:cubicBezTo>
                <a:cubicBezTo>
                  <a:pt x="396" y="667"/>
                  <a:pt x="426" y="662"/>
                  <a:pt x="453" y="656"/>
                </a:cubicBezTo>
                <a:cubicBezTo>
                  <a:pt x="467" y="653"/>
                  <a:pt x="496" y="646"/>
                  <a:pt x="496" y="646"/>
                </a:cubicBezTo>
                <a:cubicBezTo>
                  <a:pt x="514" y="636"/>
                  <a:pt x="537" y="631"/>
                  <a:pt x="554" y="619"/>
                </a:cubicBezTo>
                <a:cubicBezTo>
                  <a:pt x="560" y="615"/>
                  <a:pt x="564" y="608"/>
                  <a:pt x="570" y="603"/>
                </a:cubicBezTo>
                <a:cubicBezTo>
                  <a:pt x="575" y="599"/>
                  <a:pt x="581" y="596"/>
                  <a:pt x="586" y="592"/>
                </a:cubicBezTo>
                <a:cubicBezTo>
                  <a:pt x="594" y="571"/>
                  <a:pt x="599" y="562"/>
                  <a:pt x="618" y="550"/>
                </a:cubicBezTo>
                <a:cubicBezTo>
                  <a:pt x="627" y="526"/>
                  <a:pt x="629" y="512"/>
                  <a:pt x="645" y="491"/>
                </a:cubicBezTo>
                <a:cubicBezTo>
                  <a:pt x="652" y="453"/>
                  <a:pt x="668" y="417"/>
                  <a:pt x="677" y="379"/>
                </a:cubicBezTo>
                <a:cubicBezTo>
                  <a:pt x="690" y="271"/>
                  <a:pt x="730" y="140"/>
                  <a:pt x="666" y="48"/>
                </a:cubicBezTo>
                <a:cubicBezTo>
                  <a:pt x="661" y="31"/>
                  <a:pt x="640" y="0"/>
                  <a:pt x="640" y="0"/>
                </a:cubicBezTo>
                <a:cubicBezTo>
                  <a:pt x="584" y="4"/>
                  <a:pt x="530" y="10"/>
                  <a:pt x="474" y="16"/>
                </a:cubicBezTo>
                <a:cubicBezTo>
                  <a:pt x="445" y="27"/>
                  <a:pt x="459" y="44"/>
                  <a:pt x="437" y="3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87760" y="3772080"/>
            <a:ext cx="636840" cy="761760"/>
          </a:xfrm>
          <a:custGeom>
            <a:avLst/>
            <a:gdLst/>
            <a:ahLst/>
            <a:rect l="l" t="t" r="r" b="b"/>
            <a:pathLst>
              <a:path w="401" h="480">
                <a:moveTo>
                  <a:pt x="250" y="93"/>
                </a:moveTo>
                <a:cubicBezTo>
                  <a:pt x="246" y="60"/>
                  <a:pt x="250" y="47"/>
                  <a:pt x="224" y="29"/>
                </a:cubicBezTo>
                <a:cubicBezTo>
                  <a:pt x="204" y="0"/>
                  <a:pt x="190" y="17"/>
                  <a:pt x="160" y="24"/>
                </a:cubicBezTo>
                <a:cubicBezTo>
                  <a:pt x="137" y="35"/>
                  <a:pt x="114" y="42"/>
                  <a:pt x="90" y="51"/>
                </a:cubicBezTo>
                <a:cubicBezTo>
                  <a:pt x="74" y="67"/>
                  <a:pt x="63" y="75"/>
                  <a:pt x="42" y="83"/>
                </a:cubicBezTo>
                <a:cubicBezTo>
                  <a:pt x="33" y="112"/>
                  <a:pt x="32" y="142"/>
                  <a:pt x="16" y="168"/>
                </a:cubicBezTo>
                <a:cubicBezTo>
                  <a:pt x="12" y="196"/>
                  <a:pt x="8" y="221"/>
                  <a:pt x="0" y="248"/>
                </a:cubicBezTo>
                <a:cubicBezTo>
                  <a:pt x="6" y="292"/>
                  <a:pt x="18" y="303"/>
                  <a:pt x="48" y="333"/>
                </a:cubicBezTo>
                <a:cubicBezTo>
                  <a:pt x="55" y="354"/>
                  <a:pt x="62" y="398"/>
                  <a:pt x="80" y="413"/>
                </a:cubicBezTo>
                <a:cubicBezTo>
                  <a:pt x="117" y="444"/>
                  <a:pt x="200" y="438"/>
                  <a:pt x="234" y="440"/>
                </a:cubicBezTo>
                <a:cubicBezTo>
                  <a:pt x="294" y="480"/>
                  <a:pt x="253" y="462"/>
                  <a:pt x="368" y="456"/>
                </a:cubicBezTo>
                <a:cubicBezTo>
                  <a:pt x="389" y="449"/>
                  <a:pt x="401" y="427"/>
                  <a:pt x="384" y="403"/>
                </a:cubicBezTo>
                <a:cubicBezTo>
                  <a:pt x="377" y="392"/>
                  <a:pt x="352" y="381"/>
                  <a:pt x="352" y="381"/>
                </a:cubicBezTo>
                <a:cubicBezTo>
                  <a:pt x="345" y="371"/>
                  <a:pt x="332" y="365"/>
                  <a:pt x="325" y="355"/>
                </a:cubicBezTo>
                <a:cubicBezTo>
                  <a:pt x="304" y="323"/>
                  <a:pt x="330" y="282"/>
                  <a:pt x="293" y="259"/>
                </a:cubicBezTo>
                <a:cubicBezTo>
                  <a:pt x="275" y="235"/>
                  <a:pt x="268" y="237"/>
                  <a:pt x="245" y="221"/>
                </a:cubicBezTo>
                <a:cubicBezTo>
                  <a:pt x="221" y="186"/>
                  <a:pt x="207" y="119"/>
                  <a:pt x="250" y="9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76840" y="3809880"/>
            <a:ext cx="687240" cy="490680"/>
          </a:xfrm>
          <a:custGeom>
            <a:avLst/>
            <a:gdLst/>
            <a:ahLst/>
            <a:rect l="l" t="t" r="r" b="b"/>
            <a:pathLst>
              <a:path w="433" h="309">
                <a:moveTo>
                  <a:pt x="379" y="43"/>
                </a:moveTo>
                <a:cubicBezTo>
                  <a:pt x="317" y="0"/>
                  <a:pt x="259" y="29"/>
                  <a:pt x="171" y="32"/>
                </a:cubicBezTo>
                <a:cubicBezTo>
                  <a:pt x="116" y="36"/>
                  <a:pt x="77" y="40"/>
                  <a:pt x="27" y="59"/>
                </a:cubicBezTo>
                <a:cubicBezTo>
                  <a:pt x="0" y="86"/>
                  <a:pt x="7" y="118"/>
                  <a:pt x="27" y="149"/>
                </a:cubicBezTo>
                <a:cubicBezTo>
                  <a:pt x="33" y="181"/>
                  <a:pt x="32" y="191"/>
                  <a:pt x="54" y="213"/>
                </a:cubicBezTo>
                <a:cubicBezTo>
                  <a:pt x="56" y="218"/>
                  <a:pt x="55" y="225"/>
                  <a:pt x="59" y="229"/>
                </a:cubicBezTo>
                <a:cubicBezTo>
                  <a:pt x="63" y="233"/>
                  <a:pt x="73" y="230"/>
                  <a:pt x="75" y="235"/>
                </a:cubicBezTo>
                <a:cubicBezTo>
                  <a:pt x="81" y="248"/>
                  <a:pt x="67" y="273"/>
                  <a:pt x="81" y="277"/>
                </a:cubicBezTo>
                <a:cubicBezTo>
                  <a:pt x="128" y="292"/>
                  <a:pt x="180" y="281"/>
                  <a:pt x="230" y="283"/>
                </a:cubicBezTo>
                <a:cubicBezTo>
                  <a:pt x="263" y="287"/>
                  <a:pt x="287" y="291"/>
                  <a:pt x="315" y="309"/>
                </a:cubicBezTo>
                <a:cubicBezTo>
                  <a:pt x="371" y="303"/>
                  <a:pt x="371" y="308"/>
                  <a:pt x="379" y="256"/>
                </a:cubicBezTo>
                <a:cubicBezTo>
                  <a:pt x="382" y="215"/>
                  <a:pt x="368" y="77"/>
                  <a:pt x="411" y="64"/>
                </a:cubicBezTo>
                <a:cubicBezTo>
                  <a:pt x="433" y="6"/>
                  <a:pt x="393" y="41"/>
                  <a:pt x="369" y="43"/>
                </a:cubicBezTo>
                <a:cubicBezTo>
                  <a:pt x="356" y="44"/>
                  <a:pt x="344" y="43"/>
                  <a:pt x="331" y="43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09720" y="3632040"/>
            <a:ext cx="1168560" cy="855720"/>
          </a:xfrm>
          <a:custGeom>
            <a:avLst/>
            <a:gdLst/>
            <a:ahLst/>
            <a:rect l="l" t="t" r="r" b="b"/>
            <a:pathLst>
              <a:path w="736" h="539">
                <a:moveTo>
                  <a:pt x="650" y="144"/>
                </a:moveTo>
                <a:cubicBezTo>
                  <a:pt x="643" y="123"/>
                  <a:pt x="640" y="114"/>
                  <a:pt x="618" y="107"/>
                </a:cubicBezTo>
                <a:cubicBezTo>
                  <a:pt x="588" y="87"/>
                  <a:pt x="543" y="40"/>
                  <a:pt x="506" y="37"/>
                </a:cubicBezTo>
                <a:cubicBezTo>
                  <a:pt x="465" y="34"/>
                  <a:pt x="425" y="34"/>
                  <a:pt x="384" y="32"/>
                </a:cubicBezTo>
                <a:cubicBezTo>
                  <a:pt x="371" y="14"/>
                  <a:pt x="362" y="7"/>
                  <a:pt x="341" y="0"/>
                </a:cubicBezTo>
                <a:cubicBezTo>
                  <a:pt x="307" y="2"/>
                  <a:pt x="274" y="2"/>
                  <a:pt x="240" y="5"/>
                </a:cubicBezTo>
                <a:cubicBezTo>
                  <a:pt x="220" y="7"/>
                  <a:pt x="211" y="26"/>
                  <a:pt x="192" y="32"/>
                </a:cubicBezTo>
                <a:cubicBezTo>
                  <a:pt x="175" y="44"/>
                  <a:pt x="164" y="58"/>
                  <a:pt x="144" y="64"/>
                </a:cubicBezTo>
                <a:cubicBezTo>
                  <a:pt x="98" y="95"/>
                  <a:pt x="30" y="107"/>
                  <a:pt x="0" y="155"/>
                </a:cubicBezTo>
                <a:cubicBezTo>
                  <a:pt x="6" y="192"/>
                  <a:pt x="16" y="214"/>
                  <a:pt x="42" y="240"/>
                </a:cubicBezTo>
                <a:cubicBezTo>
                  <a:pt x="50" y="261"/>
                  <a:pt x="59" y="265"/>
                  <a:pt x="80" y="272"/>
                </a:cubicBezTo>
                <a:cubicBezTo>
                  <a:pt x="87" y="294"/>
                  <a:pt x="96" y="291"/>
                  <a:pt x="117" y="299"/>
                </a:cubicBezTo>
                <a:cubicBezTo>
                  <a:pt x="112" y="317"/>
                  <a:pt x="126" y="381"/>
                  <a:pt x="144" y="395"/>
                </a:cubicBezTo>
                <a:cubicBezTo>
                  <a:pt x="159" y="407"/>
                  <a:pt x="183" y="403"/>
                  <a:pt x="202" y="405"/>
                </a:cubicBezTo>
                <a:cubicBezTo>
                  <a:pt x="233" y="417"/>
                  <a:pt x="232" y="440"/>
                  <a:pt x="240" y="469"/>
                </a:cubicBezTo>
                <a:cubicBezTo>
                  <a:pt x="243" y="480"/>
                  <a:pt x="240" y="497"/>
                  <a:pt x="250" y="501"/>
                </a:cubicBezTo>
                <a:cubicBezTo>
                  <a:pt x="266" y="507"/>
                  <a:pt x="298" y="517"/>
                  <a:pt x="298" y="517"/>
                </a:cubicBezTo>
                <a:cubicBezTo>
                  <a:pt x="320" y="532"/>
                  <a:pt x="343" y="532"/>
                  <a:pt x="368" y="539"/>
                </a:cubicBezTo>
                <a:cubicBezTo>
                  <a:pt x="462" y="537"/>
                  <a:pt x="556" y="536"/>
                  <a:pt x="650" y="533"/>
                </a:cubicBezTo>
                <a:cubicBezTo>
                  <a:pt x="670" y="532"/>
                  <a:pt x="690" y="534"/>
                  <a:pt x="709" y="528"/>
                </a:cubicBezTo>
                <a:cubicBezTo>
                  <a:pt x="726" y="522"/>
                  <a:pt x="723" y="493"/>
                  <a:pt x="736" y="480"/>
                </a:cubicBezTo>
                <a:cubicBezTo>
                  <a:pt x="734" y="400"/>
                  <a:pt x="733" y="320"/>
                  <a:pt x="730" y="240"/>
                </a:cubicBezTo>
                <a:cubicBezTo>
                  <a:pt x="729" y="216"/>
                  <a:pt x="682" y="187"/>
                  <a:pt x="682" y="187"/>
                </a:cubicBezTo>
                <a:cubicBezTo>
                  <a:pt x="655" y="145"/>
                  <a:pt x="690" y="193"/>
                  <a:pt x="656" y="165"/>
                </a:cubicBezTo>
                <a:cubicBezTo>
                  <a:pt x="635" y="148"/>
                  <a:pt x="657" y="148"/>
                  <a:pt x="629" y="133"/>
                </a:cubicBezTo>
                <a:cubicBezTo>
                  <a:pt x="619" y="128"/>
                  <a:pt x="597" y="123"/>
                  <a:pt x="597" y="123"/>
                </a:cubicBezTo>
                <a:cubicBezTo>
                  <a:pt x="574" y="107"/>
                  <a:pt x="560" y="89"/>
                  <a:pt x="538" y="75"/>
                </a:cubicBezTo>
                <a:cubicBezTo>
                  <a:pt x="530" y="62"/>
                  <a:pt x="523" y="48"/>
                  <a:pt x="506" y="48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98720" y="3995640"/>
            <a:ext cx="1057320" cy="1015920"/>
          </a:xfrm>
          <a:custGeom>
            <a:avLst/>
            <a:gdLst/>
            <a:ahLst/>
            <a:rect l="l" t="t" r="r" b="b"/>
            <a:pathLst>
              <a:path w="666" h="640">
                <a:moveTo>
                  <a:pt x="528" y="112"/>
                </a:moveTo>
                <a:cubicBezTo>
                  <a:pt x="476" y="78"/>
                  <a:pt x="478" y="86"/>
                  <a:pt x="400" y="80"/>
                </a:cubicBezTo>
                <a:cubicBezTo>
                  <a:pt x="338" y="52"/>
                  <a:pt x="275" y="54"/>
                  <a:pt x="208" y="48"/>
                </a:cubicBezTo>
                <a:cubicBezTo>
                  <a:pt x="173" y="37"/>
                  <a:pt x="211" y="52"/>
                  <a:pt x="181" y="27"/>
                </a:cubicBezTo>
                <a:cubicBezTo>
                  <a:pt x="160" y="9"/>
                  <a:pt x="154" y="8"/>
                  <a:pt x="133" y="0"/>
                </a:cubicBezTo>
                <a:cubicBezTo>
                  <a:pt x="99" y="10"/>
                  <a:pt x="112" y="20"/>
                  <a:pt x="74" y="27"/>
                </a:cubicBezTo>
                <a:cubicBezTo>
                  <a:pt x="0" y="78"/>
                  <a:pt x="73" y="212"/>
                  <a:pt x="42" y="294"/>
                </a:cubicBezTo>
                <a:cubicBezTo>
                  <a:pt x="78" y="415"/>
                  <a:pt x="32" y="247"/>
                  <a:pt x="58" y="555"/>
                </a:cubicBezTo>
                <a:cubicBezTo>
                  <a:pt x="59" y="569"/>
                  <a:pt x="92" y="596"/>
                  <a:pt x="101" y="608"/>
                </a:cubicBezTo>
                <a:cubicBezTo>
                  <a:pt x="103" y="619"/>
                  <a:pt x="95" y="640"/>
                  <a:pt x="106" y="640"/>
                </a:cubicBezTo>
                <a:cubicBezTo>
                  <a:pt x="119" y="640"/>
                  <a:pt x="128" y="608"/>
                  <a:pt x="128" y="608"/>
                </a:cubicBezTo>
                <a:cubicBezTo>
                  <a:pt x="133" y="588"/>
                  <a:pt x="132" y="561"/>
                  <a:pt x="144" y="544"/>
                </a:cubicBezTo>
                <a:cubicBezTo>
                  <a:pt x="169" y="508"/>
                  <a:pt x="232" y="497"/>
                  <a:pt x="272" y="491"/>
                </a:cubicBezTo>
                <a:cubicBezTo>
                  <a:pt x="301" y="469"/>
                  <a:pt x="321" y="438"/>
                  <a:pt x="357" y="427"/>
                </a:cubicBezTo>
                <a:cubicBezTo>
                  <a:pt x="399" y="385"/>
                  <a:pt x="473" y="382"/>
                  <a:pt x="528" y="379"/>
                </a:cubicBezTo>
                <a:cubicBezTo>
                  <a:pt x="538" y="372"/>
                  <a:pt x="551" y="370"/>
                  <a:pt x="560" y="363"/>
                </a:cubicBezTo>
                <a:cubicBezTo>
                  <a:pt x="581" y="346"/>
                  <a:pt x="560" y="336"/>
                  <a:pt x="592" y="326"/>
                </a:cubicBezTo>
                <a:cubicBezTo>
                  <a:pt x="608" y="315"/>
                  <a:pt x="624" y="310"/>
                  <a:pt x="640" y="299"/>
                </a:cubicBezTo>
                <a:cubicBezTo>
                  <a:pt x="666" y="258"/>
                  <a:pt x="647" y="227"/>
                  <a:pt x="613" y="203"/>
                </a:cubicBezTo>
                <a:cubicBezTo>
                  <a:pt x="603" y="172"/>
                  <a:pt x="578" y="150"/>
                  <a:pt x="560" y="123"/>
                </a:cubicBezTo>
                <a:cubicBezTo>
                  <a:pt x="554" y="114"/>
                  <a:pt x="528" y="112"/>
                  <a:pt x="528" y="112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43000" y="4038480"/>
            <a:ext cx="990720" cy="1284480"/>
          </a:xfrm>
          <a:custGeom>
            <a:avLst/>
            <a:gdLst/>
            <a:ahLst/>
            <a:rect l="l" t="t" r="r" b="b"/>
            <a:pathLst>
              <a:path w="565" h="740">
                <a:moveTo>
                  <a:pt x="499" y="176"/>
                </a:moveTo>
                <a:cubicBezTo>
                  <a:pt x="491" y="129"/>
                  <a:pt x="489" y="142"/>
                  <a:pt x="467" y="107"/>
                </a:cubicBezTo>
                <a:cubicBezTo>
                  <a:pt x="462" y="74"/>
                  <a:pt x="472" y="23"/>
                  <a:pt x="435" y="11"/>
                </a:cubicBezTo>
                <a:cubicBezTo>
                  <a:pt x="381" y="21"/>
                  <a:pt x="327" y="15"/>
                  <a:pt x="275" y="0"/>
                </a:cubicBezTo>
                <a:cubicBezTo>
                  <a:pt x="248" y="2"/>
                  <a:pt x="221" y="0"/>
                  <a:pt x="195" y="6"/>
                </a:cubicBezTo>
                <a:cubicBezTo>
                  <a:pt x="160" y="14"/>
                  <a:pt x="170" y="28"/>
                  <a:pt x="147" y="43"/>
                </a:cubicBezTo>
                <a:cubicBezTo>
                  <a:pt x="138" y="49"/>
                  <a:pt x="126" y="50"/>
                  <a:pt x="115" y="54"/>
                </a:cubicBezTo>
                <a:cubicBezTo>
                  <a:pt x="89" y="92"/>
                  <a:pt x="102" y="77"/>
                  <a:pt x="77" y="102"/>
                </a:cubicBezTo>
                <a:cubicBezTo>
                  <a:pt x="65" y="140"/>
                  <a:pt x="73" y="125"/>
                  <a:pt x="56" y="150"/>
                </a:cubicBezTo>
                <a:cubicBezTo>
                  <a:pt x="46" y="181"/>
                  <a:pt x="45" y="189"/>
                  <a:pt x="77" y="198"/>
                </a:cubicBezTo>
                <a:cubicBezTo>
                  <a:pt x="97" y="196"/>
                  <a:pt x="117" y="198"/>
                  <a:pt x="136" y="192"/>
                </a:cubicBezTo>
                <a:cubicBezTo>
                  <a:pt x="141" y="190"/>
                  <a:pt x="137" y="180"/>
                  <a:pt x="141" y="176"/>
                </a:cubicBezTo>
                <a:cubicBezTo>
                  <a:pt x="154" y="160"/>
                  <a:pt x="192" y="151"/>
                  <a:pt x="211" y="144"/>
                </a:cubicBezTo>
                <a:cubicBezTo>
                  <a:pt x="223" y="146"/>
                  <a:pt x="240" y="140"/>
                  <a:pt x="248" y="150"/>
                </a:cubicBezTo>
                <a:cubicBezTo>
                  <a:pt x="255" y="158"/>
                  <a:pt x="246" y="172"/>
                  <a:pt x="243" y="182"/>
                </a:cubicBezTo>
                <a:cubicBezTo>
                  <a:pt x="233" y="214"/>
                  <a:pt x="207" y="217"/>
                  <a:pt x="179" y="224"/>
                </a:cubicBezTo>
                <a:cubicBezTo>
                  <a:pt x="160" y="237"/>
                  <a:pt x="159" y="245"/>
                  <a:pt x="152" y="267"/>
                </a:cubicBezTo>
                <a:cubicBezTo>
                  <a:pt x="157" y="310"/>
                  <a:pt x="172" y="334"/>
                  <a:pt x="184" y="374"/>
                </a:cubicBezTo>
                <a:cubicBezTo>
                  <a:pt x="170" y="491"/>
                  <a:pt x="155" y="454"/>
                  <a:pt x="8" y="459"/>
                </a:cubicBezTo>
                <a:cubicBezTo>
                  <a:pt x="0" y="520"/>
                  <a:pt x="9" y="506"/>
                  <a:pt x="72" y="512"/>
                </a:cubicBezTo>
                <a:cubicBezTo>
                  <a:pt x="77" y="514"/>
                  <a:pt x="84" y="514"/>
                  <a:pt x="88" y="518"/>
                </a:cubicBezTo>
                <a:cubicBezTo>
                  <a:pt x="97" y="527"/>
                  <a:pt x="109" y="550"/>
                  <a:pt x="109" y="550"/>
                </a:cubicBezTo>
                <a:cubicBezTo>
                  <a:pt x="125" y="647"/>
                  <a:pt x="189" y="575"/>
                  <a:pt x="269" y="598"/>
                </a:cubicBezTo>
                <a:cubicBezTo>
                  <a:pt x="294" y="635"/>
                  <a:pt x="279" y="626"/>
                  <a:pt x="307" y="635"/>
                </a:cubicBezTo>
                <a:cubicBezTo>
                  <a:pt x="326" y="659"/>
                  <a:pt x="345" y="688"/>
                  <a:pt x="371" y="704"/>
                </a:cubicBezTo>
                <a:cubicBezTo>
                  <a:pt x="394" y="740"/>
                  <a:pt x="430" y="723"/>
                  <a:pt x="467" y="715"/>
                </a:cubicBezTo>
                <a:cubicBezTo>
                  <a:pt x="478" y="697"/>
                  <a:pt x="492" y="684"/>
                  <a:pt x="504" y="667"/>
                </a:cubicBezTo>
                <a:cubicBezTo>
                  <a:pt x="512" y="641"/>
                  <a:pt x="518" y="624"/>
                  <a:pt x="541" y="608"/>
                </a:cubicBezTo>
                <a:cubicBezTo>
                  <a:pt x="535" y="461"/>
                  <a:pt x="565" y="466"/>
                  <a:pt x="451" y="454"/>
                </a:cubicBezTo>
                <a:cubicBezTo>
                  <a:pt x="418" y="406"/>
                  <a:pt x="470" y="356"/>
                  <a:pt x="483" y="310"/>
                </a:cubicBezTo>
                <a:cubicBezTo>
                  <a:pt x="489" y="289"/>
                  <a:pt x="491" y="267"/>
                  <a:pt x="493" y="246"/>
                </a:cubicBezTo>
                <a:cubicBezTo>
                  <a:pt x="495" y="217"/>
                  <a:pt x="497" y="189"/>
                  <a:pt x="499" y="160"/>
                </a:cubicBezTo>
                <a:cubicBezTo>
                  <a:pt x="499" y="157"/>
                  <a:pt x="492" y="92"/>
                  <a:pt x="483" y="86"/>
                </a:cubicBezTo>
                <a:cubicBezTo>
                  <a:pt x="464" y="73"/>
                  <a:pt x="470" y="81"/>
                  <a:pt x="461" y="64"/>
                </a:cubicBezTo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89200" y="3489480"/>
            <a:ext cx="877680" cy="606240"/>
          </a:xfrm>
          <a:custGeom>
            <a:avLst/>
            <a:gdLst/>
            <a:ahLst/>
            <a:rect l="l" t="t" r="r" b="b"/>
            <a:pathLst>
              <a:path w="553" h="382">
                <a:moveTo>
                  <a:pt x="553" y="69"/>
                </a:moveTo>
                <a:cubicBezTo>
                  <a:pt x="525" y="64"/>
                  <a:pt x="499" y="57"/>
                  <a:pt x="473" y="47"/>
                </a:cubicBezTo>
                <a:cubicBezTo>
                  <a:pt x="426" y="0"/>
                  <a:pt x="382" y="28"/>
                  <a:pt x="302" y="31"/>
                </a:cubicBezTo>
                <a:cubicBezTo>
                  <a:pt x="283" y="50"/>
                  <a:pt x="233" y="104"/>
                  <a:pt x="212" y="111"/>
                </a:cubicBezTo>
                <a:cubicBezTo>
                  <a:pt x="196" y="122"/>
                  <a:pt x="182" y="126"/>
                  <a:pt x="164" y="133"/>
                </a:cubicBezTo>
                <a:cubicBezTo>
                  <a:pt x="142" y="118"/>
                  <a:pt x="124" y="104"/>
                  <a:pt x="100" y="95"/>
                </a:cubicBezTo>
                <a:cubicBezTo>
                  <a:pt x="60" y="104"/>
                  <a:pt x="60" y="117"/>
                  <a:pt x="46" y="154"/>
                </a:cubicBezTo>
                <a:cubicBezTo>
                  <a:pt x="55" y="382"/>
                  <a:pt x="0" y="302"/>
                  <a:pt x="260" y="314"/>
                </a:cubicBezTo>
                <a:cubicBezTo>
                  <a:pt x="266" y="314"/>
                  <a:pt x="271" y="317"/>
                  <a:pt x="276" y="319"/>
                </a:cubicBezTo>
                <a:cubicBezTo>
                  <a:pt x="305" y="339"/>
                  <a:pt x="342" y="335"/>
                  <a:pt x="377" y="341"/>
                </a:cubicBezTo>
                <a:cubicBezTo>
                  <a:pt x="427" y="338"/>
                  <a:pt x="473" y="354"/>
                  <a:pt x="500" y="314"/>
                </a:cubicBezTo>
                <a:cubicBezTo>
                  <a:pt x="506" y="294"/>
                  <a:pt x="516" y="281"/>
                  <a:pt x="521" y="261"/>
                </a:cubicBezTo>
                <a:cubicBezTo>
                  <a:pt x="523" y="216"/>
                  <a:pt x="523" y="172"/>
                  <a:pt x="526" y="127"/>
                </a:cubicBezTo>
                <a:cubicBezTo>
                  <a:pt x="527" y="110"/>
                  <a:pt x="547" y="74"/>
                  <a:pt x="516" y="74"/>
                </a:cubicBezTo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1143000"/>
            <a:ext cx="1985760" cy="2489040"/>
          </a:xfrm>
          <a:custGeom>
            <a:avLst/>
            <a:gdLst/>
            <a:ahLst/>
            <a:rect l="l" t="t" r="r" b="b"/>
            <a:pathLst>
              <a:path w="1251" h="1515">
                <a:moveTo>
                  <a:pt x="785" y="635"/>
                </a:moveTo>
                <a:cubicBezTo>
                  <a:pt x="804" y="628"/>
                  <a:pt x="813" y="614"/>
                  <a:pt x="833" y="608"/>
                </a:cubicBezTo>
                <a:cubicBezTo>
                  <a:pt x="838" y="603"/>
                  <a:pt x="843" y="596"/>
                  <a:pt x="849" y="592"/>
                </a:cubicBezTo>
                <a:cubicBezTo>
                  <a:pt x="854" y="589"/>
                  <a:pt x="862" y="592"/>
                  <a:pt x="865" y="587"/>
                </a:cubicBezTo>
                <a:cubicBezTo>
                  <a:pt x="894" y="546"/>
                  <a:pt x="859" y="491"/>
                  <a:pt x="913" y="464"/>
                </a:cubicBezTo>
                <a:cubicBezTo>
                  <a:pt x="923" y="448"/>
                  <a:pt x="955" y="427"/>
                  <a:pt x="955" y="427"/>
                </a:cubicBezTo>
                <a:cubicBezTo>
                  <a:pt x="971" y="384"/>
                  <a:pt x="947" y="438"/>
                  <a:pt x="977" y="400"/>
                </a:cubicBezTo>
                <a:cubicBezTo>
                  <a:pt x="980" y="396"/>
                  <a:pt x="979" y="389"/>
                  <a:pt x="982" y="384"/>
                </a:cubicBezTo>
                <a:cubicBezTo>
                  <a:pt x="986" y="378"/>
                  <a:pt x="993" y="374"/>
                  <a:pt x="998" y="368"/>
                </a:cubicBezTo>
                <a:cubicBezTo>
                  <a:pt x="1018" y="342"/>
                  <a:pt x="1024" y="306"/>
                  <a:pt x="1051" y="288"/>
                </a:cubicBezTo>
                <a:cubicBezTo>
                  <a:pt x="1066" y="247"/>
                  <a:pt x="1094" y="171"/>
                  <a:pt x="1041" y="155"/>
                </a:cubicBezTo>
                <a:cubicBezTo>
                  <a:pt x="1006" y="120"/>
                  <a:pt x="1030" y="76"/>
                  <a:pt x="1003" y="37"/>
                </a:cubicBezTo>
                <a:cubicBezTo>
                  <a:pt x="996" y="15"/>
                  <a:pt x="988" y="7"/>
                  <a:pt x="966" y="0"/>
                </a:cubicBezTo>
                <a:cubicBezTo>
                  <a:pt x="931" y="4"/>
                  <a:pt x="916" y="7"/>
                  <a:pt x="886" y="16"/>
                </a:cubicBezTo>
                <a:cubicBezTo>
                  <a:pt x="859" y="34"/>
                  <a:pt x="874" y="21"/>
                  <a:pt x="849" y="59"/>
                </a:cubicBezTo>
                <a:cubicBezTo>
                  <a:pt x="842" y="70"/>
                  <a:pt x="827" y="91"/>
                  <a:pt x="827" y="91"/>
                </a:cubicBezTo>
                <a:cubicBezTo>
                  <a:pt x="813" y="166"/>
                  <a:pt x="833" y="71"/>
                  <a:pt x="811" y="139"/>
                </a:cubicBezTo>
                <a:cubicBezTo>
                  <a:pt x="807" y="153"/>
                  <a:pt x="801" y="181"/>
                  <a:pt x="801" y="181"/>
                </a:cubicBezTo>
                <a:cubicBezTo>
                  <a:pt x="799" y="226"/>
                  <a:pt x="830" y="340"/>
                  <a:pt x="774" y="379"/>
                </a:cubicBezTo>
                <a:cubicBezTo>
                  <a:pt x="762" y="397"/>
                  <a:pt x="739" y="420"/>
                  <a:pt x="721" y="432"/>
                </a:cubicBezTo>
                <a:cubicBezTo>
                  <a:pt x="709" y="449"/>
                  <a:pt x="695" y="458"/>
                  <a:pt x="683" y="475"/>
                </a:cubicBezTo>
                <a:cubicBezTo>
                  <a:pt x="628" y="467"/>
                  <a:pt x="648" y="467"/>
                  <a:pt x="609" y="443"/>
                </a:cubicBezTo>
                <a:cubicBezTo>
                  <a:pt x="594" y="390"/>
                  <a:pt x="615" y="446"/>
                  <a:pt x="587" y="411"/>
                </a:cubicBezTo>
                <a:cubicBezTo>
                  <a:pt x="583" y="407"/>
                  <a:pt x="586" y="399"/>
                  <a:pt x="582" y="395"/>
                </a:cubicBezTo>
                <a:cubicBezTo>
                  <a:pt x="570" y="382"/>
                  <a:pt x="516" y="380"/>
                  <a:pt x="507" y="379"/>
                </a:cubicBezTo>
                <a:cubicBezTo>
                  <a:pt x="472" y="381"/>
                  <a:pt x="434" y="372"/>
                  <a:pt x="401" y="384"/>
                </a:cubicBezTo>
                <a:cubicBezTo>
                  <a:pt x="391" y="388"/>
                  <a:pt x="403" y="406"/>
                  <a:pt x="406" y="416"/>
                </a:cubicBezTo>
                <a:cubicBezTo>
                  <a:pt x="410" y="427"/>
                  <a:pt x="423" y="438"/>
                  <a:pt x="433" y="443"/>
                </a:cubicBezTo>
                <a:cubicBezTo>
                  <a:pt x="443" y="447"/>
                  <a:pt x="465" y="453"/>
                  <a:pt x="465" y="453"/>
                </a:cubicBezTo>
                <a:cubicBezTo>
                  <a:pt x="456" y="545"/>
                  <a:pt x="470" y="509"/>
                  <a:pt x="379" y="517"/>
                </a:cubicBezTo>
                <a:cubicBezTo>
                  <a:pt x="332" y="526"/>
                  <a:pt x="340" y="533"/>
                  <a:pt x="294" y="507"/>
                </a:cubicBezTo>
                <a:cubicBezTo>
                  <a:pt x="282" y="510"/>
                  <a:pt x="257" y="515"/>
                  <a:pt x="257" y="517"/>
                </a:cubicBezTo>
                <a:cubicBezTo>
                  <a:pt x="254" y="535"/>
                  <a:pt x="260" y="553"/>
                  <a:pt x="262" y="571"/>
                </a:cubicBezTo>
                <a:cubicBezTo>
                  <a:pt x="268" y="629"/>
                  <a:pt x="287" y="683"/>
                  <a:pt x="342" y="709"/>
                </a:cubicBezTo>
                <a:cubicBezTo>
                  <a:pt x="375" y="758"/>
                  <a:pt x="330" y="698"/>
                  <a:pt x="369" y="731"/>
                </a:cubicBezTo>
                <a:cubicBezTo>
                  <a:pt x="377" y="737"/>
                  <a:pt x="389" y="759"/>
                  <a:pt x="395" y="768"/>
                </a:cubicBezTo>
                <a:cubicBezTo>
                  <a:pt x="402" y="791"/>
                  <a:pt x="414" y="801"/>
                  <a:pt x="427" y="821"/>
                </a:cubicBezTo>
                <a:cubicBezTo>
                  <a:pt x="429" y="828"/>
                  <a:pt x="431" y="836"/>
                  <a:pt x="433" y="843"/>
                </a:cubicBezTo>
                <a:cubicBezTo>
                  <a:pt x="436" y="854"/>
                  <a:pt x="443" y="875"/>
                  <a:pt x="443" y="875"/>
                </a:cubicBezTo>
                <a:cubicBezTo>
                  <a:pt x="441" y="889"/>
                  <a:pt x="446" y="905"/>
                  <a:pt x="438" y="917"/>
                </a:cubicBezTo>
                <a:cubicBezTo>
                  <a:pt x="435" y="922"/>
                  <a:pt x="427" y="911"/>
                  <a:pt x="422" y="907"/>
                </a:cubicBezTo>
                <a:cubicBezTo>
                  <a:pt x="416" y="902"/>
                  <a:pt x="411" y="897"/>
                  <a:pt x="406" y="891"/>
                </a:cubicBezTo>
                <a:cubicBezTo>
                  <a:pt x="382" y="860"/>
                  <a:pt x="380" y="839"/>
                  <a:pt x="342" y="827"/>
                </a:cubicBezTo>
                <a:cubicBezTo>
                  <a:pt x="287" y="832"/>
                  <a:pt x="282" y="824"/>
                  <a:pt x="257" y="864"/>
                </a:cubicBezTo>
                <a:cubicBezTo>
                  <a:pt x="227" y="969"/>
                  <a:pt x="337" y="956"/>
                  <a:pt x="363" y="1040"/>
                </a:cubicBezTo>
                <a:cubicBezTo>
                  <a:pt x="358" y="1124"/>
                  <a:pt x="378" y="1138"/>
                  <a:pt x="310" y="1125"/>
                </a:cubicBezTo>
                <a:cubicBezTo>
                  <a:pt x="275" y="1103"/>
                  <a:pt x="274" y="1062"/>
                  <a:pt x="241" y="1040"/>
                </a:cubicBezTo>
                <a:cubicBezTo>
                  <a:pt x="203" y="1044"/>
                  <a:pt x="190" y="1043"/>
                  <a:pt x="161" y="1061"/>
                </a:cubicBezTo>
                <a:cubicBezTo>
                  <a:pt x="150" y="1091"/>
                  <a:pt x="135" y="1111"/>
                  <a:pt x="177" y="1120"/>
                </a:cubicBezTo>
                <a:cubicBezTo>
                  <a:pt x="104" y="1123"/>
                  <a:pt x="85" y="1111"/>
                  <a:pt x="38" y="1141"/>
                </a:cubicBezTo>
                <a:cubicBezTo>
                  <a:pt x="32" y="1161"/>
                  <a:pt x="18" y="1169"/>
                  <a:pt x="11" y="1189"/>
                </a:cubicBezTo>
                <a:cubicBezTo>
                  <a:pt x="7" y="1200"/>
                  <a:pt x="1" y="1221"/>
                  <a:pt x="1" y="1221"/>
                </a:cubicBezTo>
                <a:cubicBezTo>
                  <a:pt x="3" y="1234"/>
                  <a:pt x="0" y="1248"/>
                  <a:pt x="6" y="1259"/>
                </a:cubicBezTo>
                <a:cubicBezTo>
                  <a:pt x="12" y="1270"/>
                  <a:pt x="30" y="1268"/>
                  <a:pt x="43" y="1269"/>
                </a:cubicBezTo>
                <a:cubicBezTo>
                  <a:pt x="105" y="1272"/>
                  <a:pt x="168" y="1273"/>
                  <a:pt x="230" y="1275"/>
                </a:cubicBezTo>
                <a:cubicBezTo>
                  <a:pt x="253" y="1289"/>
                  <a:pt x="266" y="1312"/>
                  <a:pt x="289" y="1328"/>
                </a:cubicBezTo>
                <a:cubicBezTo>
                  <a:pt x="376" y="1323"/>
                  <a:pt x="372" y="1320"/>
                  <a:pt x="465" y="1328"/>
                </a:cubicBezTo>
                <a:cubicBezTo>
                  <a:pt x="490" y="1330"/>
                  <a:pt x="519" y="1344"/>
                  <a:pt x="545" y="1349"/>
                </a:cubicBezTo>
                <a:cubicBezTo>
                  <a:pt x="555" y="1365"/>
                  <a:pt x="560" y="1390"/>
                  <a:pt x="571" y="1403"/>
                </a:cubicBezTo>
                <a:cubicBezTo>
                  <a:pt x="581" y="1416"/>
                  <a:pt x="641" y="1440"/>
                  <a:pt x="657" y="1445"/>
                </a:cubicBezTo>
                <a:cubicBezTo>
                  <a:pt x="669" y="1463"/>
                  <a:pt x="710" y="1483"/>
                  <a:pt x="710" y="1483"/>
                </a:cubicBezTo>
                <a:cubicBezTo>
                  <a:pt x="723" y="1502"/>
                  <a:pt x="734" y="1502"/>
                  <a:pt x="753" y="1515"/>
                </a:cubicBezTo>
                <a:cubicBezTo>
                  <a:pt x="765" y="1511"/>
                  <a:pt x="778" y="1508"/>
                  <a:pt x="790" y="1504"/>
                </a:cubicBezTo>
                <a:cubicBezTo>
                  <a:pt x="843" y="1488"/>
                  <a:pt x="775" y="1487"/>
                  <a:pt x="822" y="1483"/>
                </a:cubicBezTo>
                <a:cubicBezTo>
                  <a:pt x="859" y="1480"/>
                  <a:pt x="897" y="1479"/>
                  <a:pt x="934" y="1477"/>
                </a:cubicBezTo>
                <a:cubicBezTo>
                  <a:pt x="952" y="1471"/>
                  <a:pt x="964" y="1462"/>
                  <a:pt x="982" y="1456"/>
                </a:cubicBezTo>
                <a:cubicBezTo>
                  <a:pt x="1005" y="1438"/>
                  <a:pt x="1022" y="1417"/>
                  <a:pt x="1051" y="1408"/>
                </a:cubicBezTo>
                <a:cubicBezTo>
                  <a:pt x="1056" y="1403"/>
                  <a:pt x="1061" y="1397"/>
                  <a:pt x="1067" y="1392"/>
                </a:cubicBezTo>
                <a:cubicBezTo>
                  <a:pt x="1077" y="1384"/>
                  <a:pt x="1099" y="1371"/>
                  <a:pt x="1099" y="1371"/>
                </a:cubicBezTo>
                <a:cubicBezTo>
                  <a:pt x="1112" y="1352"/>
                  <a:pt x="1115" y="1339"/>
                  <a:pt x="1131" y="1323"/>
                </a:cubicBezTo>
                <a:cubicBezTo>
                  <a:pt x="1140" y="1291"/>
                  <a:pt x="1153" y="1266"/>
                  <a:pt x="1158" y="1232"/>
                </a:cubicBezTo>
                <a:cubicBezTo>
                  <a:pt x="1161" y="1184"/>
                  <a:pt x="1160" y="1123"/>
                  <a:pt x="1201" y="1093"/>
                </a:cubicBezTo>
                <a:cubicBezTo>
                  <a:pt x="1212" y="1075"/>
                  <a:pt x="1226" y="1058"/>
                  <a:pt x="1238" y="1040"/>
                </a:cubicBezTo>
                <a:cubicBezTo>
                  <a:pt x="1251" y="987"/>
                  <a:pt x="1246" y="1014"/>
                  <a:pt x="1238" y="912"/>
                </a:cubicBezTo>
                <a:cubicBezTo>
                  <a:pt x="1236" y="889"/>
                  <a:pt x="1179" y="782"/>
                  <a:pt x="1158" y="768"/>
                </a:cubicBezTo>
                <a:cubicBezTo>
                  <a:pt x="1105" y="733"/>
                  <a:pt x="923" y="747"/>
                  <a:pt x="923" y="747"/>
                </a:cubicBezTo>
                <a:cubicBezTo>
                  <a:pt x="896" y="736"/>
                  <a:pt x="873" y="721"/>
                  <a:pt x="849" y="704"/>
                </a:cubicBezTo>
                <a:cubicBezTo>
                  <a:pt x="783" y="659"/>
                  <a:pt x="842" y="680"/>
                  <a:pt x="801" y="667"/>
                </a:cubicBezTo>
                <a:cubicBezTo>
                  <a:pt x="781" y="647"/>
                  <a:pt x="785" y="659"/>
                  <a:pt x="785" y="635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380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-76320" y="-1522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648320" y="228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ă ne reaminti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5257800"/>
            <a:ext cx="5105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Localizează grupele de munţi din Carpaţii   Româneşt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ornind de la hotarul de n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838080" y="762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3e3ff"/>
                </a:solidFill>
                <a:latin typeface="Arial"/>
              </a:rPr>
              <a:t>Bibliograf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1219320"/>
            <a:ext cx="7315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Dumitra Radu – Geografie – suport didactic pentru fixarea şi         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îmbogăţirea cunoştinţelor – clasa a I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Marcela Peneş, Ioan Şortan – Geografia României – manual    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            pentru clasa a IV-a Editura „Ana”, Bucureşti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Atlasul geografic al Român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cccc"/>
                </a:solidFill>
                <a:latin typeface="Arial"/>
              </a:rPr>
              <a:t>www.welcometoromania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4800600"/>
            <a:ext cx="556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aterial realizat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nvăţător Puşcaru Lu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Şcoala Generală Nr. 3 Râşnov, judeţul Braş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"/>
            <p:cNvGrpSpPr/>
            <p:nvPr/>
          </p:nvGrpSpPr>
          <p:grpSpPr>
            <a:xfrm>
              <a:off x="0" y="0"/>
              <a:ext cx="8534520" cy="6859440"/>
              <a:chOff x="0" y="0"/>
              <a:chExt cx="8534520" cy="6859440"/>
            </a:xfrm>
          </p:grpSpPr>
          <p:sp>
            <p:nvSpPr>
              <p:cNvPr id="180" name=""/>
              <p:cNvSpPr/>
              <p:nvPr/>
            </p:nvSpPr>
            <p:spPr>
              <a:xfrm>
                <a:off x="4038480" y="0"/>
                <a:ext cx="381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38480" y="6491160"/>
                <a:ext cx="6098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77320" y="2514600"/>
                <a:ext cx="4572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2590920"/>
                <a:ext cx="53352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4952880" y="23623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4191120" y="3962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7432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 pe hart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arpaţ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Ori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52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CARPAŢII  ROMÂN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28760" y="1519200"/>
            <a:ext cx="2082600" cy="3865680"/>
          </a:xfrm>
          <a:custGeom>
            <a:avLst/>
            <a:gdLst/>
            <a:ahLst/>
            <a:rect l="l" t="t" r="r" b="b"/>
            <a:pathLst>
              <a:path w="1312" h="2435">
                <a:moveTo>
                  <a:pt x="1094" y="35"/>
                </a:moveTo>
                <a:cubicBezTo>
                  <a:pt x="1077" y="30"/>
                  <a:pt x="1062" y="19"/>
                  <a:pt x="1046" y="14"/>
                </a:cubicBezTo>
                <a:cubicBezTo>
                  <a:pt x="1034" y="10"/>
                  <a:pt x="987" y="4"/>
                  <a:pt x="976" y="3"/>
                </a:cubicBezTo>
                <a:cubicBezTo>
                  <a:pt x="894" y="6"/>
                  <a:pt x="835" y="1"/>
                  <a:pt x="763" y="24"/>
                </a:cubicBezTo>
                <a:cubicBezTo>
                  <a:pt x="741" y="39"/>
                  <a:pt x="709" y="68"/>
                  <a:pt x="683" y="78"/>
                </a:cubicBezTo>
                <a:cubicBezTo>
                  <a:pt x="660" y="108"/>
                  <a:pt x="646" y="136"/>
                  <a:pt x="614" y="158"/>
                </a:cubicBezTo>
                <a:cubicBezTo>
                  <a:pt x="597" y="181"/>
                  <a:pt x="584" y="206"/>
                  <a:pt x="560" y="222"/>
                </a:cubicBezTo>
                <a:cubicBezTo>
                  <a:pt x="536" y="260"/>
                  <a:pt x="538" y="307"/>
                  <a:pt x="512" y="344"/>
                </a:cubicBezTo>
                <a:cubicBezTo>
                  <a:pt x="503" y="383"/>
                  <a:pt x="482" y="425"/>
                  <a:pt x="464" y="462"/>
                </a:cubicBezTo>
                <a:cubicBezTo>
                  <a:pt x="447" y="532"/>
                  <a:pt x="486" y="732"/>
                  <a:pt x="390" y="792"/>
                </a:cubicBezTo>
                <a:cubicBezTo>
                  <a:pt x="386" y="803"/>
                  <a:pt x="375" y="812"/>
                  <a:pt x="374" y="824"/>
                </a:cubicBezTo>
                <a:cubicBezTo>
                  <a:pt x="365" y="909"/>
                  <a:pt x="387" y="1001"/>
                  <a:pt x="336" y="1075"/>
                </a:cubicBezTo>
                <a:cubicBezTo>
                  <a:pt x="314" y="1194"/>
                  <a:pt x="364" y="1342"/>
                  <a:pt x="283" y="1448"/>
                </a:cubicBezTo>
                <a:cubicBezTo>
                  <a:pt x="278" y="1464"/>
                  <a:pt x="270" y="1482"/>
                  <a:pt x="262" y="1496"/>
                </a:cubicBezTo>
                <a:cubicBezTo>
                  <a:pt x="256" y="1507"/>
                  <a:pt x="240" y="1528"/>
                  <a:pt x="240" y="1528"/>
                </a:cubicBezTo>
                <a:cubicBezTo>
                  <a:pt x="236" y="1545"/>
                  <a:pt x="214" y="1587"/>
                  <a:pt x="214" y="1587"/>
                </a:cubicBezTo>
                <a:cubicBezTo>
                  <a:pt x="218" y="1593"/>
                  <a:pt x="228" y="1584"/>
                  <a:pt x="235" y="1582"/>
                </a:cubicBezTo>
                <a:cubicBezTo>
                  <a:pt x="219" y="1605"/>
                  <a:pt x="219" y="1619"/>
                  <a:pt x="198" y="1640"/>
                </a:cubicBezTo>
                <a:cubicBezTo>
                  <a:pt x="190" y="1670"/>
                  <a:pt x="172" y="1693"/>
                  <a:pt x="150" y="1715"/>
                </a:cubicBezTo>
                <a:cubicBezTo>
                  <a:pt x="140" y="1740"/>
                  <a:pt x="130" y="1770"/>
                  <a:pt x="107" y="1784"/>
                </a:cubicBezTo>
                <a:cubicBezTo>
                  <a:pt x="101" y="1802"/>
                  <a:pt x="96" y="1816"/>
                  <a:pt x="86" y="1832"/>
                </a:cubicBezTo>
                <a:cubicBezTo>
                  <a:pt x="78" y="1868"/>
                  <a:pt x="59" y="1901"/>
                  <a:pt x="43" y="1934"/>
                </a:cubicBezTo>
                <a:cubicBezTo>
                  <a:pt x="39" y="1941"/>
                  <a:pt x="32" y="1955"/>
                  <a:pt x="32" y="1955"/>
                </a:cubicBezTo>
                <a:cubicBezTo>
                  <a:pt x="24" y="1989"/>
                  <a:pt x="12" y="2023"/>
                  <a:pt x="0" y="2056"/>
                </a:cubicBezTo>
                <a:cubicBezTo>
                  <a:pt x="2" y="2117"/>
                  <a:pt x="1" y="2177"/>
                  <a:pt x="6" y="2238"/>
                </a:cubicBezTo>
                <a:cubicBezTo>
                  <a:pt x="8" y="2263"/>
                  <a:pt x="33" y="2281"/>
                  <a:pt x="48" y="2302"/>
                </a:cubicBezTo>
                <a:cubicBezTo>
                  <a:pt x="83" y="2350"/>
                  <a:pt x="126" y="2390"/>
                  <a:pt x="182" y="2414"/>
                </a:cubicBezTo>
                <a:cubicBezTo>
                  <a:pt x="217" y="2429"/>
                  <a:pt x="262" y="2428"/>
                  <a:pt x="299" y="2435"/>
                </a:cubicBezTo>
                <a:cubicBezTo>
                  <a:pt x="340" y="2433"/>
                  <a:pt x="381" y="2435"/>
                  <a:pt x="422" y="2430"/>
                </a:cubicBezTo>
                <a:cubicBezTo>
                  <a:pt x="456" y="2426"/>
                  <a:pt x="465" y="2326"/>
                  <a:pt x="480" y="2302"/>
                </a:cubicBezTo>
                <a:cubicBezTo>
                  <a:pt x="488" y="2150"/>
                  <a:pt x="458" y="2203"/>
                  <a:pt x="544" y="2190"/>
                </a:cubicBezTo>
                <a:cubicBezTo>
                  <a:pt x="537" y="2152"/>
                  <a:pt x="513" y="2105"/>
                  <a:pt x="491" y="2072"/>
                </a:cubicBezTo>
                <a:cubicBezTo>
                  <a:pt x="485" y="2054"/>
                  <a:pt x="479" y="2037"/>
                  <a:pt x="475" y="2019"/>
                </a:cubicBezTo>
                <a:cubicBezTo>
                  <a:pt x="498" y="1973"/>
                  <a:pt x="507" y="1921"/>
                  <a:pt x="475" y="1875"/>
                </a:cubicBezTo>
                <a:cubicBezTo>
                  <a:pt x="463" y="1835"/>
                  <a:pt x="480" y="1884"/>
                  <a:pt x="459" y="1843"/>
                </a:cubicBezTo>
                <a:cubicBezTo>
                  <a:pt x="446" y="1817"/>
                  <a:pt x="442" y="1785"/>
                  <a:pt x="432" y="1758"/>
                </a:cubicBezTo>
                <a:cubicBezTo>
                  <a:pt x="434" y="1713"/>
                  <a:pt x="433" y="1668"/>
                  <a:pt x="438" y="1624"/>
                </a:cubicBezTo>
                <a:cubicBezTo>
                  <a:pt x="439" y="1611"/>
                  <a:pt x="464" y="1555"/>
                  <a:pt x="470" y="1539"/>
                </a:cubicBezTo>
                <a:cubicBezTo>
                  <a:pt x="492" y="1477"/>
                  <a:pt x="517" y="1427"/>
                  <a:pt x="582" y="1400"/>
                </a:cubicBezTo>
                <a:cubicBezTo>
                  <a:pt x="618" y="1385"/>
                  <a:pt x="663" y="1387"/>
                  <a:pt x="699" y="1384"/>
                </a:cubicBezTo>
                <a:cubicBezTo>
                  <a:pt x="728" y="1370"/>
                  <a:pt x="758" y="1358"/>
                  <a:pt x="790" y="1352"/>
                </a:cubicBezTo>
                <a:cubicBezTo>
                  <a:pt x="815" y="1327"/>
                  <a:pt x="841" y="1307"/>
                  <a:pt x="875" y="1299"/>
                </a:cubicBezTo>
                <a:cubicBezTo>
                  <a:pt x="919" y="1270"/>
                  <a:pt x="963" y="1241"/>
                  <a:pt x="1008" y="1214"/>
                </a:cubicBezTo>
                <a:cubicBezTo>
                  <a:pt x="1055" y="1186"/>
                  <a:pt x="1023" y="1197"/>
                  <a:pt x="1056" y="1187"/>
                </a:cubicBezTo>
                <a:cubicBezTo>
                  <a:pt x="1075" y="1160"/>
                  <a:pt x="1052" y="1163"/>
                  <a:pt x="1072" y="1139"/>
                </a:cubicBezTo>
                <a:cubicBezTo>
                  <a:pt x="1090" y="1118"/>
                  <a:pt x="1111" y="1114"/>
                  <a:pt x="1131" y="1096"/>
                </a:cubicBezTo>
                <a:cubicBezTo>
                  <a:pt x="1193" y="1040"/>
                  <a:pt x="1133" y="1085"/>
                  <a:pt x="1195" y="1043"/>
                </a:cubicBezTo>
                <a:cubicBezTo>
                  <a:pt x="1202" y="1038"/>
                  <a:pt x="1228" y="1021"/>
                  <a:pt x="1232" y="1016"/>
                </a:cubicBezTo>
                <a:cubicBezTo>
                  <a:pt x="1241" y="1006"/>
                  <a:pt x="1254" y="984"/>
                  <a:pt x="1254" y="984"/>
                </a:cubicBezTo>
                <a:cubicBezTo>
                  <a:pt x="1263" y="948"/>
                  <a:pt x="1286" y="919"/>
                  <a:pt x="1296" y="883"/>
                </a:cubicBezTo>
                <a:cubicBezTo>
                  <a:pt x="1304" y="857"/>
                  <a:pt x="1307" y="830"/>
                  <a:pt x="1312" y="803"/>
                </a:cubicBezTo>
                <a:cubicBezTo>
                  <a:pt x="1309" y="726"/>
                  <a:pt x="1304" y="650"/>
                  <a:pt x="1270" y="579"/>
                </a:cubicBezTo>
                <a:cubicBezTo>
                  <a:pt x="1257" y="523"/>
                  <a:pt x="1267" y="546"/>
                  <a:pt x="1248" y="510"/>
                </a:cubicBezTo>
                <a:cubicBezTo>
                  <a:pt x="1241" y="467"/>
                  <a:pt x="1228" y="424"/>
                  <a:pt x="1216" y="382"/>
                </a:cubicBezTo>
                <a:cubicBezTo>
                  <a:pt x="1214" y="305"/>
                  <a:pt x="1214" y="229"/>
                  <a:pt x="1211" y="152"/>
                </a:cubicBezTo>
                <a:cubicBezTo>
                  <a:pt x="1210" y="136"/>
                  <a:pt x="1207" y="0"/>
                  <a:pt x="1147" y="14"/>
                </a:cubicBezTo>
                <a:cubicBezTo>
                  <a:pt x="1128" y="18"/>
                  <a:pt x="1112" y="28"/>
                  <a:pt x="1094" y="35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77920" y="3573360"/>
            <a:ext cx="3240360" cy="1285920"/>
          </a:xfrm>
          <a:custGeom>
            <a:avLst/>
            <a:gdLst/>
            <a:ahLst/>
            <a:rect l="l" t="t" r="r" b="b"/>
            <a:pathLst>
              <a:path w="2041" h="810">
                <a:moveTo>
                  <a:pt x="110" y="810"/>
                </a:moveTo>
                <a:cubicBezTo>
                  <a:pt x="104" y="783"/>
                  <a:pt x="99" y="759"/>
                  <a:pt x="83" y="736"/>
                </a:cubicBezTo>
                <a:cubicBezTo>
                  <a:pt x="72" y="700"/>
                  <a:pt x="53" y="665"/>
                  <a:pt x="40" y="629"/>
                </a:cubicBezTo>
                <a:cubicBezTo>
                  <a:pt x="42" y="542"/>
                  <a:pt x="0" y="385"/>
                  <a:pt x="67" y="293"/>
                </a:cubicBezTo>
                <a:cubicBezTo>
                  <a:pt x="99" y="249"/>
                  <a:pt x="147" y="248"/>
                  <a:pt x="190" y="224"/>
                </a:cubicBezTo>
                <a:cubicBezTo>
                  <a:pt x="231" y="201"/>
                  <a:pt x="171" y="224"/>
                  <a:pt x="243" y="202"/>
                </a:cubicBezTo>
                <a:cubicBezTo>
                  <a:pt x="248" y="200"/>
                  <a:pt x="259" y="197"/>
                  <a:pt x="259" y="197"/>
                </a:cubicBezTo>
                <a:cubicBezTo>
                  <a:pt x="273" y="187"/>
                  <a:pt x="291" y="177"/>
                  <a:pt x="307" y="170"/>
                </a:cubicBezTo>
                <a:cubicBezTo>
                  <a:pt x="317" y="166"/>
                  <a:pt x="339" y="160"/>
                  <a:pt x="339" y="160"/>
                </a:cubicBezTo>
                <a:cubicBezTo>
                  <a:pt x="369" y="139"/>
                  <a:pt x="402" y="126"/>
                  <a:pt x="435" y="112"/>
                </a:cubicBezTo>
                <a:cubicBezTo>
                  <a:pt x="470" y="97"/>
                  <a:pt x="497" y="62"/>
                  <a:pt x="536" y="53"/>
                </a:cubicBezTo>
                <a:cubicBezTo>
                  <a:pt x="558" y="48"/>
                  <a:pt x="574" y="40"/>
                  <a:pt x="595" y="32"/>
                </a:cubicBezTo>
                <a:cubicBezTo>
                  <a:pt x="631" y="19"/>
                  <a:pt x="670" y="12"/>
                  <a:pt x="707" y="0"/>
                </a:cubicBezTo>
                <a:cubicBezTo>
                  <a:pt x="734" y="1"/>
                  <a:pt x="902" y="5"/>
                  <a:pt x="952" y="10"/>
                </a:cubicBezTo>
                <a:cubicBezTo>
                  <a:pt x="1022" y="17"/>
                  <a:pt x="1090" y="56"/>
                  <a:pt x="1160" y="58"/>
                </a:cubicBezTo>
                <a:cubicBezTo>
                  <a:pt x="1293" y="61"/>
                  <a:pt x="1427" y="62"/>
                  <a:pt x="1560" y="64"/>
                </a:cubicBezTo>
                <a:cubicBezTo>
                  <a:pt x="1661" y="87"/>
                  <a:pt x="1547" y="63"/>
                  <a:pt x="1816" y="74"/>
                </a:cubicBezTo>
                <a:cubicBezTo>
                  <a:pt x="1867" y="76"/>
                  <a:pt x="1924" y="91"/>
                  <a:pt x="1976" y="96"/>
                </a:cubicBezTo>
                <a:cubicBezTo>
                  <a:pt x="2003" y="135"/>
                  <a:pt x="1996" y="115"/>
                  <a:pt x="2003" y="154"/>
                </a:cubicBezTo>
                <a:cubicBezTo>
                  <a:pt x="1995" y="535"/>
                  <a:pt x="2041" y="317"/>
                  <a:pt x="1944" y="458"/>
                </a:cubicBezTo>
                <a:cubicBezTo>
                  <a:pt x="1918" y="542"/>
                  <a:pt x="1987" y="667"/>
                  <a:pt x="1912" y="714"/>
                </a:cubicBezTo>
                <a:cubicBezTo>
                  <a:pt x="1821" y="712"/>
                  <a:pt x="1731" y="712"/>
                  <a:pt x="1640" y="709"/>
                </a:cubicBezTo>
                <a:cubicBezTo>
                  <a:pt x="1612" y="708"/>
                  <a:pt x="1588" y="678"/>
                  <a:pt x="1560" y="672"/>
                </a:cubicBezTo>
                <a:cubicBezTo>
                  <a:pt x="1529" y="651"/>
                  <a:pt x="1557" y="666"/>
                  <a:pt x="1502" y="656"/>
                </a:cubicBezTo>
                <a:cubicBezTo>
                  <a:pt x="1493" y="654"/>
                  <a:pt x="1471" y="642"/>
                  <a:pt x="1464" y="640"/>
                </a:cubicBezTo>
                <a:cubicBezTo>
                  <a:pt x="1420" y="625"/>
                  <a:pt x="1375" y="611"/>
                  <a:pt x="1331" y="597"/>
                </a:cubicBezTo>
                <a:cubicBezTo>
                  <a:pt x="939" y="608"/>
                  <a:pt x="1063" y="553"/>
                  <a:pt x="926" y="618"/>
                </a:cubicBezTo>
                <a:cubicBezTo>
                  <a:pt x="829" y="608"/>
                  <a:pt x="739" y="612"/>
                  <a:pt x="643" y="624"/>
                </a:cubicBezTo>
                <a:cubicBezTo>
                  <a:pt x="587" y="641"/>
                  <a:pt x="529" y="655"/>
                  <a:pt x="472" y="666"/>
                </a:cubicBezTo>
                <a:cubicBezTo>
                  <a:pt x="411" y="698"/>
                  <a:pt x="331" y="726"/>
                  <a:pt x="264" y="741"/>
                </a:cubicBezTo>
                <a:cubicBezTo>
                  <a:pt x="224" y="769"/>
                  <a:pt x="173" y="770"/>
                  <a:pt x="126" y="773"/>
                </a:cubicBezTo>
                <a:cubicBezTo>
                  <a:pt x="103" y="789"/>
                  <a:pt x="110" y="778"/>
                  <a:pt x="110" y="810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87560" y="482760"/>
            <a:ext cx="3513240" cy="4051080"/>
          </a:xfrm>
          <a:custGeom>
            <a:avLst/>
            <a:gdLst/>
            <a:ahLst/>
            <a:rect l="l" t="t" r="r" b="b"/>
            <a:pathLst>
              <a:path w="2213" h="2552">
                <a:moveTo>
                  <a:pt x="0" y="96"/>
                </a:moveTo>
                <a:cubicBezTo>
                  <a:pt x="11" y="131"/>
                  <a:pt x="39" y="146"/>
                  <a:pt x="64" y="171"/>
                </a:cubicBezTo>
                <a:cubicBezTo>
                  <a:pt x="84" y="213"/>
                  <a:pt x="61" y="178"/>
                  <a:pt x="90" y="197"/>
                </a:cubicBezTo>
                <a:cubicBezTo>
                  <a:pt x="107" y="208"/>
                  <a:pt x="119" y="231"/>
                  <a:pt x="133" y="245"/>
                </a:cubicBezTo>
                <a:cubicBezTo>
                  <a:pt x="135" y="250"/>
                  <a:pt x="136" y="256"/>
                  <a:pt x="138" y="261"/>
                </a:cubicBezTo>
                <a:cubicBezTo>
                  <a:pt x="141" y="267"/>
                  <a:pt x="146" y="271"/>
                  <a:pt x="149" y="277"/>
                </a:cubicBezTo>
                <a:cubicBezTo>
                  <a:pt x="159" y="302"/>
                  <a:pt x="160" y="324"/>
                  <a:pt x="176" y="347"/>
                </a:cubicBezTo>
                <a:cubicBezTo>
                  <a:pt x="184" y="373"/>
                  <a:pt x="207" y="409"/>
                  <a:pt x="229" y="427"/>
                </a:cubicBezTo>
                <a:cubicBezTo>
                  <a:pt x="235" y="432"/>
                  <a:pt x="243" y="433"/>
                  <a:pt x="250" y="437"/>
                </a:cubicBezTo>
                <a:cubicBezTo>
                  <a:pt x="259" y="442"/>
                  <a:pt x="269" y="446"/>
                  <a:pt x="277" y="453"/>
                </a:cubicBezTo>
                <a:cubicBezTo>
                  <a:pt x="321" y="489"/>
                  <a:pt x="364" y="525"/>
                  <a:pt x="410" y="560"/>
                </a:cubicBezTo>
                <a:cubicBezTo>
                  <a:pt x="441" y="584"/>
                  <a:pt x="431" y="569"/>
                  <a:pt x="464" y="587"/>
                </a:cubicBezTo>
                <a:cubicBezTo>
                  <a:pt x="484" y="598"/>
                  <a:pt x="500" y="617"/>
                  <a:pt x="522" y="624"/>
                </a:cubicBezTo>
                <a:cubicBezTo>
                  <a:pt x="553" y="634"/>
                  <a:pt x="584" y="652"/>
                  <a:pt x="613" y="667"/>
                </a:cubicBezTo>
                <a:cubicBezTo>
                  <a:pt x="645" y="720"/>
                  <a:pt x="688" y="766"/>
                  <a:pt x="725" y="816"/>
                </a:cubicBezTo>
                <a:cubicBezTo>
                  <a:pt x="766" y="871"/>
                  <a:pt x="805" y="923"/>
                  <a:pt x="853" y="971"/>
                </a:cubicBezTo>
                <a:cubicBezTo>
                  <a:pt x="894" y="1012"/>
                  <a:pt x="919" y="1068"/>
                  <a:pt x="960" y="1109"/>
                </a:cubicBezTo>
                <a:cubicBezTo>
                  <a:pt x="972" y="1147"/>
                  <a:pt x="999" y="1174"/>
                  <a:pt x="1013" y="1211"/>
                </a:cubicBezTo>
                <a:cubicBezTo>
                  <a:pt x="1017" y="1223"/>
                  <a:pt x="1021" y="1236"/>
                  <a:pt x="1024" y="1248"/>
                </a:cubicBezTo>
                <a:cubicBezTo>
                  <a:pt x="1026" y="1257"/>
                  <a:pt x="1026" y="1266"/>
                  <a:pt x="1029" y="1275"/>
                </a:cubicBezTo>
                <a:cubicBezTo>
                  <a:pt x="1047" y="1328"/>
                  <a:pt x="1096" y="1425"/>
                  <a:pt x="1141" y="1456"/>
                </a:cubicBezTo>
                <a:cubicBezTo>
                  <a:pt x="1158" y="1509"/>
                  <a:pt x="1222" y="1539"/>
                  <a:pt x="1264" y="1573"/>
                </a:cubicBezTo>
                <a:cubicBezTo>
                  <a:pt x="1287" y="1592"/>
                  <a:pt x="1304" y="1615"/>
                  <a:pt x="1328" y="1632"/>
                </a:cubicBezTo>
                <a:cubicBezTo>
                  <a:pt x="1347" y="1662"/>
                  <a:pt x="1372" y="1692"/>
                  <a:pt x="1397" y="1717"/>
                </a:cubicBezTo>
                <a:cubicBezTo>
                  <a:pt x="1413" y="1767"/>
                  <a:pt x="1411" y="1792"/>
                  <a:pt x="1413" y="1856"/>
                </a:cubicBezTo>
                <a:cubicBezTo>
                  <a:pt x="1419" y="2016"/>
                  <a:pt x="1375" y="2020"/>
                  <a:pt x="1482" y="2037"/>
                </a:cubicBezTo>
                <a:cubicBezTo>
                  <a:pt x="1511" y="2095"/>
                  <a:pt x="1470" y="2193"/>
                  <a:pt x="1530" y="2235"/>
                </a:cubicBezTo>
                <a:cubicBezTo>
                  <a:pt x="1555" y="2272"/>
                  <a:pt x="1551" y="2314"/>
                  <a:pt x="1536" y="2357"/>
                </a:cubicBezTo>
                <a:cubicBezTo>
                  <a:pt x="1531" y="2373"/>
                  <a:pt x="1520" y="2405"/>
                  <a:pt x="1520" y="2405"/>
                </a:cubicBezTo>
                <a:cubicBezTo>
                  <a:pt x="1523" y="2446"/>
                  <a:pt x="1522" y="2508"/>
                  <a:pt x="1562" y="2533"/>
                </a:cubicBezTo>
                <a:cubicBezTo>
                  <a:pt x="2007" y="2525"/>
                  <a:pt x="1724" y="2552"/>
                  <a:pt x="1904" y="2496"/>
                </a:cubicBezTo>
                <a:cubicBezTo>
                  <a:pt x="1921" y="2479"/>
                  <a:pt x="1940" y="2455"/>
                  <a:pt x="1962" y="2448"/>
                </a:cubicBezTo>
                <a:cubicBezTo>
                  <a:pt x="1980" y="2430"/>
                  <a:pt x="1986" y="2414"/>
                  <a:pt x="2005" y="2395"/>
                </a:cubicBezTo>
                <a:cubicBezTo>
                  <a:pt x="2011" y="2375"/>
                  <a:pt x="2037" y="2341"/>
                  <a:pt x="2037" y="2341"/>
                </a:cubicBezTo>
                <a:cubicBezTo>
                  <a:pt x="2044" y="2312"/>
                  <a:pt x="2051" y="2291"/>
                  <a:pt x="2069" y="2267"/>
                </a:cubicBezTo>
                <a:cubicBezTo>
                  <a:pt x="2085" y="2195"/>
                  <a:pt x="2122" y="2127"/>
                  <a:pt x="2160" y="2064"/>
                </a:cubicBezTo>
                <a:cubicBezTo>
                  <a:pt x="2213" y="1977"/>
                  <a:pt x="2128" y="2092"/>
                  <a:pt x="2186" y="2016"/>
                </a:cubicBezTo>
                <a:cubicBezTo>
                  <a:pt x="2204" y="1934"/>
                  <a:pt x="2171" y="1824"/>
                  <a:pt x="2133" y="1749"/>
                </a:cubicBezTo>
                <a:cubicBezTo>
                  <a:pt x="2129" y="1712"/>
                  <a:pt x="2123" y="1679"/>
                  <a:pt x="2112" y="1643"/>
                </a:cubicBezTo>
                <a:cubicBezTo>
                  <a:pt x="2107" y="1628"/>
                  <a:pt x="2101" y="1614"/>
                  <a:pt x="2096" y="1600"/>
                </a:cubicBezTo>
                <a:cubicBezTo>
                  <a:pt x="2094" y="1595"/>
                  <a:pt x="2090" y="1584"/>
                  <a:pt x="2090" y="1584"/>
                </a:cubicBezTo>
                <a:cubicBezTo>
                  <a:pt x="2079" y="1527"/>
                  <a:pt x="2067" y="1455"/>
                  <a:pt x="2032" y="1408"/>
                </a:cubicBezTo>
                <a:cubicBezTo>
                  <a:pt x="2027" y="1381"/>
                  <a:pt x="2025" y="1366"/>
                  <a:pt x="2010" y="1344"/>
                </a:cubicBezTo>
                <a:cubicBezTo>
                  <a:pt x="2002" y="1317"/>
                  <a:pt x="1986" y="1289"/>
                  <a:pt x="1973" y="1264"/>
                </a:cubicBezTo>
                <a:cubicBezTo>
                  <a:pt x="1967" y="1218"/>
                  <a:pt x="1946" y="1135"/>
                  <a:pt x="1925" y="1093"/>
                </a:cubicBezTo>
                <a:cubicBezTo>
                  <a:pt x="1917" y="1060"/>
                  <a:pt x="1910" y="1029"/>
                  <a:pt x="1898" y="997"/>
                </a:cubicBezTo>
                <a:cubicBezTo>
                  <a:pt x="1894" y="970"/>
                  <a:pt x="1891" y="952"/>
                  <a:pt x="1882" y="928"/>
                </a:cubicBezTo>
                <a:cubicBezTo>
                  <a:pt x="1880" y="919"/>
                  <a:pt x="1880" y="910"/>
                  <a:pt x="1877" y="901"/>
                </a:cubicBezTo>
                <a:cubicBezTo>
                  <a:pt x="1874" y="892"/>
                  <a:pt x="1868" y="884"/>
                  <a:pt x="1866" y="875"/>
                </a:cubicBezTo>
                <a:cubicBezTo>
                  <a:pt x="1856" y="833"/>
                  <a:pt x="1854" y="777"/>
                  <a:pt x="1829" y="741"/>
                </a:cubicBezTo>
                <a:cubicBezTo>
                  <a:pt x="1823" y="715"/>
                  <a:pt x="1806" y="690"/>
                  <a:pt x="1792" y="667"/>
                </a:cubicBezTo>
                <a:cubicBezTo>
                  <a:pt x="1785" y="656"/>
                  <a:pt x="1770" y="635"/>
                  <a:pt x="1770" y="635"/>
                </a:cubicBezTo>
                <a:cubicBezTo>
                  <a:pt x="1765" y="611"/>
                  <a:pt x="1720" y="522"/>
                  <a:pt x="1706" y="501"/>
                </a:cubicBezTo>
                <a:cubicBezTo>
                  <a:pt x="1704" y="494"/>
                  <a:pt x="1704" y="486"/>
                  <a:pt x="1701" y="480"/>
                </a:cubicBezTo>
                <a:cubicBezTo>
                  <a:pt x="1695" y="469"/>
                  <a:pt x="1680" y="448"/>
                  <a:pt x="1680" y="448"/>
                </a:cubicBezTo>
                <a:cubicBezTo>
                  <a:pt x="1670" y="414"/>
                  <a:pt x="1651" y="372"/>
                  <a:pt x="1626" y="347"/>
                </a:cubicBezTo>
                <a:cubicBezTo>
                  <a:pt x="1619" y="325"/>
                  <a:pt x="1614" y="312"/>
                  <a:pt x="1594" y="299"/>
                </a:cubicBezTo>
                <a:cubicBezTo>
                  <a:pt x="1575" y="238"/>
                  <a:pt x="1482" y="155"/>
                  <a:pt x="1424" y="133"/>
                </a:cubicBezTo>
                <a:cubicBezTo>
                  <a:pt x="1374" y="135"/>
                  <a:pt x="1324" y="135"/>
                  <a:pt x="1274" y="139"/>
                </a:cubicBezTo>
                <a:cubicBezTo>
                  <a:pt x="1202" y="145"/>
                  <a:pt x="1255" y="146"/>
                  <a:pt x="1216" y="155"/>
                </a:cubicBezTo>
                <a:cubicBezTo>
                  <a:pt x="1130" y="175"/>
                  <a:pt x="1042" y="194"/>
                  <a:pt x="954" y="203"/>
                </a:cubicBezTo>
                <a:cubicBezTo>
                  <a:pt x="940" y="262"/>
                  <a:pt x="973" y="238"/>
                  <a:pt x="1013" y="229"/>
                </a:cubicBezTo>
                <a:cubicBezTo>
                  <a:pt x="1031" y="221"/>
                  <a:pt x="1069" y="219"/>
                  <a:pt x="1034" y="208"/>
                </a:cubicBezTo>
                <a:cubicBezTo>
                  <a:pt x="930" y="233"/>
                  <a:pt x="902" y="197"/>
                  <a:pt x="832" y="149"/>
                </a:cubicBezTo>
                <a:cubicBezTo>
                  <a:pt x="794" y="94"/>
                  <a:pt x="853" y="174"/>
                  <a:pt x="800" y="123"/>
                </a:cubicBezTo>
                <a:cubicBezTo>
                  <a:pt x="796" y="119"/>
                  <a:pt x="798" y="111"/>
                  <a:pt x="794" y="107"/>
                </a:cubicBezTo>
                <a:cubicBezTo>
                  <a:pt x="786" y="99"/>
                  <a:pt x="705" y="77"/>
                  <a:pt x="693" y="75"/>
                </a:cubicBezTo>
                <a:cubicBezTo>
                  <a:pt x="581" y="33"/>
                  <a:pt x="540" y="62"/>
                  <a:pt x="357" y="59"/>
                </a:cubicBezTo>
                <a:cubicBezTo>
                  <a:pt x="301" y="38"/>
                  <a:pt x="246" y="14"/>
                  <a:pt x="186" y="0"/>
                </a:cubicBezTo>
                <a:cubicBezTo>
                  <a:pt x="153" y="4"/>
                  <a:pt x="132" y="11"/>
                  <a:pt x="101" y="21"/>
                </a:cubicBezTo>
                <a:cubicBezTo>
                  <a:pt x="85" y="26"/>
                  <a:pt x="53" y="37"/>
                  <a:pt x="53" y="37"/>
                </a:cubicBezTo>
                <a:cubicBezTo>
                  <a:pt x="42" y="44"/>
                  <a:pt x="32" y="52"/>
                  <a:pt x="21" y="59"/>
                </a:cubicBezTo>
                <a:cubicBezTo>
                  <a:pt x="10" y="66"/>
                  <a:pt x="21" y="85"/>
                  <a:pt x="0" y="96"/>
                </a:cubicBezTo>
                <a:close/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4" action="ppaction://hlinksldjump"/>
          </p:cNvPr>
          <p:cNvSpPr/>
          <p:nvPr/>
        </p:nvSpPr>
        <p:spPr>
          <a:xfrm>
            <a:off x="2209680" y="2971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5" action="ppaction://hlinksldjump"/>
          </p:cNvPr>
          <p:cNvSpPr/>
          <p:nvPr/>
        </p:nvSpPr>
        <p:spPr>
          <a:xfrm>
            <a:off x="6705720" y="601992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601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i de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2133720"/>
            <a:ext cx="485640" cy="671400"/>
          </a:xfrm>
          <a:prstGeom prst="up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6" action="ppaction://hlinksldjump"/>
          </p:cNvPr>
          <p:cNvSpPr/>
          <p:nvPr/>
        </p:nvSpPr>
        <p:spPr>
          <a:xfrm>
            <a:off x="4038480" y="3733920"/>
            <a:ext cx="486000" cy="533160"/>
          </a:xfrm>
          <a:prstGeom prst="upArrow">
            <a:avLst>
              <a:gd name="adj1" fmla="val 50000"/>
              <a:gd name="adj2" fmla="val 27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7" action="ppaction://hlinksldjump"/>
          </p:cNvPr>
          <p:cNvSpPr/>
          <p:nvPr/>
        </p:nvSpPr>
        <p:spPr>
          <a:xfrm>
            <a:off x="2057400" y="2819520"/>
            <a:ext cx="485640" cy="609480"/>
          </a:xfrm>
          <a:prstGeom prst="up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pe s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ge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276360" cy="2614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124080" y="3809880"/>
            <a:ext cx="4648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716292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143000" y="1474920"/>
            <a:ext cx="3200400" cy="2968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3276720" y="4114800"/>
            <a:ext cx="43718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latin typeface="Impact"/>
              </a:rPr>
              <a:t>MAI  ÎNCEARCĂ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7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73915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"/>
            <p:cNvGrpSpPr/>
            <p:nvPr/>
          </p:nvGrpSpPr>
          <p:grpSpPr>
            <a:xfrm>
              <a:off x="0" y="0"/>
              <a:ext cx="8534520" cy="6859440"/>
              <a:chOff x="0" y="0"/>
              <a:chExt cx="8534520" cy="6859440"/>
            </a:xfrm>
          </p:grpSpPr>
          <p:sp>
            <p:nvSpPr>
              <p:cNvPr id="209" name=""/>
              <p:cNvSpPr/>
              <p:nvPr/>
            </p:nvSpPr>
            <p:spPr>
              <a:xfrm>
                <a:off x="4038480" y="0"/>
                <a:ext cx="381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8480" y="6491160"/>
                <a:ext cx="6098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77320" y="2514600"/>
                <a:ext cx="4572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590920"/>
                <a:ext cx="53352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5105520" y="23623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4191120" y="3962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228600"/>
            <a:ext cx="274320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 pe hartă: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1" lang="ro-RO" sz="2800" spc="-1" strike="noStrike">
                <a:solidFill>
                  <a:srgbClr val="003399"/>
                </a:solidFill>
                <a:latin typeface="Arial"/>
              </a:rPr>
              <a:t>Carpaţii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o-RO" sz="2800" spc="-1" strike="noStrike">
                <a:solidFill>
                  <a:srgbClr val="003399"/>
                </a:solidFill>
                <a:latin typeface="Arial"/>
              </a:rPr>
              <a:t>Merid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152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CARPAŢII  ROMÂN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28760" y="1519200"/>
            <a:ext cx="2082600" cy="3865680"/>
          </a:xfrm>
          <a:custGeom>
            <a:avLst/>
            <a:gdLst/>
            <a:ahLst/>
            <a:rect l="l" t="t" r="r" b="b"/>
            <a:pathLst>
              <a:path w="1312" h="2435">
                <a:moveTo>
                  <a:pt x="1094" y="35"/>
                </a:moveTo>
                <a:cubicBezTo>
                  <a:pt x="1077" y="30"/>
                  <a:pt x="1062" y="19"/>
                  <a:pt x="1046" y="14"/>
                </a:cubicBezTo>
                <a:cubicBezTo>
                  <a:pt x="1034" y="10"/>
                  <a:pt x="987" y="4"/>
                  <a:pt x="976" y="3"/>
                </a:cubicBezTo>
                <a:cubicBezTo>
                  <a:pt x="894" y="6"/>
                  <a:pt x="835" y="1"/>
                  <a:pt x="763" y="24"/>
                </a:cubicBezTo>
                <a:cubicBezTo>
                  <a:pt x="741" y="39"/>
                  <a:pt x="709" y="68"/>
                  <a:pt x="683" y="78"/>
                </a:cubicBezTo>
                <a:cubicBezTo>
                  <a:pt x="660" y="108"/>
                  <a:pt x="646" y="136"/>
                  <a:pt x="614" y="158"/>
                </a:cubicBezTo>
                <a:cubicBezTo>
                  <a:pt x="597" y="181"/>
                  <a:pt x="584" y="206"/>
                  <a:pt x="560" y="222"/>
                </a:cubicBezTo>
                <a:cubicBezTo>
                  <a:pt x="536" y="260"/>
                  <a:pt x="538" y="307"/>
                  <a:pt x="512" y="344"/>
                </a:cubicBezTo>
                <a:cubicBezTo>
                  <a:pt x="503" y="383"/>
                  <a:pt x="482" y="425"/>
                  <a:pt x="464" y="462"/>
                </a:cubicBezTo>
                <a:cubicBezTo>
                  <a:pt x="447" y="532"/>
                  <a:pt x="486" y="732"/>
                  <a:pt x="390" y="792"/>
                </a:cubicBezTo>
                <a:cubicBezTo>
                  <a:pt x="386" y="803"/>
                  <a:pt x="375" y="812"/>
                  <a:pt x="374" y="824"/>
                </a:cubicBezTo>
                <a:cubicBezTo>
                  <a:pt x="365" y="909"/>
                  <a:pt x="387" y="1001"/>
                  <a:pt x="336" y="1075"/>
                </a:cubicBezTo>
                <a:cubicBezTo>
                  <a:pt x="314" y="1194"/>
                  <a:pt x="364" y="1342"/>
                  <a:pt x="283" y="1448"/>
                </a:cubicBezTo>
                <a:cubicBezTo>
                  <a:pt x="278" y="1464"/>
                  <a:pt x="270" y="1482"/>
                  <a:pt x="262" y="1496"/>
                </a:cubicBezTo>
                <a:cubicBezTo>
                  <a:pt x="256" y="1507"/>
                  <a:pt x="240" y="1528"/>
                  <a:pt x="240" y="1528"/>
                </a:cubicBezTo>
                <a:cubicBezTo>
                  <a:pt x="236" y="1545"/>
                  <a:pt x="214" y="1587"/>
                  <a:pt x="214" y="1587"/>
                </a:cubicBezTo>
                <a:cubicBezTo>
                  <a:pt x="218" y="1593"/>
                  <a:pt x="228" y="1584"/>
                  <a:pt x="235" y="1582"/>
                </a:cubicBezTo>
                <a:cubicBezTo>
                  <a:pt x="219" y="1605"/>
                  <a:pt x="219" y="1619"/>
                  <a:pt x="198" y="1640"/>
                </a:cubicBezTo>
                <a:cubicBezTo>
                  <a:pt x="190" y="1670"/>
                  <a:pt x="172" y="1693"/>
                  <a:pt x="150" y="1715"/>
                </a:cubicBezTo>
                <a:cubicBezTo>
                  <a:pt x="140" y="1740"/>
                  <a:pt x="130" y="1770"/>
                  <a:pt x="107" y="1784"/>
                </a:cubicBezTo>
                <a:cubicBezTo>
                  <a:pt x="101" y="1802"/>
                  <a:pt x="96" y="1816"/>
                  <a:pt x="86" y="1832"/>
                </a:cubicBezTo>
                <a:cubicBezTo>
                  <a:pt x="78" y="1868"/>
                  <a:pt x="59" y="1901"/>
                  <a:pt x="43" y="1934"/>
                </a:cubicBezTo>
                <a:cubicBezTo>
                  <a:pt x="39" y="1941"/>
                  <a:pt x="32" y="1955"/>
                  <a:pt x="32" y="1955"/>
                </a:cubicBezTo>
                <a:cubicBezTo>
                  <a:pt x="24" y="1989"/>
                  <a:pt x="12" y="2023"/>
                  <a:pt x="0" y="2056"/>
                </a:cubicBezTo>
                <a:cubicBezTo>
                  <a:pt x="2" y="2117"/>
                  <a:pt x="1" y="2177"/>
                  <a:pt x="6" y="2238"/>
                </a:cubicBezTo>
                <a:cubicBezTo>
                  <a:pt x="8" y="2263"/>
                  <a:pt x="33" y="2281"/>
                  <a:pt x="48" y="2302"/>
                </a:cubicBezTo>
                <a:cubicBezTo>
                  <a:pt x="83" y="2350"/>
                  <a:pt x="126" y="2390"/>
                  <a:pt x="182" y="2414"/>
                </a:cubicBezTo>
                <a:cubicBezTo>
                  <a:pt x="217" y="2429"/>
                  <a:pt x="262" y="2428"/>
                  <a:pt x="299" y="2435"/>
                </a:cubicBezTo>
                <a:cubicBezTo>
                  <a:pt x="340" y="2433"/>
                  <a:pt x="381" y="2435"/>
                  <a:pt x="422" y="2430"/>
                </a:cubicBezTo>
                <a:cubicBezTo>
                  <a:pt x="456" y="2426"/>
                  <a:pt x="465" y="2326"/>
                  <a:pt x="480" y="2302"/>
                </a:cubicBezTo>
                <a:cubicBezTo>
                  <a:pt x="488" y="2150"/>
                  <a:pt x="458" y="2203"/>
                  <a:pt x="544" y="2190"/>
                </a:cubicBezTo>
                <a:cubicBezTo>
                  <a:pt x="537" y="2152"/>
                  <a:pt x="513" y="2105"/>
                  <a:pt x="491" y="2072"/>
                </a:cubicBezTo>
                <a:cubicBezTo>
                  <a:pt x="485" y="2054"/>
                  <a:pt x="479" y="2037"/>
                  <a:pt x="475" y="2019"/>
                </a:cubicBezTo>
                <a:cubicBezTo>
                  <a:pt x="498" y="1973"/>
                  <a:pt x="507" y="1921"/>
                  <a:pt x="475" y="1875"/>
                </a:cubicBezTo>
                <a:cubicBezTo>
                  <a:pt x="463" y="1835"/>
                  <a:pt x="480" y="1884"/>
                  <a:pt x="459" y="1843"/>
                </a:cubicBezTo>
                <a:cubicBezTo>
                  <a:pt x="446" y="1817"/>
                  <a:pt x="442" y="1785"/>
                  <a:pt x="432" y="1758"/>
                </a:cubicBezTo>
                <a:cubicBezTo>
                  <a:pt x="434" y="1713"/>
                  <a:pt x="433" y="1668"/>
                  <a:pt x="438" y="1624"/>
                </a:cubicBezTo>
                <a:cubicBezTo>
                  <a:pt x="439" y="1611"/>
                  <a:pt x="464" y="1555"/>
                  <a:pt x="470" y="1539"/>
                </a:cubicBezTo>
                <a:cubicBezTo>
                  <a:pt x="492" y="1477"/>
                  <a:pt x="517" y="1427"/>
                  <a:pt x="582" y="1400"/>
                </a:cubicBezTo>
                <a:cubicBezTo>
                  <a:pt x="618" y="1385"/>
                  <a:pt x="663" y="1387"/>
                  <a:pt x="699" y="1384"/>
                </a:cubicBezTo>
                <a:cubicBezTo>
                  <a:pt x="728" y="1370"/>
                  <a:pt x="758" y="1358"/>
                  <a:pt x="790" y="1352"/>
                </a:cubicBezTo>
                <a:cubicBezTo>
                  <a:pt x="815" y="1327"/>
                  <a:pt x="841" y="1307"/>
                  <a:pt x="875" y="1299"/>
                </a:cubicBezTo>
                <a:cubicBezTo>
                  <a:pt x="919" y="1270"/>
                  <a:pt x="963" y="1241"/>
                  <a:pt x="1008" y="1214"/>
                </a:cubicBezTo>
                <a:cubicBezTo>
                  <a:pt x="1055" y="1186"/>
                  <a:pt x="1023" y="1197"/>
                  <a:pt x="1056" y="1187"/>
                </a:cubicBezTo>
                <a:cubicBezTo>
                  <a:pt x="1075" y="1160"/>
                  <a:pt x="1052" y="1163"/>
                  <a:pt x="1072" y="1139"/>
                </a:cubicBezTo>
                <a:cubicBezTo>
                  <a:pt x="1090" y="1118"/>
                  <a:pt x="1111" y="1114"/>
                  <a:pt x="1131" y="1096"/>
                </a:cubicBezTo>
                <a:cubicBezTo>
                  <a:pt x="1193" y="1040"/>
                  <a:pt x="1133" y="1085"/>
                  <a:pt x="1195" y="1043"/>
                </a:cubicBezTo>
                <a:cubicBezTo>
                  <a:pt x="1202" y="1038"/>
                  <a:pt x="1228" y="1021"/>
                  <a:pt x="1232" y="1016"/>
                </a:cubicBezTo>
                <a:cubicBezTo>
                  <a:pt x="1241" y="1006"/>
                  <a:pt x="1254" y="984"/>
                  <a:pt x="1254" y="984"/>
                </a:cubicBezTo>
                <a:cubicBezTo>
                  <a:pt x="1263" y="948"/>
                  <a:pt x="1286" y="919"/>
                  <a:pt x="1296" y="883"/>
                </a:cubicBezTo>
                <a:cubicBezTo>
                  <a:pt x="1304" y="857"/>
                  <a:pt x="1307" y="830"/>
                  <a:pt x="1312" y="803"/>
                </a:cubicBezTo>
                <a:cubicBezTo>
                  <a:pt x="1309" y="726"/>
                  <a:pt x="1304" y="650"/>
                  <a:pt x="1270" y="579"/>
                </a:cubicBezTo>
                <a:cubicBezTo>
                  <a:pt x="1257" y="523"/>
                  <a:pt x="1267" y="546"/>
                  <a:pt x="1248" y="510"/>
                </a:cubicBezTo>
                <a:cubicBezTo>
                  <a:pt x="1241" y="467"/>
                  <a:pt x="1228" y="424"/>
                  <a:pt x="1216" y="382"/>
                </a:cubicBezTo>
                <a:cubicBezTo>
                  <a:pt x="1214" y="305"/>
                  <a:pt x="1214" y="229"/>
                  <a:pt x="1211" y="152"/>
                </a:cubicBezTo>
                <a:cubicBezTo>
                  <a:pt x="1210" y="136"/>
                  <a:pt x="1207" y="0"/>
                  <a:pt x="1147" y="14"/>
                </a:cubicBezTo>
                <a:cubicBezTo>
                  <a:pt x="1128" y="18"/>
                  <a:pt x="1112" y="28"/>
                  <a:pt x="1094" y="35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77920" y="3573360"/>
            <a:ext cx="3240360" cy="1285920"/>
          </a:xfrm>
          <a:custGeom>
            <a:avLst/>
            <a:gdLst/>
            <a:ahLst/>
            <a:rect l="l" t="t" r="r" b="b"/>
            <a:pathLst>
              <a:path w="2041" h="810">
                <a:moveTo>
                  <a:pt x="110" y="810"/>
                </a:moveTo>
                <a:cubicBezTo>
                  <a:pt x="104" y="783"/>
                  <a:pt x="99" y="759"/>
                  <a:pt x="83" y="736"/>
                </a:cubicBezTo>
                <a:cubicBezTo>
                  <a:pt x="72" y="700"/>
                  <a:pt x="53" y="665"/>
                  <a:pt x="40" y="629"/>
                </a:cubicBezTo>
                <a:cubicBezTo>
                  <a:pt x="42" y="542"/>
                  <a:pt x="0" y="385"/>
                  <a:pt x="67" y="293"/>
                </a:cubicBezTo>
                <a:cubicBezTo>
                  <a:pt x="99" y="249"/>
                  <a:pt x="147" y="248"/>
                  <a:pt x="190" y="224"/>
                </a:cubicBezTo>
                <a:cubicBezTo>
                  <a:pt x="231" y="201"/>
                  <a:pt x="171" y="224"/>
                  <a:pt x="243" y="202"/>
                </a:cubicBezTo>
                <a:cubicBezTo>
                  <a:pt x="248" y="200"/>
                  <a:pt x="259" y="197"/>
                  <a:pt x="259" y="197"/>
                </a:cubicBezTo>
                <a:cubicBezTo>
                  <a:pt x="273" y="187"/>
                  <a:pt x="291" y="177"/>
                  <a:pt x="307" y="170"/>
                </a:cubicBezTo>
                <a:cubicBezTo>
                  <a:pt x="317" y="166"/>
                  <a:pt x="339" y="160"/>
                  <a:pt x="339" y="160"/>
                </a:cubicBezTo>
                <a:cubicBezTo>
                  <a:pt x="369" y="139"/>
                  <a:pt x="402" y="126"/>
                  <a:pt x="435" y="112"/>
                </a:cubicBezTo>
                <a:cubicBezTo>
                  <a:pt x="470" y="97"/>
                  <a:pt x="497" y="62"/>
                  <a:pt x="536" y="53"/>
                </a:cubicBezTo>
                <a:cubicBezTo>
                  <a:pt x="558" y="48"/>
                  <a:pt x="574" y="40"/>
                  <a:pt x="595" y="32"/>
                </a:cubicBezTo>
                <a:cubicBezTo>
                  <a:pt x="631" y="19"/>
                  <a:pt x="670" y="12"/>
                  <a:pt x="707" y="0"/>
                </a:cubicBezTo>
                <a:cubicBezTo>
                  <a:pt x="734" y="1"/>
                  <a:pt x="902" y="5"/>
                  <a:pt x="952" y="10"/>
                </a:cubicBezTo>
                <a:cubicBezTo>
                  <a:pt x="1022" y="17"/>
                  <a:pt x="1090" y="56"/>
                  <a:pt x="1160" y="58"/>
                </a:cubicBezTo>
                <a:cubicBezTo>
                  <a:pt x="1293" y="61"/>
                  <a:pt x="1427" y="62"/>
                  <a:pt x="1560" y="64"/>
                </a:cubicBezTo>
                <a:cubicBezTo>
                  <a:pt x="1661" y="87"/>
                  <a:pt x="1547" y="63"/>
                  <a:pt x="1816" y="74"/>
                </a:cubicBezTo>
                <a:cubicBezTo>
                  <a:pt x="1867" y="76"/>
                  <a:pt x="1924" y="91"/>
                  <a:pt x="1976" y="96"/>
                </a:cubicBezTo>
                <a:cubicBezTo>
                  <a:pt x="2003" y="135"/>
                  <a:pt x="1996" y="115"/>
                  <a:pt x="2003" y="154"/>
                </a:cubicBezTo>
                <a:cubicBezTo>
                  <a:pt x="1995" y="535"/>
                  <a:pt x="2041" y="317"/>
                  <a:pt x="1944" y="458"/>
                </a:cubicBezTo>
                <a:cubicBezTo>
                  <a:pt x="1918" y="542"/>
                  <a:pt x="1987" y="667"/>
                  <a:pt x="1912" y="714"/>
                </a:cubicBezTo>
                <a:cubicBezTo>
                  <a:pt x="1821" y="712"/>
                  <a:pt x="1731" y="712"/>
                  <a:pt x="1640" y="709"/>
                </a:cubicBezTo>
                <a:cubicBezTo>
                  <a:pt x="1612" y="708"/>
                  <a:pt x="1588" y="678"/>
                  <a:pt x="1560" y="672"/>
                </a:cubicBezTo>
                <a:cubicBezTo>
                  <a:pt x="1529" y="651"/>
                  <a:pt x="1557" y="666"/>
                  <a:pt x="1502" y="656"/>
                </a:cubicBezTo>
                <a:cubicBezTo>
                  <a:pt x="1493" y="654"/>
                  <a:pt x="1471" y="642"/>
                  <a:pt x="1464" y="640"/>
                </a:cubicBezTo>
                <a:cubicBezTo>
                  <a:pt x="1420" y="625"/>
                  <a:pt x="1375" y="611"/>
                  <a:pt x="1331" y="597"/>
                </a:cubicBezTo>
                <a:cubicBezTo>
                  <a:pt x="939" y="608"/>
                  <a:pt x="1063" y="553"/>
                  <a:pt x="926" y="618"/>
                </a:cubicBezTo>
                <a:cubicBezTo>
                  <a:pt x="829" y="608"/>
                  <a:pt x="739" y="612"/>
                  <a:pt x="643" y="624"/>
                </a:cubicBezTo>
                <a:cubicBezTo>
                  <a:pt x="587" y="641"/>
                  <a:pt x="529" y="655"/>
                  <a:pt x="472" y="666"/>
                </a:cubicBezTo>
                <a:cubicBezTo>
                  <a:pt x="411" y="698"/>
                  <a:pt x="331" y="726"/>
                  <a:pt x="264" y="741"/>
                </a:cubicBezTo>
                <a:cubicBezTo>
                  <a:pt x="224" y="769"/>
                  <a:pt x="173" y="770"/>
                  <a:pt x="126" y="773"/>
                </a:cubicBezTo>
                <a:cubicBezTo>
                  <a:pt x="103" y="789"/>
                  <a:pt x="110" y="778"/>
                  <a:pt x="110" y="810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87560" y="482760"/>
            <a:ext cx="3513240" cy="4051080"/>
          </a:xfrm>
          <a:custGeom>
            <a:avLst/>
            <a:gdLst/>
            <a:ahLst/>
            <a:rect l="l" t="t" r="r" b="b"/>
            <a:pathLst>
              <a:path w="2213" h="2552">
                <a:moveTo>
                  <a:pt x="0" y="96"/>
                </a:moveTo>
                <a:cubicBezTo>
                  <a:pt x="11" y="131"/>
                  <a:pt x="39" y="146"/>
                  <a:pt x="64" y="171"/>
                </a:cubicBezTo>
                <a:cubicBezTo>
                  <a:pt x="84" y="213"/>
                  <a:pt x="61" y="178"/>
                  <a:pt x="90" y="197"/>
                </a:cubicBezTo>
                <a:cubicBezTo>
                  <a:pt x="107" y="208"/>
                  <a:pt x="119" y="231"/>
                  <a:pt x="133" y="245"/>
                </a:cubicBezTo>
                <a:cubicBezTo>
                  <a:pt x="135" y="250"/>
                  <a:pt x="136" y="256"/>
                  <a:pt x="138" y="261"/>
                </a:cubicBezTo>
                <a:cubicBezTo>
                  <a:pt x="141" y="267"/>
                  <a:pt x="146" y="271"/>
                  <a:pt x="149" y="277"/>
                </a:cubicBezTo>
                <a:cubicBezTo>
                  <a:pt x="159" y="302"/>
                  <a:pt x="160" y="324"/>
                  <a:pt x="176" y="347"/>
                </a:cubicBezTo>
                <a:cubicBezTo>
                  <a:pt x="184" y="373"/>
                  <a:pt x="207" y="409"/>
                  <a:pt x="229" y="427"/>
                </a:cubicBezTo>
                <a:cubicBezTo>
                  <a:pt x="235" y="432"/>
                  <a:pt x="243" y="433"/>
                  <a:pt x="250" y="437"/>
                </a:cubicBezTo>
                <a:cubicBezTo>
                  <a:pt x="259" y="442"/>
                  <a:pt x="269" y="446"/>
                  <a:pt x="277" y="453"/>
                </a:cubicBezTo>
                <a:cubicBezTo>
                  <a:pt x="321" y="489"/>
                  <a:pt x="364" y="525"/>
                  <a:pt x="410" y="560"/>
                </a:cubicBezTo>
                <a:cubicBezTo>
                  <a:pt x="441" y="584"/>
                  <a:pt x="431" y="569"/>
                  <a:pt x="464" y="587"/>
                </a:cubicBezTo>
                <a:cubicBezTo>
                  <a:pt x="484" y="598"/>
                  <a:pt x="500" y="617"/>
                  <a:pt x="522" y="624"/>
                </a:cubicBezTo>
                <a:cubicBezTo>
                  <a:pt x="553" y="634"/>
                  <a:pt x="584" y="652"/>
                  <a:pt x="613" y="667"/>
                </a:cubicBezTo>
                <a:cubicBezTo>
                  <a:pt x="645" y="720"/>
                  <a:pt x="688" y="766"/>
                  <a:pt x="725" y="816"/>
                </a:cubicBezTo>
                <a:cubicBezTo>
                  <a:pt x="766" y="871"/>
                  <a:pt x="805" y="923"/>
                  <a:pt x="853" y="971"/>
                </a:cubicBezTo>
                <a:cubicBezTo>
                  <a:pt x="894" y="1012"/>
                  <a:pt x="919" y="1068"/>
                  <a:pt x="960" y="1109"/>
                </a:cubicBezTo>
                <a:cubicBezTo>
                  <a:pt x="972" y="1147"/>
                  <a:pt x="999" y="1174"/>
                  <a:pt x="1013" y="1211"/>
                </a:cubicBezTo>
                <a:cubicBezTo>
                  <a:pt x="1017" y="1223"/>
                  <a:pt x="1021" y="1236"/>
                  <a:pt x="1024" y="1248"/>
                </a:cubicBezTo>
                <a:cubicBezTo>
                  <a:pt x="1026" y="1257"/>
                  <a:pt x="1026" y="1266"/>
                  <a:pt x="1029" y="1275"/>
                </a:cubicBezTo>
                <a:cubicBezTo>
                  <a:pt x="1047" y="1328"/>
                  <a:pt x="1096" y="1425"/>
                  <a:pt x="1141" y="1456"/>
                </a:cubicBezTo>
                <a:cubicBezTo>
                  <a:pt x="1158" y="1509"/>
                  <a:pt x="1222" y="1539"/>
                  <a:pt x="1264" y="1573"/>
                </a:cubicBezTo>
                <a:cubicBezTo>
                  <a:pt x="1287" y="1592"/>
                  <a:pt x="1304" y="1615"/>
                  <a:pt x="1328" y="1632"/>
                </a:cubicBezTo>
                <a:cubicBezTo>
                  <a:pt x="1347" y="1662"/>
                  <a:pt x="1372" y="1692"/>
                  <a:pt x="1397" y="1717"/>
                </a:cubicBezTo>
                <a:cubicBezTo>
                  <a:pt x="1413" y="1767"/>
                  <a:pt x="1411" y="1792"/>
                  <a:pt x="1413" y="1856"/>
                </a:cubicBezTo>
                <a:cubicBezTo>
                  <a:pt x="1419" y="2016"/>
                  <a:pt x="1375" y="2020"/>
                  <a:pt x="1482" y="2037"/>
                </a:cubicBezTo>
                <a:cubicBezTo>
                  <a:pt x="1511" y="2095"/>
                  <a:pt x="1470" y="2193"/>
                  <a:pt x="1530" y="2235"/>
                </a:cubicBezTo>
                <a:cubicBezTo>
                  <a:pt x="1555" y="2272"/>
                  <a:pt x="1551" y="2314"/>
                  <a:pt x="1536" y="2357"/>
                </a:cubicBezTo>
                <a:cubicBezTo>
                  <a:pt x="1531" y="2373"/>
                  <a:pt x="1520" y="2405"/>
                  <a:pt x="1520" y="2405"/>
                </a:cubicBezTo>
                <a:cubicBezTo>
                  <a:pt x="1523" y="2446"/>
                  <a:pt x="1522" y="2508"/>
                  <a:pt x="1562" y="2533"/>
                </a:cubicBezTo>
                <a:cubicBezTo>
                  <a:pt x="2007" y="2525"/>
                  <a:pt x="1724" y="2552"/>
                  <a:pt x="1904" y="2496"/>
                </a:cubicBezTo>
                <a:cubicBezTo>
                  <a:pt x="1921" y="2479"/>
                  <a:pt x="1940" y="2455"/>
                  <a:pt x="1962" y="2448"/>
                </a:cubicBezTo>
                <a:cubicBezTo>
                  <a:pt x="1980" y="2430"/>
                  <a:pt x="1986" y="2414"/>
                  <a:pt x="2005" y="2395"/>
                </a:cubicBezTo>
                <a:cubicBezTo>
                  <a:pt x="2011" y="2375"/>
                  <a:pt x="2037" y="2341"/>
                  <a:pt x="2037" y="2341"/>
                </a:cubicBezTo>
                <a:cubicBezTo>
                  <a:pt x="2044" y="2312"/>
                  <a:pt x="2051" y="2291"/>
                  <a:pt x="2069" y="2267"/>
                </a:cubicBezTo>
                <a:cubicBezTo>
                  <a:pt x="2085" y="2195"/>
                  <a:pt x="2122" y="2127"/>
                  <a:pt x="2160" y="2064"/>
                </a:cubicBezTo>
                <a:cubicBezTo>
                  <a:pt x="2213" y="1977"/>
                  <a:pt x="2128" y="2092"/>
                  <a:pt x="2186" y="2016"/>
                </a:cubicBezTo>
                <a:cubicBezTo>
                  <a:pt x="2204" y="1934"/>
                  <a:pt x="2171" y="1824"/>
                  <a:pt x="2133" y="1749"/>
                </a:cubicBezTo>
                <a:cubicBezTo>
                  <a:pt x="2129" y="1712"/>
                  <a:pt x="2123" y="1679"/>
                  <a:pt x="2112" y="1643"/>
                </a:cubicBezTo>
                <a:cubicBezTo>
                  <a:pt x="2107" y="1628"/>
                  <a:pt x="2101" y="1614"/>
                  <a:pt x="2096" y="1600"/>
                </a:cubicBezTo>
                <a:cubicBezTo>
                  <a:pt x="2094" y="1595"/>
                  <a:pt x="2090" y="1584"/>
                  <a:pt x="2090" y="1584"/>
                </a:cubicBezTo>
                <a:cubicBezTo>
                  <a:pt x="2079" y="1527"/>
                  <a:pt x="2067" y="1455"/>
                  <a:pt x="2032" y="1408"/>
                </a:cubicBezTo>
                <a:cubicBezTo>
                  <a:pt x="2027" y="1381"/>
                  <a:pt x="2025" y="1366"/>
                  <a:pt x="2010" y="1344"/>
                </a:cubicBezTo>
                <a:cubicBezTo>
                  <a:pt x="2002" y="1317"/>
                  <a:pt x="1986" y="1289"/>
                  <a:pt x="1973" y="1264"/>
                </a:cubicBezTo>
                <a:cubicBezTo>
                  <a:pt x="1967" y="1218"/>
                  <a:pt x="1946" y="1135"/>
                  <a:pt x="1925" y="1093"/>
                </a:cubicBezTo>
                <a:cubicBezTo>
                  <a:pt x="1917" y="1060"/>
                  <a:pt x="1910" y="1029"/>
                  <a:pt x="1898" y="997"/>
                </a:cubicBezTo>
                <a:cubicBezTo>
                  <a:pt x="1894" y="970"/>
                  <a:pt x="1891" y="952"/>
                  <a:pt x="1882" y="928"/>
                </a:cubicBezTo>
                <a:cubicBezTo>
                  <a:pt x="1880" y="919"/>
                  <a:pt x="1880" y="910"/>
                  <a:pt x="1877" y="901"/>
                </a:cubicBezTo>
                <a:cubicBezTo>
                  <a:pt x="1874" y="892"/>
                  <a:pt x="1868" y="884"/>
                  <a:pt x="1866" y="875"/>
                </a:cubicBezTo>
                <a:cubicBezTo>
                  <a:pt x="1856" y="833"/>
                  <a:pt x="1854" y="777"/>
                  <a:pt x="1829" y="741"/>
                </a:cubicBezTo>
                <a:cubicBezTo>
                  <a:pt x="1823" y="715"/>
                  <a:pt x="1806" y="690"/>
                  <a:pt x="1792" y="667"/>
                </a:cubicBezTo>
                <a:cubicBezTo>
                  <a:pt x="1785" y="656"/>
                  <a:pt x="1770" y="635"/>
                  <a:pt x="1770" y="635"/>
                </a:cubicBezTo>
                <a:cubicBezTo>
                  <a:pt x="1765" y="611"/>
                  <a:pt x="1720" y="522"/>
                  <a:pt x="1706" y="501"/>
                </a:cubicBezTo>
                <a:cubicBezTo>
                  <a:pt x="1704" y="494"/>
                  <a:pt x="1704" y="486"/>
                  <a:pt x="1701" y="480"/>
                </a:cubicBezTo>
                <a:cubicBezTo>
                  <a:pt x="1695" y="469"/>
                  <a:pt x="1680" y="448"/>
                  <a:pt x="1680" y="448"/>
                </a:cubicBezTo>
                <a:cubicBezTo>
                  <a:pt x="1670" y="414"/>
                  <a:pt x="1651" y="372"/>
                  <a:pt x="1626" y="347"/>
                </a:cubicBezTo>
                <a:cubicBezTo>
                  <a:pt x="1619" y="325"/>
                  <a:pt x="1614" y="312"/>
                  <a:pt x="1594" y="299"/>
                </a:cubicBezTo>
                <a:cubicBezTo>
                  <a:pt x="1575" y="238"/>
                  <a:pt x="1482" y="155"/>
                  <a:pt x="1424" y="133"/>
                </a:cubicBezTo>
                <a:cubicBezTo>
                  <a:pt x="1374" y="135"/>
                  <a:pt x="1324" y="135"/>
                  <a:pt x="1274" y="139"/>
                </a:cubicBezTo>
                <a:cubicBezTo>
                  <a:pt x="1202" y="145"/>
                  <a:pt x="1255" y="146"/>
                  <a:pt x="1216" y="155"/>
                </a:cubicBezTo>
                <a:cubicBezTo>
                  <a:pt x="1130" y="175"/>
                  <a:pt x="1042" y="194"/>
                  <a:pt x="954" y="203"/>
                </a:cubicBezTo>
                <a:cubicBezTo>
                  <a:pt x="940" y="262"/>
                  <a:pt x="973" y="238"/>
                  <a:pt x="1013" y="229"/>
                </a:cubicBezTo>
                <a:cubicBezTo>
                  <a:pt x="1031" y="221"/>
                  <a:pt x="1069" y="219"/>
                  <a:pt x="1034" y="208"/>
                </a:cubicBezTo>
                <a:cubicBezTo>
                  <a:pt x="930" y="233"/>
                  <a:pt x="902" y="197"/>
                  <a:pt x="832" y="149"/>
                </a:cubicBezTo>
                <a:cubicBezTo>
                  <a:pt x="794" y="94"/>
                  <a:pt x="853" y="174"/>
                  <a:pt x="800" y="123"/>
                </a:cubicBezTo>
                <a:cubicBezTo>
                  <a:pt x="796" y="119"/>
                  <a:pt x="798" y="111"/>
                  <a:pt x="794" y="107"/>
                </a:cubicBezTo>
                <a:cubicBezTo>
                  <a:pt x="786" y="99"/>
                  <a:pt x="705" y="77"/>
                  <a:pt x="693" y="75"/>
                </a:cubicBezTo>
                <a:cubicBezTo>
                  <a:pt x="581" y="33"/>
                  <a:pt x="540" y="62"/>
                  <a:pt x="357" y="59"/>
                </a:cubicBezTo>
                <a:cubicBezTo>
                  <a:pt x="301" y="38"/>
                  <a:pt x="246" y="14"/>
                  <a:pt x="186" y="0"/>
                </a:cubicBezTo>
                <a:cubicBezTo>
                  <a:pt x="153" y="4"/>
                  <a:pt x="132" y="11"/>
                  <a:pt x="101" y="21"/>
                </a:cubicBezTo>
                <a:cubicBezTo>
                  <a:pt x="85" y="26"/>
                  <a:pt x="53" y="37"/>
                  <a:pt x="53" y="37"/>
                </a:cubicBezTo>
                <a:cubicBezTo>
                  <a:pt x="42" y="44"/>
                  <a:pt x="32" y="52"/>
                  <a:pt x="21" y="59"/>
                </a:cubicBezTo>
                <a:cubicBezTo>
                  <a:pt x="10" y="66"/>
                  <a:pt x="21" y="85"/>
                  <a:pt x="0" y="96"/>
                </a:cubicBezTo>
                <a:close/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4" action="ppaction://hlinksldjump"/>
          </p:cNvPr>
          <p:cNvSpPr/>
          <p:nvPr/>
        </p:nvSpPr>
        <p:spPr>
          <a:xfrm>
            <a:off x="2209680" y="2971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5" action="ppaction://hlinksldjump"/>
          </p:cNvPr>
          <p:cNvSpPr/>
          <p:nvPr/>
        </p:nvSpPr>
        <p:spPr>
          <a:xfrm>
            <a:off x="7010280" y="609588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i de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pe s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ge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4952880" y="2133720"/>
            <a:ext cx="486000" cy="671400"/>
          </a:xfrm>
          <a:prstGeom prst="upArrow">
            <a:avLst>
              <a:gd name="adj1" fmla="val 50000"/>
              <a:gd name="adj2" fmla="val 34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4038480" y="3733920"/>
            <a:ext cx="486000" cy="609480"/>
          </a:xfrm>
          <a:prstGeom prst="upArrow">
            <a:avLst>
              <a:gd name="adj1" fmla="val 50000"/>
              <a:gd name="adj2" fmla="val 313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743200"/>
            <a:ext cx="485640" cy="671400"/>
          </a:xfrm>
          <a:prstGeom prst="up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276360" cy="2614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124080" y="3276720"/>
            <a:ext cx="434340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716292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43000" y="1474920"/>
            <a:ext cx="3200400" cy="2968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3276720" y="4114800"/>
            <a:ext cx="43718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latin typeface="Impact"/>
              </a:rPr>
              <a:t>MAI  ÎNCEARCĂ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7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73915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0" y="0"/>
              <a:ext cx="8534520" cy="6859440"/>
              <a:chOff x="0" y="0"/>
              <a:chExt cx="8534520" cy="6859440"/>
            </a:xfrm>
          </p:grpSpPr>
          <p:sp>
            <p:nvSpPr>
              <p:cNvPr id="238" name=""/>
              <p:cNvSpPr/>
              <p:nvPr/>
            </p:nvSpPr>
            <p:spPr>
              <a:xfrm>
                <a:off x="4038480" y="0"/>
                <a:ext cx="381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038480" y="6491160"/>
                <a:ext cx="6098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77320" y="2514600"/>
                <a:ext cx="4572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590920"/>
                <a:ext cx="53352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5105520" y="23623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4191120" y="3962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228600"/>
            <a:ext cx="2743200" cy="20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 pe hart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1" lang="ro-RO" sz="2800" spc="-1" strike="noStrike">
                <a:solidFill>
                  <a:srgbClr val="993300"/>
                </a:solidFill>
                <a:latin typeface="Arial"/>
              </a:rPr>
              <a:t>Carpaţii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993300"/>
                </a:solidFill>
                <a:latin typeface="Arial"/>
              </a:rPr>
              <a:t>Occid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52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CARPAŢII  ROMÂN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28760" y="1519200"/>
            <a:ext cx="2082600" cy="3865680"/>
          </a:xfrm>
          <a:custGeom>
            <a:avLst/>
            <a:gdLst/>
            <a:ahLst/>
            <a:rect l="l" t="t" r="r" b="b"/>
            <a:pathLst>
              <a:path w="1312" h="2435">
                <a:moveTo>
                  <a:pt x="1094" y="35"/>
                </a:moveTo>
                <a:cubicBezTo>
                  <a:pt x="1077" y="30"/>
                  <a:pt x="1062" y="19"/>
                  <a:pt x="1046" y="14"/>
                </a:cubicBezTo>
                <a:cubicBezTo>
                  <a:pt x="1034" y="10"/>
                  <a:pt x="987" y="4"/>
                  <a:pt x="976" y="3"/>
                </a:cubicBezTo>
                <a:cubicBezTo>
                  <a:pt x="894" y="6"/>
                  <a:pt x="835" y="1"/>
                  <a:pt x="763" y="24"/>
                </a:cubicBezTo>
                <a:cubicBezTo>
                  <a:pt x="741" y="39"/>
                  <a:pt x="709" y="68"/>
                  <a:pt x="683" y="78"/>
                </a:cubicBezTo>
                <a:cubicBezTo>
                  <a:pt x="660" y="108"/>
                  <a:pt x="646" y="136"/>
                  <a:pt x="614" y="158"/>
                </a:cubicBezTo>
                <a:cubicBezTo>
                  <a:pt x="597" y="181"/>
                  <a:pt x="584" y="206"/>
                  <a:pt x="560" y="222"/>
                </a:cubicBezTo>
                <a:cubicBezTo>
                  <a:pt x="536" y="260"/>
                  <a:pt x="538" y="307"/>
                  <a:pt x="512" y="344"/>
                </a:cubicBezTo>
                <a:cubicBezTo>
                  <a:pt x="503" y="383"/>
                  <a:pt x="482" y="425"/>
                  <a:pt x="464" y="462"/>
                </a:cubicBezTo>
                <a:cubicBezTo>
                  <a:pt x="447" y="532"/>
                  <a:pt x="486" y="732"/>
                  <a:pt x="390" y="792"/>
                </a:cubicBezTo>
                <a:cubicBezTo>
                  <a:pt x="386" y="803"/>
                  <a:pt x="375" y="812"/>
                  <a:pt x="374" y="824"/>
                </a:cubicBezTo>
                <a:cubicBezTo>
                  <a:pt x="365" y="909"/>
                  <a:pt x="387" y="1001"/>
                  <a:pt x="336" y="1075"/>
                </a:cubicBezTo>
                <a:cubicBezTo>
                  <a:pt x="314" y="1194"/>
                  <a:pt x="364" y="1342"/>
                  <a:pt x="283" y="1448"/>
                </a:cubicBezTo>
                <a:cubicBezTo>
                  <a:pt x="278" y="1464"/>
                  <a:pt x="270" y="1482"/>
                  <a:pt x="262" y="1496"/>
                </a:cubicBezTo>
                <a:cubicBezTo>
                  <a:pt x="256" y="1507"/>
                  <a:pt x="240" y="1528"/>
                  <a:pt x="240" y="1528"/>
                </a:cubicBezTo>
                <a:cubicBezTo>
                  <a:pt x="236" y="1545"/>
                  <a:pt x="214" y="1587"/>
                  <a:pt x="214" y="1587"/>
                </a:cubicBezTo>
                <a:cubicBezTo>
                  <a:pt x="218" y="1593"/>
                  <a:pt x="228" y="1584"/>
                  <a:pt x="235" y="1582"/>
                </a:cubicBezTo>
                <a:cubicBezTo>
                  <a:pt x="219" y="1605"/>
                  <a:pt x="219" y="1619"/>
                  <a:pt x="198" y="1640"/>
                </a:cubicBezTo>
                <a:cubicBezTo>
                  <a:pt x="190" y="1670"/>
                  <a:pt x="172" y="1693"/>
                  <a:pt x="150" y="1715"/>
                </a:cubicBezTo>
                <a:cubicBezTo>
                  <a:pt x="140" y="1740"/>
                  <a:pt x="130" y="1770"/>
                  <a:pt x="107" y="1784"/>
                </a:cubicBezTo>
                <a:cubicBezTo>
                  <a:pt x="101" y="1802"/>
                  <a:pt x="96" y="1816"/>
                  <a:pt x="86" y="1832"/>
                </a:cubicBezTo>
                <a:cubicBezTo>
                  <a:pt x="78" y="1868"/>
                  <a:pt x="59" y="1901"/>
                  <a:pt x="43" y="1934"/>
                </a:cubicBezTo>
                <a:cubicBezTo>
                  <a:pt x="39" y="1941"/>
                  <a:pt x="32" y="1955"/>
                  <a:pt x="32" y="1955"/>
                </a:cubicBezTo>
                <a:cubicBezTo>
                  <a:pt x="24" y="1989"/>
                  <a:pt x="12" y="2023"/>
                  <a:pt x="0" y="2056"/>
                </a:cubicBezTo>
                <a:cubicBezTo>
                  <a:pt x="2" y="2117"/>
                  <a:pt x="1" y="2177"/>
                  <a:pt x="6" y="2238"/>
                </a:cubicBezTo>
                <a:cubicBezTo>
                  <a:pt x="8" y="2263"/>
                  <a:pt x="33" y="2281"/>
                  <a:pt x="48" y="2302"/>
                </a:cubicBezTo>
                <a:cubicBezTo>
                  <a:pt x="83" y="2350"/>
                  <a:pt x="126" y="2390"/>
                  <a:pt x="182" y="2414"/>
                </a:cubicBezTo>
                <a:cubicBezTo>
                  <a:pt x="217" y="2429"/>
                  <a:pt x="262" y="2428"/>
                  <a:pt x="299" y="2435"/>
                </a:cubicBezTo>
                <a:cubicBezTo>
                  <a:pt x="340" y="2433"/>
                  <a:pt x="381" y="2435"/>
                  <a:pt x="422" y="2430"/>
                </a:cubicBezTo>
                <a:cubicBezTo>
                  <a:pt x="456" y="2426"/>
                  <a:pt x="465" y="2326"/>
                  <a:pt x="480" y="2302"/>
                </a:cubicBezTo>
                <a:cubicBezTo>
                  <a:pt x="488" y="2150"/>
                  <a:pt x="458" y="2203"/>
                  <a:pt x="544" y="2190"/>
                </a:cubicBezTo>
                <a:cubicBezTo>
                  <a:pt x="537" y="2152"/>
                  <a:pt x="513" y="2105"/>
                  <a:pt x="491" y="2072"/>
                </a:cubicBezTo>
                <a:cubicBezTo>
                  <a:pt x="485" y="2054"/>
                  <a:pt x="479" y="2037"/>
                  <a:pt x="475" y="2019"/>
                </a:cubicBezTo>
                <a:cubicBezTo>
                  <a:pt x="498" y="1973"/>
                  <a:pt x="507" y="1921"/>
                  <a:pt x="475" y="1875"/>
                </a:cubicBezTo>
                <a:cubicBezTo>
                  <a:pt x="463" y="1835"/>
                  <a:pt x="480" y="1884"/>
                  <a:pt x="459" y="1843"/>
                </a:cubicBezTo>
                <a:cubicBezTo>
                  <a:pt x="446" y="1817"/>
                  <a:pt x="442" y="1785"/>
                  <a:pt x="432" y="1758"/>
                </a:cubicBezTo>
                <a:cubicBezTo>
                  <a:pt x="434" y="1713"/>
                  <a:pt x="433" y="1668"/>
                  <a:pt x="438" y="1624"/>
                </a:cubicBezTo>
                <a:cubicBezTo>
                  <a:pt x="439" y="1611"/>
                  <a:pt x="464" y="1555"/>
                  <a:pt x="470" y="1539"/>
                </a:cubicBezTo>
                <a:cubicBezTo>
                  <a:pt x="492" y="1477"/>
                  <a:pt x="517" y="1427"/>
                  <a:pt x="582" y="1400"/>
                </a:cubicBezTo>
                <a:cubicBezTo>
                  <a:pt x="618" y="1385"/>
                  <a:pt x="663" y="1387"/>
                  <a:pt x="699" y="1384"/>
                </a:cubicBezTo>
                <a:cubicBezTo>
                  <a:pt x="728" y="1370"/>
                  <a:pt x="758" y="1358"/>
                  <a:pt x="790" y="1352"/>
                </a:cubicBezTo>
                <a:cubicBezTo>
                  <a:pt x="815" y="1327"/>
                  <a:pt x="841" y="1307"/>
                  <a:pt x="875" y="1299"/>
                </a:cubicBezTo>
                <a:cubicBezTo>
                  <a:pt x="919" y="1270"/>
                  <a:pt x="963" y="1241"/>
                  <a:pt x="1008" y="1214"/>
                </a:cubicBezTo>
                <a:cubicBezTo>
                  <a:pt x="1055" y="1186"/>
                  <a:pt x="1023" y="1197"/>
                  <a:pt x="1056" y="1187"/>
                </a:cubicBezTo>
                <a:cubicBezTo>
                  <a:pt x="1075" y="1160"/>
                  <a:pt x="1052" y="1163"/>
                  <a:pt x="1072" y="1139"/>
                </a:cubicBezTo>
                <a:cubicBezTo>
                  <a:pt x="1090" y="1118"/>
                  <a:pt x="1111" y="1114"/>
                  <a:pt x="1131" y="1096"/>
                </a:cubicBezTo>
                <a:cubicBezTo>
                  <a:pt x="1193" y="1040"/>
                  <a:pt x="1133" y="1085"/>
                  <a:pt x="1195" y="1043"/>
                </a:cubicBezTo>
                <a:cubicBezTo>
                  <a:pt x="1202" y="1038"/>
                  <a:pt x="1228" y="1021"/>
                  <a:pt x="1232" y="1016"/>
                </a:cubicBezTo>
                <a:cubicBezTo>
                  <a:pt x="1241" y="1006"/>
                  <a:pt x="1254" y="984"/>
                  <a:pt x="1254" y="984"/>
                </a:cubicBezTo>
                <a:cubicBezTo>
                  <a:pt x="1263" y="948"/>
                  <a:pt x="1286" y="919"/>
                  <a:pt x="1296" y="883"/>
                </a:cubicBezTo>
                <a:cubicBezTo>
                  <a:pt x="1304" y="857"/>
                  <a:pt x="1307" y="830"/>
                  <a:pt x="1312" y="803"/>
                </a:cubicBezTo>
                <a:cubicBezTo>
                  <a:pt x="1309" y="726"/>
                  <a:pt x="1304" y="650"/>
                  <a:pt x="1270" y="579"/>
                </a:cubicBezTo>
                <a:cubicBezTo>
                  <a:pt x="1257" y="523"/>
                  <a:pt x="1267" y="546"/>
                  <a:pt x="1248" y="510"/>
                </a:cubicBezTo>
                <a:cubicBezTo>
                  <a:pt x="1241" y="467"/>
                  <a:pt x="1228" y="424"/>
                  <a:pt x="1216" y="382"/>
                </a:cubicBezTo>
                <a:cubicBezTo>
                  <a:pt x="1214" y="305"/>
                  <a:pt x="1214" y="229"/>
                  <a:pt x="1211" y="152"/>
                </a:cubicBezTo>
                <a:cubicBezTo>
                  <a:pt x="1210" y="136"/>
                  <a:pt x="1207" y="0"/>
                  <a:pt x="1147" y="14"/>
                </a:cubicBezTo>
                <a:cubicBezTo>
                  <a:pt x="1128" y="18"/>
                  <a:pt x="1112" y="28"/>
                  <a:pt x="1094" y="35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77920" y="3573360"/>
            <a:ext cx="3240360" cy="1285920"/>
          </a:xfrm>
          <a:custGeom>
            <a:avLst/>
            <a:gdLst/>
            <a:ahLst/>
            <a:rect l="l" t="t" r="r" b="b"/>
            <a:pathLst>
              <a:path w="2041" h="810">
                <a:moveTo>
                  <a:pt x="110" y="810"/>
                </a:moveTo>
                <a:cubicBezTo>
                  <a:pt x="104" y="783"/>
                  <a:pt x="99" y="759"/>
                  <a:pt x="83" y="736"/>
                </a:cubicBezTo>
                <a:cubicBezTo>
                  <a:pt x="72" y="700"/>
                  <a:pt x="53" y="665"/>
                  <a:pt x="40" y="629"/>
                </a:cubicBezTo>
                <a:cubicBezTo>
                  <a:pt x="42" y="542"/>
                  <a:pt x="0" y="385"/>
                  <a:pt x="67" y="293"/>
                </a:cubicBezTo>
                <a:cubicBezTo>
                  <a:pt x="99" y="249"/>
                  <a:pt x="147" y="248"/>
                  <a:pt x="190" y="224"/>
                </a:cubicBezTo>
                <a:cubicBezTo>
                  <a:pt x="231" y="201"/>
                  <a:pt x="171" y="224"/>
                  <a:pt x="243" y="202"/>
                </a:cubicBezTo>
                <a:cubicBezTo>
                  <a:pt x="248" y="200"/>
                  <a:pt x="259" y="197"/>
                  <a:pt x="259" y="197"/>
                </a:cubicBezTo>
                <a:cubicBezTo>
                  <a:pt x="273" y="187"/>
                  <a:pt x="291" y="177"/>
                  <a:pt x="307" y="170"/>
                </a:cubicBezTo>
                <a:cubicBezTo>
                  <a:pt x="317" y="166"/>
                  <a:pt x="339" y="160"/>
                  <a:pt x="339" y="160"/>
                </a:cubicBezTo>
                <a:cubicBezTo>
                  <a:pt x="369" y="139"/>
                  <a:pt x="402" y="126"/>
                  <a:pt x="435" y="112"/>
                </a:cubicBezTo>
                <a:cubicBezTo>
                  <a:pt x="470" y="97"/>
                  <a:pt x="497" y="62"/>
                  <a:pt x="536" y="53"/>
                </a:cubicBezTo>
                <a:cubicBezTo>
                  <a:pt x="558" y="48"/>
                  <a:pt x="574" y="40"/>
                  <a:pt x="595" y="32"/>
                </a:cubicBezTo>
                <a:cubicBezTo>
                  <a:pt x="631" y="19"/>
                  <a:pt x="670" y="12"/>
                  <a:pt x="707" y="0"/>
                </a:cubicBezTo>
                <a:cubicBezTo>
                  <a:pt x="734" y="1"/>
                  <a:pt x="902" y="5"/>
                  <a:pt x="952" y="10"/>
                </a:cubicBezTo>
                <a:cubicBezTo>
                  <a:pt x="1022" y="17"/>
                  <a:pt x="1090" y="56"/>
                  <a:pt x="1160" y="58"/>
                </a:cubicBezTo>
                <a:cubicBezTo>
                  <a:pt x="1293" y="61"/>
                  <a:pt x="1427" y="62"/>
                  <a:pt x="1560" y="64"/>
                </a:cubicBezTo>
                <a:cubicBezTo>
                  <a:pt x="1661" y="87"/>
                  <a:pt x="1547" y="63"/>
                  <a:pt x="1816" y="74"/>
                </a:cubicBezTo>
                <a:cubicBezTo>
                  <a:pt x="1867" y="76"/>
                  <a:pt x="1924" y="91"/>
                  <a:pt x="1976" y="96"/>
                </a:cubicBezTo>
                <a:cubicBezTo>
                  <a:pt x="2003" y="135"/>
                  <a:pt x="1996" y="115"/>
                  <a:pt x="2003" y="154"/>
                </a:cubicBezTo>
                <a:cubicBezTo>
                  <a:pt x="1995" y="535"/>
                  <a:pt x="2041" y="317"/>
                  <a:pt x="1944" y="458"/>
                </a:cubicBezTo>
                <a:cubicBezTo>
                  <a:pt x="1918" y="542"/>
                  <a:pt x="1987" y="667"/>
                  <a:pt x="1912" y="714"/>
                </a:cubicBezTo>
                <a:cubicBezTo>
                  <a:pt x="1821" y="712"/>
                  <a:pt x="1731" y="712"/>
                  <a:pt x="1640" y="709"/>
                </a:cubicBezTo>
                <a:cubicBezTo>
                  <a:pt x="1612" y="708"/>
                  <a:pt x="1588" y="678"/>
                  <a:pt x="1560" y="672"/>
                </a:cubicBezTo>
                <a:cubicBezTo>
                  <a:pt x="1529" y="651"/>
                  <a:pt x="1557" y="666"/>
                  <a:pt x="1502" y="656"/>
                </a:cubicBezTo>
                <a:cubicBezTo>
                  <a:pt x="1493" y="654"/>
                  <a:pt x="1471" y="642"/>
                  <a:pt x="1464" y="640"/>
                </a:cubicBezTo>
                <a:cubicBezTo>
                  <a:pt x="1420" y="625"/>
                  <a:pt x="1375" y="611"/>
                  <a:pt x="1331" y="597"/>
                </a:cubicBezTo>
                <a:cubicBezTo>
                  <a:pt x="939" y="608"/>
                  <a:pt x="1063" y="553"/>
                  <a:pt x="926" y="618"/>
                </a:cubicBezTo>
                <a:cubicBezTo>
                  <a:pt x="829" y="608"/>
                  <a:pt x="739" y="612"/>
                  <a:pt x="643" y="624"/>
                </a:cubicBezTo>
                <a:cubicBezTo>
                  <a:pt x="587" y="641"/>
                  <a:pt x="529" y="655"/>
                  <a:pt x="472" y="666"/>
                </a:cubicBezTo>
                <a:cubicBezTo>
                  <a:pt x="411" y="698"/>
                  <a:pt x="331" y="726"/>
                  <a:pt x="264" y="741"/>
                </a:cubicBezTo>
                <a:cubicBezTo>
                  <a:pt x="224" y="769"/>
                  <a:pt x="173" y="770"/>
                  <a:pt x="126" y="773"/>
                </a:cubicBezTo>
                <a:cubicBezTo>
                  <a:pt x="103" y="789"/>
                  <a:pt x="110" y="778"/>
                  <a:pt x="110" y="810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87560" y="482760"/>
            <a:ext cx="3513240" cy="4051080"/>
          </a:xfrm>
          <a:custGeom>
            <a:avLst/>
            <a:gdLst/>
            <a:ahLst/>
            <a:rect l="l" t="t" r="r" b="b"/>
            <a:pathLst>
              <a:path w="2213" h="2552">
                <a:moveTo>
                  <a:pt x="0" y="96"/>
                </a:moveTo>
                <a:cubicBezTo>
                  <a:pt x="11" y="131"/>
                  <a:pt x="39" y="146"/>
                  <a:pt x="64" y="171"/>
                </a:cubicBezTo>
                <a:cubicBezTo>
                  <a:pt x="84" y="213"/>
                  <a:pt x="61" y="178"/>
                  <a:pt x="90" y="197"/>
                </a:cubicBezTo>
                <a:cubicBezTo>
                  <a:pt x="107" y="208"/>
                  <a:pt x="119" y="231"/>
                  <a:pt x="133" y="245"/>
                </a:cubicBezTo>
                <a:cubicBezTo>
                  <a:pt x="135" y="250"/>
                  <a:pt x="136" y="256"/>
                  <a:pt x="138" y="261"/>
                </a:cubicBezTo>
                <a:cubicBezTo>
                  <a:pt x="141" y="267"/>
                  <a:pt x="146" y="271"/>
                  <a:pt x="149" y="277"/>
                </a:cubicBezTo>
                <a:cubicBezTo>
                  <a:pt x="159" y="302"/>
                  <a:pt x="160" y="324"/>
                  <a:pt x="176" y="347"/>
                </a:cubicBezTo>
                <a:cubicBezTo>
                  <a:pt x="184" y="373"/>
                  <a:pt x="207" y="409"/>
                  <a:pt x="229" y="427"/>
                </a:cubicBezTo>
                <a:cubicBezTo>
                  <a:pt x="235" y="432"/>
                  <a:pt x="243" y="433"/>
                  <a:pt x="250" y="437"/>
                </a:cubicBezTo>
                <a:cubicBezTo>
                  <a:pt x="259" y="442"/>
                  <a:pt x="269" y="446"/>
                  <a:pt x="277" y="453"/>
                </a:cubicBezTo>
                <a:cubicBezTo>
                  <a:pt x="321" y="489"/>
                  <a:pt x="364" y="525"/>
                  <a:pt x="410" y="560"/>
                </a:cubicBezTo>
                <a:cubicBezTo>
                  <a:pt x="441" y="584"/>
                  <a:pt x="431" y="569"/>
                  <a:pt x="464" y="587"/>
                </a:cubicBezTo>
                <a:cubicBezTo>
                  <a:pt x="484" y="598"/>
                  <a:pt x="500" y="617"/>
                  <a:pt x="522" y="624"/>
                </a:cubicBezTo>
                <a:cubicBezTo>
                  <a:pt x="553" y="634"/>
                  <a:pt x="584" y="652"/>
                  <a:pt x="613" y="667"/>
                </a:cubicBezTo>
                <a:cubicBezTo>
                  <a:pt x="645" y="720"/>
                  <a:pt x="688" y="766"/>
                  <a:pt x="725" y="816"/>
                </a:cubicBezTo>
                <a:cubicBezTo>
                  <a:pt x="766" y="871"/>
                  <a:pt x="805" y="923"/>
                  <a:pt x="853" y="971"/>
                </a:cubicBezTo>
                <a:cubicBezTo>
                  <a:pt x="894" y="1012"/>
                  <a:pt x="919" y="1068"/>
                  <a:pt x="960" y="1109"/>
                </a:cubicBezTo>
                <a:cubicBezTo>
                  <a:pt x="972" y="1147"/>
                  <a:pt x="999" y="1174"/>
                  <a:pt x="1013" y="1211"/>
                </a:cubicBezTo>
                <a:cubicBezTo>
                  <a:pt x="1017" y="1223"/>
                  <a:pt x="1021" y="1236"/>
                  <a:pt x="1024" y="1248"/>
                </a:cubicBezTo>
                <a:cubicBezTo>
                  <a:pt x="1026" y="1257"/>
                  <a:pt x="1026" y="1266"/>
                  <a:pt x="1029" y="1275"/>
                </a:cubicBezTo>
                <a:cubicBezTo>
                  <a:pt x="1047" y="1328"/>
                  <a:pt x="1096" y="1425"/>
                  <a:pt x="1141" y="1456"/>
                </a:cubicBezTo>
                <a:cubicBezTo>
                  <a:pt x="1158" y="1509"/>
                  <a:pt x="1222" y="1539"/>
                  <a:pt x="1264" y="1573"/>
                </a:cubicBezTo>
                <a:cubicBezTo>
                  <a:pt x="1287" y="1592"/>
                  <a:pt x="1304" y="1615"/>
                  <a:pt x="1328" y="1632"/>
                </a:cubicBezTo>
                <a:cubicBezTo>
                  <a:pt x="1347" y="1662"/>
                  <a:pt x="1372" y="1692"/>
                  <a:pt x="1397" y="1717"/>
                </a:cubicBezTo>
                <a:cubicBezTo>
                  <a:pt x="1413" y="1767"/>
                  <a:pt x="1411" y="1792"/>
                  <a:pt x="1413" y="1856"/>
                </a:cubicBezTo>
                <a:cubicBezTo>
                  <a:pt x="1419" y="2016"/>
                  <a:pt x="1375" y="2020"/>
                  <a:pt x="1482" y="2037"/>
                </a:cubicBezTo>
                <a:cubicBezTo>
                  <a:pt x="1511" y="2095"/>
                  <a:pt x="1470" y="2193"/>
                  <a:pt x="1530" y="2235"/>
                </a:cubicBezTo>
                <a:cubicBezTo>
                  <a:pt x="1555" y="2272"/>
                  <a:pt x="1551" y="2314"/>
                  <a:pt x="1536" y="2357"/>
                </a:cubicBezTo>
                <a:cubicBezTo>
                  <a:pt x="1531" y="2373"/>
                  <a:pt x="1520" y="2405"/>
                  <a:pt x="1520" y="2405"/>
                </a:cubicBezTo>
                <a:cubicBezTo>
                  <a:pt x="1523" y="2446"/>
                  <a:pt x="1522" y="2508"/>
                  <a:pt x="1562" y="2533"/>
                </a:cubicBezTo>
                <a:cubicBezTo>
                  <a:pt x="2007" y="2525"/>
                  <a:pt x="1724" y="2552"/>
                  <a:pt x="1904" y="2496"/>
                </a:cubicBezTo>
                <a:cubicBezTo>
                  <a:pt x="1921" y="2479"/>
                  <a:pt x="1940" y="2455"/>
                  <a:pt x="1962" y="2448"/>
                </a:cubicBezTo>
                <a:cubicBezTo>
                  <a:pt x="1980" y="2430"/>
                  <a:pt x="1986" y="2414"/>
                  <a:pt x="2005" y="2395"/>
                </a:cubicBezTo>
                <a:cubicBezTo>
                  <a:pt x="2011" y="2375"/>
                  <a:pt x="2037" y="2341"/>
                  <a:pt x="2037" y="2341"/>
                </a:cubicBezTo>
                <a:cubicBezTo>
                  <a:pt x="2044" y="2312"/>
                  <a:pt x="2051" y="2291"/>
                  <a:pt x="2069" y="2267"/>
                </a:cubicBezTo>
                <a:cubicBezTo>
                  <a:pt x="2085" y="2195"/>
                  <a:pt x="2122" y="2127"/>
                  <a:pt x="2160" y="2064"/>
                </a:cubicBezTo>
                <a:cubicBezTo>
                  <a:pt x="2213" y="1977"/>
                  <a:pt x="2128" y="2092"/>
                  <a:pt x="2186" y="2016"/>
                </a:cubicBezTo>
                <a:cubicBezTo>
                  <a:pt x="2204" y="1934"/>
                  <a:pt x="2171" y="1824"/>
                  <a:pt x="2133" y="1749"/>
                </a:cubicBezTo>
                <a:cubicBezTo>
                  <a:pt x="2129" y="1712"/>
                  <a:pt x="2123" y="1679"/>
                  <a:pt x="2112" y="1643"/>
                </a:cubicBezTo>
                <a:cubicBezTo>
                  <a:pt x="2107" y="1628"/>
                  <a:pt x="2101" y="1614"/>
                  <a:pt x="2096" y="1600"/>
                </a:cubicBezTo>
                <a:cubicBezTo>
                  <a:pt x="2094" y="1595"/>
                  <a:pt x="2090" y="1584"/>
                  <a:pt x="2090" y="1584"/>
                </a:cubicBezTo>
                <a:cubicBezTo>
                  <a:pt x="2079" y="1527"/>
                  <a:pt x="2067" y="1455"/>
                  <a:pt x="2032" y="1408"/>
                </a:cubicBezTo>
                <a:cubicBezTo>
                  <a:pt x="2027" y="1381"/>
                  <a:pt x="2025" y="1366"/>
                  <a:pt x="2010" y="1344"/>
                </a:cubicBezTo>
                <a:cubicBezTo>
                  <a:pt x="2002" y="1317"/>
                  <a:pt x="1986" y="1289"/>
                  <a:pt x="1973" y="1264"/>
                </a:cubicBezTo>
                <a:cubicBezTo>
                  <a:pt x="1967" y="1218"/>
                  <a:pt x="1946" y="1135"/>
                  <a:pt x="1925" y="1093"/>
                </a:cubicBezTo>
                <a:cubicBezTo>
                  <a:pt x="1917" y="1060"/>
                  <a:pt x="1910" y="1029"/>
                  <a:pt x="1898" y="997"/>
                </a:cubicBezTo>
                <a:cubicBezTo>
                  <a:pt x="1894" y="970"/>
                  <a:pt x="1891" y="952"/>
                  <a:pt x="1882" y="928"/>
                </a:cubicBezTo>
                <a:cubicBezTo>
                  <a:pt x="1880" y="919"/>
                  <a:pt x="1880" y="910"/>
                  <a:pt x="1877" y="901"/>
                </a:cubicBezTo>
                <a:cubicBezTo>
                  <a:pt x="1874" y="892"/>
                  <a:pt x="1868" y="884"/>
                  <a:pt x="1866" y="875"/>
                </a:cubicBezTo>
                <a:cubicBezTo>
                  <a:pt x="1856" y="833"/>
                  <a:pt x="1854" y="777"/>
                  <a:pt x="1829" y="741"/>
                </a:cubicBezTo>
                <a:cubicBezTo>
                  <a:pt x="1823" y="715"/>
                  <a:pt x="1806" y="690"/>
                  <a:pt x="1792" y="667"/>
                </a:cubicBezTo>
                <a:cubicBezTo>
                  <a:pt x="1785" y="656"/>
                  <a:pt x="1770" y="635"/>
                  <a:pt x="1770" y="635"/>
                </a:cubicBezTo>
                <a:cubicBezTo>
                  <a:pt x="1765" y="611"/>
                  <a:pt x="1720" y="522"/>
                  <a:pt x="1706" y="501"/>
                </a:cubicBezTo>
                <a:cubicBezTo>
                  <a:pt x="1704" y="494"/>
                  <a:pt x="1704" y="486"/>
                  <a:pt x="1701" y="480"/>
                </a:cubicBezTo>
                <a:cubicBezTo>
                  <a:pt x="1695" y="469"/>
                  <a:pt x="1680" y="448"/>
                  <a:pt x="1680" y="448"/>
                </a:cubicBezTo>
                <a:cubicBezTo>
                  <a:pt x="1670" y="414"/>
                  <a:pt x="1651" y="372"/>
                  <a:pt x="1626" y="347"/>
                </a:cubicBezTo>
                <a:cubicBezTo>
                  <a:pt x="1619" y="325"/>
                  <a:pt x="1614" y="312"/>
                  <a:pt x="1594" y="299"/>
                </a:cubicBezTo>
                <a:cubicBezTo>
                  <a:pt x="1575" y="238"/>
                  <a:pt x="1482" y="155"/>
                  <a:pt x="1424" y="133"/>
                </a:cubicBezTo>
                <a:cubicBezTo>
                  <a:pt x="1374" y="135"/>
                  <a:pt x="1324" y="135"/>
                  <a:pt x="1274" y="139"/>
                </a:cubicBezTo>
                <a:cubicBezTo>
                  <a:pt x="1202" y="145"/>
                  <a:pt x="1255" y="146"/>
                  <a:pt x="1216" y="155"/>
                </a:cubicBezTo>
                <a:cubicBezTo>
                  <a:pt x="1130" y="175"/>
                  <a:pt x="1042" y="194"/>
                  <a:pt x="954" y="203"/>
                </a:cubicBezTo>
                <a:cubicBezTo>
                  <a:pt x="940" y="262"/>
                  <a:pt x="973" y="238"/>
                  <a:pt x="1013" y="229"/>
                </a:cubicBezTo>
                <a:cubicBezTo>
                  <a:pt x="1031" y="221"/>
                  <a:pt x="1069" y="219"/>
                  <a:pt x="1034" y="208"/>
                </a:cubicBezTo>
                <a:cubicBezTo>
                  <a:pt x="930" y="233"/>
                  <a:pt x="902" y="197"/>
                  <a:pt x="832" y="149"/>
                </a:cubicBezTo>
                <a:cubicBezTo>
                  <a:pt x="794" y="94"/>
                  <a:pt x="853" y="174"/>
                  <a:pt x="800" y="123"/>
                </a:cubicBezTo>
                <a:cubicBezTo>
                  <a:pt x="796" y="119"/>
                  <a:pt x="798" y="111"/>
                  <a:pt x="794" y="107"/>
                </a:cubicBezTo>
                <a:cubicBezTo>
                  <a:pt x="786" y="99"/>
                  <a:pt x="705" y="77"/>
                  <a:pt x="693" y="75"/>
                </a:cubicBezTo>
                <a:cubicBezTo>
                  <a:pt x="581" y="33"/>
                  <a:pt x="540" y="62"/>
                  <a:pt x="357" y="59"/>
                </a:cubicBezTo>
                <a:cubicBezTo>
                  <a:pt x="301" y="38"/>
                  <a:pt x="246" y="14"/>
                  <a:pt x="186" y="0"/>
                </a:cubicBezTo>
                <a:cubicBezTo>
                  <a:pt x="153" y="4"/>
                  <a:pt x="132" y="11"/>
                  <a:pt x="101" y="21"/>
                </a:cubicBezTo>
                <a:cubicBezTo>
                  <a:pt x="85" y="26"/>
                  <a:pt x="53" y="37"/>
                  <a:pt x="53" y="37"/>
                </a:cubicBezTo>
                <a:cubicBezTo>
                  <a:pt x="42" y="44"/>
                  <a:pt x="32" y="52"/>
                  <a:pt x="21" y="59"/>
                </a:cubicBezTo>
                <a:cubicBezTo>
                  <a:pt x="10" y="66"/>
                  <a:pt x="21" y="85"/>
                  <a:pt x="0" y="96"/>
                </a:cubicBezTo>
                <a:close/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4" action="ppaction://hlinksldjump"/>
          </p:cNvPr>
          <p:cNvSpPr/>
          <p:nvPr/>
        </p:nvSpPr>
        <p:spPr>
          <a:xfrm>
            <a:off x="2209680" y="2971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5" action="ppaction://hlinksldjump"/>
          </p:cNvPr>
          <p:cNvSpPr/>
          <p:nvPr/>
        </p:nvSpPr>
        <p:spPr>
          <a:xfrm>
            <a:off x="6858000" y="594360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5943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i de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pe s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ge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6" action="ppaction://hlinksldjump"/>
          </p:cNvPr>
          <p:cNvSpPr/>
          <p:nvPr/>
        </p:nvSpPr>
        <p:spPr>
          <a:xfrm>
            <a:off x="4952880" y="2133720"/>
            <a:ext cx="486000" cy="671400"/>
          </a:xfrm>
          <a:prstGeom prst="upArrow">
            <a:avLst>
              <a:gd name="adj1" fmla="val 50000"/>
              <a:gd name="adj2" fmla="val 34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7" action="ppaction://hlinksldjump"/>
          </p:cNvPr>
          <p:cNvSpPr/>
          <p:nvPr/>
        </p:nvSpPr>
        <p:spPr>
          <a:xfrm>
            <a:off x="4038480" y="3733920"/>
            <a:ext cx="486000" cy="533160"/>
          </a:xfrm>
          <a:prstGeom prst="upArrow">
            <a:avLst>
              <a:gd name="adj1" fmla="val 50000"/>
              <a:gd name="adj2" fmla="val 27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2057400" y="2743200"/>
            <a:ext cx="485640" cy="671400"/>
          </a:xfrm>
          <a:prstGeom prst="up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0:43:05Z</dcterms:created>
  <dc:creator>miro</dc:creator>
  <dc:description/>
  <dc:language>en-US</dc:language>
  <cp:lastModifiedBy>miro</cp:lastModifiedBy>
  <dcterms:modified xsi:type="dcterms:W3CDTF">2010-01-27T21:37:35Z</dcterms:modified>
  <cp:revision>41</cp:revision>
  <dc:subject/>
  <dc:title>Slide 1</dc:title>
</cp:coreProperties>
</file>